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DE1-FDDD-4335-9A56-50106FF1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3D4-8F01-48B0-9E71-3D1F6319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4F6-72AD-4A72-9249-09A08577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343-2A2B-4582-A73A-52E152F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5C4-2A7D-42A1-BBE0-49E000C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2F3-314B-45DB-9150-8A19FAE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FAC-3064-42AF-802B-32DE80F2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B02-1D40-4F38-934B-19CA372D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FF4-33FA-413F-8F04-3E23148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E2B-A011-4D53-9898-F281F11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AF4-018E-4F0B-A7FA-F6A598E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395-FCB2-4754-98F9-03FCE62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3EA8E2-E381-4EC3-8248-850F74B96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Wide Latin"/>
              </a:rPr>
              <a:t>БЕРЛИНСКАЯ СТЕ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Wide Latin"/>
              </a:rPr>
              <a:t>Разгром Берлинской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Празднование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15-летия падения Ст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Фрагмент Стены с графф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975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EAST- SIDE GALLERY –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Wide Latin"/>
              </a:rPr>
              <a:t>участок в 10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327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Wide Latin"/>
              </a:rPr>
              <a:t>На </a:t>
            </a: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Niederkirchenstr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2000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Wide Latin"/>
              </a:rPr>
              <a:t>Invalidenfried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Мемориал Берлинской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амятная табличка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на мест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9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амятная табличка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на мест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0264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АСИБО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ЗА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Wide Latin"/>
              </a:rPr>
              <a:t>Контрольно-пропускной </a:t>
            </a:r>
            <a:r>
              <a:rPr b="1" lang="ru-RU" sz="4000" spc="-1" strike="noStrike">
                <a:solidFill>
                  <a:srgbClr val="ff3300"/>
                </a:solidFill>
                <a:latin typeface="Wide Latin"/>
              </a:rPr>
              <a:t>пун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Берлин 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Западная и Восточная части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676520"/>
            <a:ext cx="612144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Разделение колючей провол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Возведени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63272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Общение с родствен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1457280"/>
            <a:ext cx="516744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ривет в Восточный Бер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Карта Бер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19640" cy="48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Брандербургские ворота перекрыты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07:51Z</dcterms:created>
  <dc:creator>NINEL</dc:creator>
  <dc:description/>
  <dc:language>en-US</dc:language>
  <cp:lastModifiedBy>Галина Митрофановна</cp:lastModifiedBy>
  <dcterms:modified xsi:type="dcterms:W3CDTF">2016-09-28T16:32:13Z</dcterms:modified>
  <cp:revision>4</cp:revision>
  <dc:subject/>
  <dc:title>БЕРЛИНСКАЯ СТЕНА</dc:title>
</cp:coreProperties>
</file>