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75C-A71A-41B8-AE14-DAAA9862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336-B6D1-42E1-93C5-F890EC4F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BE5-4EEA-4157-AF3F-4741126E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3E1-C344-421A-AE78-5E9857E3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401-E3A7-467C-AE5D-E04EBF2B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D96-AECC-4F65-A91F-F526E2E0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14C-637F-4D20-8D11-E44BE72C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36B-E0B2-40C2-8FEC-39D71798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AD5-78EC-4BC4-8743-50BA609B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A1A-4708-4C91-BD83-AA2DD3BE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701-5C92-4EB1-B398-557918D2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E50-F7D4-4187-A2D4-C74DE7F5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3313FE-C5B1-459B-A3F2-F1A1A6C99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Wide Latin"/>
              </a:rPr>
              <a:t>БЕРЛИНСКАЯ СТЕ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Wide Latin"/>
              </a:rPr>
              <a:t>Разгром Берлинской Ст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Wide Latin"/>
              </a:rPr>
              <a:t>Празднование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Wide Latin"/>
              </a:rPr>
              <a:t>15-летия падения Ст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13600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Фрагмент Стены с графф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9756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de Latin"/>
              </a:rPr>
              <a:t>EAST- SIDE GALLERY –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Wide Lati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Wide Latin"/>
              </a:rPr>
              <a:t>участок в 10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3272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Wide Latin"/>
              </a:rPr>
              <a:t>На </a:t>
            </a:r>
            <a:r>
              <a:rPr b="1" lang="en-US" sz="2800" spc="-1" strike="noStrike">
                <a:solidFill>
                  <a:srgbClr val="ff3300"/>
                </a:solidFill>
                <a:latin typeface="Wide Latin"/>
              </a:rPr>
              <a:t>Niederkirchenstr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920000" cy="49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Wide Latin"/>
              </a:rPr>
              <a:t>Invalidenfriedh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Мемориал Берлинской Ст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Памятная табличка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на месте Ст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9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Памятная табличка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на месте Ст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02640" cy="51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СПАСИБО</a:t>
            </a:r>
            <a:br>
              <a:rPr sz="6000"/>
            </a:b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ЗА</a:t>
            </a:r>
            <a:br>
              <a:rPr sz="6000"/>
            </a:b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Wide Latin"/>
              </a:rPr>
              <a:t>Контрольно-пропускной </a:t>
            </a:r>
            <a:r>
              <a:rPr b="1" lang="ru-RU" sz="4000" spc="-1" strike="noStrike">
                <a:solidFill>
                  <a:srgbClr val="ff3300"/>
                </a:solidFill>
                <a:latin typeface="Wide Latin"/>
              </a:rPr>
              <a:t>пун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412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Берлин 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Западная и Восточная части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676520"/>
            <a:ext cx="612144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Разделение колючей провол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51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Возведение Ст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632720" cy="50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Общение с родственни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3640" y="1457280"/>
            <a:ext cx="516744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Привет в Восточный Бер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3606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Wide Latin"/>
              </a:rPr>
              <a:t>Карта Бер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19640" cy="48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b3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Wide Latin"/>
              </a:rPr>
              <a:t>Брандербургские ворота перекрыты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2:07:51Z</dcterms:created>
  <dc:creator>NINEL</dc:creator>
  <dc:description/>
  <dc:language>en-US</dc:language>
  <cp:lastModifiedBy>Галина Митрофановна</cp:lastModifiedBy>
  <dcterms:modified xsi:type="dcterms:W3CDTF">2016-09-28T16:32:13Z</dcterms:modified>
  <cp:revision>4</cp:revision>
  <dc:subject/>
  <dc:title>БЕРЛИНСКАЯ СТЕНА</dc:title>
</cp:coreProperties>
</file>