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EE3-0C28-42D7-801D-EF883A91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B0C-D96F-4920-A25B-C52D634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C9A-2F3E-4347-AC56-55C5E4D7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328-FDFE-4322-BD4D-7D158896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98F-2E3C-4CDF-89D4-03D45E3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088-83EA-49BC-A89C-B199FA3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3F5-26F8-4EF8-99D7-074BB65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88B-6545-49E1-8266-98DF10D8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1EE-6079-49FE-9731-E5230AFC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ACF-9564-41FC-86C5-87162222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577-913D-48FE-84BB-BB2E875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769-47EF-41AC-B85D-FDD63F1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533-832B-497B-B578-3570EEEE9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028880" y="660240"/>
            <a:ext cx="1054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средственно образовательная деятель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Формированию целостной картины мира в области Познавательного развит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одготовительной к школе группе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осмическое путешествие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048120" y="374796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Автор: воспита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МАДОУ «Центр развития ребенка – детский сад №41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г. Каза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Федулова Людмила Анато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rcRect l="0" t="-652" r="-456" b="0"/>
          <a:stretch/>
        </p:blipFill>
        <p:spPr>
          <a:xfrm>
            <a:off x="0" y="-100080"/>
            <a:ext cx="12314160" cy="6958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1785960" y="5213520"/>
            <a:ext cx="874224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o-planete.ru/wp-content/uploads/2012/11/%D0%BA%D0%B0%D0%BA-%D0%BF%D1%80%D0%B5%D0%B4%D1%81%D1%82%D0%B0%D0%B2%D0%BB%D1%8F%D0%BB-%D0%97%D0%B5%D0%BC%D0%BB%D1%8E-%D0%A4%D0%B0%D0%BB%D0%B5%D1%81-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1974960" y="5473800"/>
            <a:ext cx="824220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rcRect l="394" t="4442" r="0" b="3663"/>
          <a:stretch/>
        </p:blipFill>
        <p:spPr>
          <a:xfrm>
            <a:off x="20520" y="0"/>
            <a:ext cx="12171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65040" y="146160"/>
            <a:ext cx="1077912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4541760" y="5688000"/>
            <a:ext cx="288936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0" r="-397" b="12795"/>
          <a:stretch/>
        </p:blipFill>
        <p:spPr>
          <a:xfrm>
            <a:off x="-27000" y="-23760"/>
            <a:ext cx="12315960" cy="6881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7795800" y="216000"/>
            <a:ext cx="43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Млечный пу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19:28:15Z</dcterms:created>
  <dc:creator>valery</dc:creator>
  <dc:description/>
  <dc:language>en-US</dc:language>
  <cp:lastModifiedBy>valery</cp:lastModifiedBy>
  <dcterms:modified xsi:type="dcterms:W3CDTF">2016-09-27T22:02:11Z</dcterms:modified>
  <cp:revision>4</cp:revision>
  <dc:subject/>
  <dc:title>Презентация PowerPoint</dc:title>
</cp:coreProperties>
</file>