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ACF-C8C3-460D-837D-CAF6672A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14D-C984-4FDA-89BA-F5ABB57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CE7-6061-4DCB-8462-1908191C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882-CE34-40A3-9A58-A8632611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066-A372-4B1A-B6E4-F05032E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D42-AD8C-481E-BD8C-0C6B543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208-E881-43DE-9AB3-7D610803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B5B-A82D-4638-B03F-A2F13BB1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D44-CF24-4906-99C6-4F58B88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208-F825-42A5-B38E-72523F7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481-8D25-410D-A029-B972B93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D23-DEFC-4282-AE20-CE64BC0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D447-06EA-45F1-8F7D-222D1E627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028880" y="660240"/>
            <a:ext cx="1054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средственно образовательная деятель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Формированию целостной картины мира в области Познавательного развит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одготовительной к школе группе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осмическое путешествие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048120" y="374796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Автор: воспита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МАДОУ «Центр развития ребенка – детский сад №41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г. Каза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Федулова Людмила Анатол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rcRect l="0" t="-652" r="-456" b="0"/>
          <a:stretch/>
        </p:blipFill>
        <p:spPr>
          <a:xfrm>
            <a:off x="0" y="-100080"/>
            <a:ext cx="12314160" cy="6958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1785960" y="5213520"/>
            <a:ext cx="874224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o-planete.ru/wp-content/uploads/2012/11/%D0%BA%D0%B0%D0%BA-%D0%BF%D1%80%D0%B5%D0%B4%D1%81%D1%82%D0%B0%D0%B2%D0%BB%D1%8F%D0%BB-%D0%97%D0%B5%D0%BC%D0%BB%D1%8E-%D0%A4%D0%B0%D0%BB%D0%B5%D1%81-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1974960" y="5473800"/>
            <a:ext cx="824220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rcRect l="394" t="4442" r="0" b="3663"/>
          <a:stretch/>
        </p:blipFill>
        <p:spPr>
          <a:xfrm>
            <a:off x="20520" y="0"/>
            <a:ext cx="12171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65040" y="146160"/>
            <a:ext cx="1077912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4541760" y="5688000"/>
            <a:ext cx="288936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0" r="-397" b="12795"/>
          <a:stretch/>
        </p:blipFill>
        <p:spPr>
          <a:xfrm>
            <a:off x="-27000" y="-23760"/>
            <a:ext cx="12315960" cy="6881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7795800" y="216000"/>
            <a:ext cx="43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  <a:ea typeface="Arial"/>
              </a:rPr>
              <a:t>Млечный пу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19:28:15Z</dcterms:created>
  <dc:creator>valery</dc:creator>
  <dc:description/>
  <dc:language>en-US</dc:language>
  <cp:lastModifiedBy>valery</cp:lastModifiedBy>
  <dcterms:modified xsi:type="dcterms:W3CDTF">2016-09-27T22:02:11Z</dcterms:modified>
  <cp:revision>4</cp:revision>
  <dc:subject/>
  <dc:title>Презентация PowerPoint</dc:title>
</cp:coreProperties>
</file>