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D3E7-57A7-4186-91EF-257533105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173A-33E6-4983-8B5E-F289D1E8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ABC8-5E4C-4C34-B51B-D2D20D817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6255-0342-42C3-B278-5ACDECA15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2CB4-C074-4EDE-8172-D39FC259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CDF9-0C53-47DA-96D2-93959B22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363E-7EBB-4732-BC42-12437E95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9E63-3DB0-4898-9631-F83D827C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A0FD-1D0C-42B9-AEF6-68E9B942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0AA3-E830-4879-B80A-C0EB95C0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AEC4-DB24-490C-82BC-69272B00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18E0-A7CF-49CF-990B-0583D553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1765-0348-48C1-A8C5-1CD4492E97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Картинки по запросу старт космического корабля с байконура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4" descr="2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"/>
          <p:cNvPicPr/>
          <p:nvPr/>
        </p:nvPicPr>
        <p:blipFill>
          <a:blip r:embed="rId2"/>
          <a:stretch/>
        </p:blipFill>
        <p:spPr>
          <a:xfrm rot="1055400">
            <a:off x="9488160" y="4108320"/>
            <a:ext cx="2840040" cy="2517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88 0.11921 L -0.26771 0.07824 C -0.31493 0.07176 -0.37812 0.0412 -0.43889 -0.00093 C -0.50798 -0.05186 -0.55816 -0.1044 -0.58837 -0.15232 L -0.73507 -0.38056 E">
                                      <p:cBhvr>
                                        <p:cTn id="6" dur="5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solnca-net.com/wp-content/uploads/2015/08/solnechnaya-sistema.jpg"/>
          <p:cNvPicPr/>
          <p:nvPr/>
        </p:nvPicPr>
        <p:blipFill>
          <a:blip r:embed="rId1"/>
          <a:stretch/>
        </p:blipFill>
        <p:spPr>
          <a:xfrm>
            <a:off x="0" y="3240"/>
            <a:ext cx="12192120" cy="702936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4" descr=""/>
          <p:cNvPicPr/>
          <p:nvPr/>
        </p:nvPicPr>
        <p:blipFill>
          <a:blip r:embed="rId2"/>
          <a:stretch/>
        </p:blipFill>
        <p:spPr>
          <a:xfrm>
            <a:off x="3859200" y="365040"/>
            <a:ext cx="5010120" cy="768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3" descr="157a14237415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3144960" y="1743120"/>
            <a:ext cx="5389560" cy="63468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5"/>
          <p:cNvSpPr/>
          <p:nvPr/>
        </p:nvSpPr>
        <p:spPr>
          <a:xfrm>
            <a:off x="2691000" y="504720"/>
            <a:ext cx="6810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c800"/>
                </a:solidFill>
                <a:latin typeface="Corbel"/>
              </a:rPr>
              <a:t>Меркурий – 1 планета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vsya-vselenn-ru.1gb.ru/imag_index/ven3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7T20:36:03Z</dcterms:created>
  <dc:creator>valery</dc:creator>
  <dc:description/>
  <dc:language>en-US</dc:language>
  <cp:lastModifiedBy>valery</cp:lastModifiedBy>
  <dcterms:modified xsi:type="dcterms:W3CDTF">2016-09-27T22:07:39Z</dcterms:modified>
  <cp:revision>15</cp:revision>
  <dc:subject/>
  <dc:title>Презентация PowerPoint</dc:title>
</cp:coreProperties>
</file>