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6ECB-1B50-46CD-83BD-E7F40A58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C943-7906-481D-B979-4E4E8159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67D-10BB-4BAB-B4F5-AD0BDCCB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9995-9CD1-4EFE-B4DD-F2667450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1EF-1183-4BC5-98E5-1C1B6F06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508-FB42-460F-A981-410A43C6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122-94DC-4533-8804-D6EE1FF5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7C0-78F8-40B6-8B5A-424CF9D4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8E4-BD75-494A-AC3D-DC24454B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93F-6CE3-45C2-9A29-D9818F4D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D05B-DFB4-4C17-AF68-E5A44076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C8C-5CED-49D0-BA72-E27949BE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6848-649C-4049-86F1-9F8453F345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Картинки по запросу старт космического корабля с байконура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4" descr="2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"/>
          <p:cNvPicPr/>
          <p:nvPr/>
        </p:nvPicPr>
        <p:blipFill>
          <a:blip r:embed="rId2"/>
          <a:stretch/>
        </p:blipFill>
        <p:spPr>
          <a:xfrm rot="1055400">
            <a:off x="9488160" y="4108320"/>
            <a:ext cx="2840040" cy="251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88 0.11921 L -0.26771 0.07824 C -0.31493 0.07176 -0.37812 0.0412 -0.43889 -0.00093 C -0.50798 -0.05186 -0.55816 -0.1044 -0.58837 -0.15232 L -0.73507 -0.38056 E">
                                      <p:cBhvr>
                                        <p:cTn id="6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olnca-net.com/wp-content/uploads/2015/08/solnechnaya-sistema.jpg"/>
          <p:cNvPicPr/>
          <p:nvPr/>
        </p:nvPicPr>
        <p:blipFill>
          <a:blip r:embed="rId1"/>
          <a:stretch/>
        </p:blipFill>
        <p:spPr>
          <a:xfrm>
            <a:off x="0" y="3240"/>
            <a:ext cx="12192120" cy="70293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" descr=""/>
          <p:cNvPicPr/>
          <p:nvPr/>
        </p:nvPicPr>
        <p:blipFill>
          <a:blip r:embed="rId2"/>
          <a:stretch/>
        </p:blipFill>
        <p:spPr>
          <a:xfrm>
            <a:off x="3859200" y="365040"/>
            <a:ext cx="5010120" cy="768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157a1423741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3144960" y="1743120"/>
            <a:ext cx="5389560" cy="63468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2691000" y="504720"/>
            <a:ext cx="6810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c800"/>
                </a:solidFill>
                <a:latin typeface="Corbel"/>
              </a:rPr>
              <a:t>Меркурий – 1 планет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vsya-vselenn-ru.1gb.ru/imag_index/ven3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7T20:36:03Z</dcterms:created>
  <dc:creator>valery</dc:creator>
  <dc:description/>
  <dc:language>en-US</dc:language>
  <cp:lastModifiedBy>valery</cp:lastModifiedBy>
  <dcterms:modified xsi:type="dcterms:W3CDTF">2016-09-27T22:07:39Z</dcterms:modified>
  <cp:revision>15</cp:revision>
  <dc:subject/>
  <dc:title>Презентация PowerPoint</dc:title>
</cp:coreProperties>
</file>