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9924-6B3A-4C34-BB95-9E2F7BAC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C32C-DF0D-4944-9998-0872A31D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B14-D471-4876-B9B2-3D42830D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6956-FF8D-4C4B-AB39-EEDE1F5B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8DA9-1ACD-498B-BCD4-C34B354C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8C0-1541-453F-A917-822CC83A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4863-9A9E-41D8-8A6B-5F523979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2875-6EFA-4412-911B-CE528F19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8D29-5083-44AD-BB0E-32AAE57E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FDC3-C23E-42E0-AAFF-DBB7A68D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4B0D-3E07-4D48-A076-156D5690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3E7-FD4E-456D-B5FF-F1486C41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C673-53CF-41D0-AE00-62B0C7157F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57a1423741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486240" y="1908000"/>
            <a:ext cx="5219640" cy="46450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3301920" y="171360"/>
            <a:ext cx="5587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c800"/>
                </a:solidFill>
                <a:latin typeface="Corbel"/>
              </a:rPr>
              <a:t>Плутон  9 планет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help-74.ru/uploads/rss/2015-06/0625vzvUhMz7AUg-650x366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-22320"/>
            <a:ext cx="12192120" cy="6880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6" name="Прямоугольник 4"/>
          <p:cNvSpPr/>
          <p:nvPr/>
        </p:nvSpPr>
        <p:spPr>
          <a:xfrm>
            <a:off x="323640" y="5727600"/>
            <a:ext cx="2401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b0f0"/>
                </a:solidFill>
                <a:latin typeface="Corbel"/>
              </a:rPr>
              <a:t>Комет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882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115920" y="228600"/>
            <a:ext cx="3640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c800"/>
                </a:solidFill>
                <a:latin typeface="Corbel"/>
              </a:rPr>
              <a:t>Метеориты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Картинки по запросу астероидный пояс"/>
          <p:cNvPicPr/>
          <p:nvPr/>
        </p:nvPicPr>
        <p:blipFill>
          <a:blip r:embed="rId2"/>
          <a:stretch/>
        </p:blipFill>
        <p:spPr>
          <a:xfrm>
            <a:off x="0" y="-244440"/>
            <a:ext cx="12192120" cy="71024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6795360" y="5732640"/>
            <a:ext cx="5813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b0f0"/>
                </a:solidFill>
                <a:latin typeface="Corbel"/>
              </a:rPr>
              <a:t>Астероидный пояс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Вырезка экрана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"/>
          <p:cNvPicPr/>
          <p:nvPr/>
        </p:nvPicPr>
        <p:blipFill>
          <a:blip r:embed="rId3"/>
          <a:stretch/>
        </p:blipFill>
        <p:spPr>
          <a:xfrm rot="1055400">
            <a:off x="9456480" y="4371840"/>
            <a:ext cx="2840040" cy="2517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74 0.08403 L -0.2474 0.04306 C -0.29462 0.03704 -0.35781 0.00602 -0.41858 -0.03565 C -0.4875 -0.08657 -0.53785 -0.13935 -0.56788 -0.18727 L -0.71458 -0.41528 E">
                                      <p:cBhvr>
                                        <p:cTn id="22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71136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5" descr=""/>
          <p:cNvPicPr/>
          <p:nvPr/>
        </p:nvPicPr>
        <p:blipFill>
          <a:blip r:embed="rId3"/>
          <a:stretch/>
        </p:blipFill>
        <p:spPr>
          <a:xfrm>
            <a:off x="4054320" y="274680"/>
            <a:ext cx="4937400" cy="3681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7T21:49:11Z</dcterms:created>
  <dc:creator>valery</dc:creator>
  <dc:description/>
  <dc:language>en-US</dc:language>
  <cp:lastModifiedBy>valery</cp:lastModifiedBy>
  <dcterms:modified xsi:type="dcterms:W3CDTF">2016-09-27T22:10:48Z</dcterms:modified>
  <cp:revision>8</cp:revision>
  <dc:subject/>
  <dc:title>Презентация PowerPoint</dc:title>
</cp:coreProperties>
</file>