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5B1-4E69-4B1F-8BE9-3BEC56D6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41F-B880-471A-824A-2BD031C3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5ED-D967-4FEC-80D0-0745051B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34E-2F56-4883-9C6A-F407345A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C81-6DC0-48F6-9016-46CA32BD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0A1-24F7-4E90-813E-D2ECAA86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EB7-EB4A-4CE4-B28B-751FBF26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3DF-4116-4738-92CB-10FBF3A0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CAE-1654-4AF9-9B89-4F39320A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29D-4A51-49C6-B3A6-8EE4A2D5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DCE-A31D-47BD-8660-D8CD368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EFC-C934-4B5E-AFC9-986FF93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400C-6563-4E92-84C4-C30B59A05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486240" y="1908000"/>
            <a:ext cx="5219640" cy="4645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301920" y="171360"/>
            <a:ext cx="5587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Плутон  9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help-74.ru/uploads/rss/2015-06/0625vzvUhMz7AUg-650x36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-22320"/>
            <a:ext cx="12192120" cy="688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6" name="Прямоугольник 4"/>
          <p:cNvSpPr/>
          <p:nvPr/>
        </p:nvSpPr>
        <p:spPr>
          <a:xfrm>
            <a:off x="323640" y="5727600"/>
            <a:ext cx="2401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b0f0"/>
                </a:solidFill>
                <a:latin typeface="Corbel"/>
              </a:rPr>
              <a:t>Ком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882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115920" y="228600"/>
            <a:ext cx="3640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Метеориты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Картинки по запросу астероидный пояс"/>
          <p:cNvPicPr/>
          <p:nvPr/>
        </p:nvPicPr>
        <p:blipFill>
          <a:blip r:embed="rId2"/>
          <a:stretch/>
        </p:blipFill>
        <p:spPr>
          <a:xfrm>
            <a:off x="0" y="-244440"/>
            <a:ext cx="12192120" cy="7102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6795360" y="5732640"/>
            <a:ext cx="5813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b0f0"/>
                </a:solidFill>
                <a:latin typeface="Corbel"/>
              </a:rPr>
              <a:t>Астероидный пояс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Вырезка экрана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 rot="1055400">
            <a:off x="9456480" y="4371840"/>
            <a:ext cx="284004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74 0.08403 L -0.2474 0.04306 C -0.29462 0.03704 -0.35781 0.00602 -0.41858 -0.03565 C -0.4875 -0.08657 -0.53785 -0.13935 -0.56788 -0.18727 L -0.71458 -0.41528 E">
                                      <p:cBhvr>
                                        <p:cTn id="2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71136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5" descr=""/>
          <p:cNvPicPr/>
          <p:nvPr/>
        </p:nvPicPr>
        <p:blipFill>
          <a:blip r:embed="rId3"/>
          <a:stretch/>
        </p:blipFill>
        <p:spPr>
          <a:xfrm>
            <a:off x="4054320" y="274680"/>
            <a:ext cx="4937400" cy="3681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1:49:11Z</dcterms:created>
  <dc:creator>valery</dc:creator>
  <dc:description/>
  <dc:language>en-US</dc:language>
  <cp:lastModifiedBy>valery</cp:lastModifiedBy>
  <dcterms:modified xsi:type="dcterms:W3CDTF">2016-09-27T22:10:48Z</dcterms:modified>
  <cp:revision>8</cp:revision>
  <dc:subject/>
  <dc:title>Презентация PowerPoint</dc:title>
</cp:coreProperties>
</file>