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C90B-5DF4-4B1A-A8F2-5E74417EE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B561-04EB-4F58-9C3B-984EBDFB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1CB2-8C1D-4948-A872-899C08889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25EE-A880-4BB5-B9BC-D1EDB2481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F3B6-800F-49AF-A97C-F3A16AA6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A965-2CEF-4CDF-9754-F20C0A65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03F2-22D0-4ECF-B280-1D30C40F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5854-B426-4826-BC31-F58703E0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BA0E-5E99-4887-9681-334B9AE9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262A-A485-4C6B-83E2-0FD8460D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D727-FAA1-42E5-89EF-5C5F04E4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E8BF-F284-4A1B-93EA-3B278ACA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7C60-9223-430D-BF42-EFBC4D8630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157a14237415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3144960" y="1663560"/>
            <a:ext cx="5529240" cy="651060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5"/>
          <p:cNvSpPr/>
          <p:nvPr/>
        </p:nvSpPr>
        <p:spPr>
          <a:xfrm>
            <a:off x="3168720" y="71280"/>
            <a:ext cx="5854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c800"/>
                </a:solidFill>
                <a:latin typeface="Corbel"/>
              </a:rPr>
              <a:t>Венера – 2 планета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www.cybersecurity.ru.opt-images.1c-bitrix-cdn.ru/upload/iblock/dc5/dc5f73fe379c8b461b20df4d369298ce.jpg?134037409122211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157a14237415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3981600" y="1762200"/>
            <a:ext cx="3747960" cy="525456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5"/>
          <p:cNvSpPr/>
          <p:nvPr/>
        </p:nvSpPr>
        <p:spPr>
          <a:xfrm>
            <a:off x="3051720" y="431640"/>
            <a:ext cx="5607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c800"/>
                </a:solidFill>
                <a:latin typeface="Corbel"/>
              </a:rPr>
              <a:t>Земля – 3 планета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Картинки по запросу планета земля картинки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7T21:06:46Z</dcterms:created>
  <dc:creator>valery</dc:creator>
  <dc:description/>
  <dc:language>en-US</dc:language>
  <cp:lastModifiedBy>valery</cp:lastModifiedBy>
  <dcterms:modified xsi:type="dcterms:W3CDTF">2016-09-27T21:59:00Z</dcterms:modified>
  <cp:revision>3</cp:revision>
  <dc:subject/>
  <dc:title>Презентация PowerPoint</dc:title>
</cp:coreProperties>
</file>