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6CC-D3E4-4CEB-B51A-701702CD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624-1FDF-4669-B66E-EA4A197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D76-25C4-4A55-91C1-E0CB9AFF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072-F99B-4A13-8DF2-2AA16FE0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4E5-D525-4BCF-BA5F-EF0DACE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2F1-F04D-45BD-9B7F-D3FC8F0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754-38F6-4ED5-8128-E602FA48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FDD-B894-409D-9181-44F6FBCC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3BE-DDC5-48FD-952A-694AFDF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CE-8D30-4B35-A049-BDA89909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8D2-E4E1-4965-B094-8335568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A92-F74F-4C7D-B891-F9E07ED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B168-D2BB-407E-9609-DBA9905F5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144960" y="1663560"/>
            <a:ext cx="5529240" cy="65106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68720" y="71280"/>
            <a:ext cx="5854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Венера – 2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cybersecurity.ru.opt-images.1c-bitrix-cdn.ru/upload/iblock/dc5/dc5f73fe379c8b461b20df4d369298ce.jpg?13403740912221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981600" y="1762200"/>
            <a:ext cx="3747960" cy="5254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051720" y="431640"/>
            <a:ext cx="560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Земля – 3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артинки по запросу планета земля картинк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06:46Z</dcterms:created>
  <dc:creator>valery</dc:creator>
  <dc:description/>
  <dc:language>en-US</dc:language>
  <cp:lastModifiedBy>valery</cp:lastModifiedBy>
  <dcterms:modified xsi:type="dcterms:W3CDTF">2016-09-27T21:59:00Z</dcterms:modified>
  <cp:revision>3</cp:revision>
  <dc:subject/>
  <dc:title>Презентация PowerPoint</dc:title>
</cp:coreProperties>
</file>