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1A0-D4D6-435F-81D7-05D145ED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A5C-1F68-41D1-9A4D-876050B6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B21-CFED-434C-B8B6-E45E60CB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2BB-AC97-43AB-B776-9704F36A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AE8-9374-49F5-8060-938FB2B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45E-8818-47DA-83E9-EF280605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D47-80B8-4A4A-A833-D17A56C8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067-1648-4113-B5F8-5DFB0E58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3BE-6D29-4E12-B0A6-6731BFC6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FEC-B417-4474-A76A-951ABF8F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06F-45A9-423C-96AE-8E38B36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7DB-436E-41FD-AC5C-A34B2169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B7B2-6C23-4A75-A647-70780AEDE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Инна\Pictures\Новая папка\Рисунок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5742000"/>
            <a:ext cx="5346720" cy="70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expert_584_096"/>
          <p:cNvPicPr/>
          <p:nvPr/>
        </p:nvPicPr>
        <p:blipFill>
          <a:blip r:embed="rId1"/>
          <a:stretch/>
        </p:blipFill>
        <p:spPr>
          <a:xfrm>
            <a:off x="15840" y="0"/>
            <a:ext cx="12176280" cy="68580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297240" y="1468440"/>
            <a:ext cx="5035680" cy="6602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3259080" y="177840"/>
            <a:ext cx="511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Марс   </a:t>
            </a: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4</a:t>
            </a: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dariknews.bg/uploads/news_images/201106/photo_verybig_73974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809880" y="1901880"/>
            <a:ext cx="3956040" cy="52480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944440" y="281160"/>
            <a:ext cx="5683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Юпитер </a:t>
            </a: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5</a:t>
            </a: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и по запросу юпитер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13:00Z</dcterms:created>
  <dc:creator>valery</dc:creator>
  <dc:description/>
  <dc:language>en-US</dc:language>
  <cp:lastModifiedBy>valery</cp:lastModifiedBy>
  <dcterms:modified xsi:type="dcterms:W3CDTF">2016-09-27T21:59:32Z</dcterms:modified>
  <cp:revision>5</cp:revision>
  <dc:subject/>
  <dc:title>Презентация PowerPoint</dc:title>
</cp:coreProperties>
</file>