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04F-07D0-4AE4-B639-7FCA9A22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707-66E7-4140-A038-4446C0E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9BE-A412-44B1-8497-F502830F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C63-E169-46A9-A760-734B58CE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77F-2EFE-4E6C-82A3-2633FE9E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744-BD02-4A53-9846-F5FA24A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649-8A22-4252-B557-FF72A3D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583-295A-4AD9-94BC-1BB1DEAD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EF8-BC78-4522-8D3C-A4FFAE41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005-CCD0-485C-9228-296DAB6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90C-B817-4CBF-9A97-3A0F68A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1FF-3AE7-40E2-BC8B-B754953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595-0ACF-491E-8B44-FF291EB9A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сатур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3224160" y="262080"/>
            <a:ext cx="548640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сатур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505400" y="2139840"/>
            <a:ext cx="3181320" cy="2578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544560" y="0"/>
            <a:ext cx="488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Уран  7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и по запросу ура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46560" y="20541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837160" y="241200"/>
            <a:ext cx="558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Нептун  8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и по запросу ура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25:44Z</dcterms:created>
  <dc:creator>valery</dc:creator>
  <dc:description/>
  <dc:language>en-US</dc:language>
  <cp:lastModifiedBy>valery</cp:lastModifiedBy>
  <dcterms:modified xsi:type="dcterms:W3CDTF">2016-09-27T22:00:04Z</dcterms:modified>
  <cp:revision>13</cp:revision>
  <dc:subject/>
  <dc:title>Презентация PowerPoint</dc:title>
</cp:coreProperties>
</file>