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27B-9D11-4597-A24B-E1C2C28C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5F7-B82A-47B7-9FFC-E773BD59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6AB-95F4-49EE-818E-951E3017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684-7B52-40E4-9425-63797ECA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00C-05AA-413B-872B-CA110922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B47-EF2F-44D2-85A2-705E73AD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2A2-6609-4F7D-9CCC-1D37F07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6AE-F39F-4BF4-B30A-3D49D12F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C57-ABAC-402C-91CD-8505FAE1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2A9-D463-4E44-AFF1-5658050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0DF-5260-4DC0-93AD-4E216DB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4F1-C8C3-49D0-A859-C9E87E2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E7B0-DD22-4CE2-A136-5AC0DF037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Картинки по запросу сатур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3224160" y="262080"/>
            <a:ext cx="548640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Картинки по запросу сатур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4505400" y="2139840"/>
            <a:ext cx="3181320" cy="2578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3544560" y="0"/>
            <a:ext cx="4887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Уран  7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и по запросу ура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157a142374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46560" y="205416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837160" y="241200"/>
            <a:ext cx="558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800"/>
                </a:solidFill>
                <a:latin typeface="Corbel"/>
              </a:rPr>
              <a:t>Нептун  8 планет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тинки по запросу уран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7T21:25:44Z</dcterms:created>
  <dc:creator>valery</dc:creator>
  <dc:description/>
  <dc:language>en-US</dc:language>
  <cp:lastModifiedBy>valery</cp:lastModifiedBy>
  <dcterms:modified xsi:type="dcterms:W3CDTF">2016-09-27T22:00:04Z</dcterms:modified>
  <cp:revision>13</cp:revision>
  <dc:subject/>
  <dc:title>Презентация PowerPoint</dc:title>
</cp:coreProperties>
</file>