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png" ContentType="image/png"/>
  <Override PartName="/ppt/media/image16.jpeg" ContentType="image/jpeg"/>
  <Override PartName="/ppt/media/image7.gif" ContentType="image/gif"/>
  <Override PartName="/ppt/media/image15.png" ContentType="image/png"/>
  <Override PartName="/ppt/media/image6.gif" ContentType="image/gif"/>
  <Override PartName="/ppt/media/image11.gif" ContentType="image/gif"/>
  <Override PartName="/ppt/media/image14.gif" ContentType="image/gif"/>
  <Override PartName="/ppt/media/image9.gif" ContentType="image/gif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7EB7-F2C1-4C75-A0C2-276D7DC4CB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FBDE-075D-4E4D-9C31-3C75145171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685-ECFD-4DD8-946B-1FE34A80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A11-420C-4FBA-96C7-8D43960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451-395C-4903-B83E-6686A704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AEB-0761-4755-AD64-359FACDB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CD7B-206F-42FF-B660-66662853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2D7D-B32C-465F-BFCE-71495F52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E9ED-7D11-4990-B5D4-088886A7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BCAF-DBF4-4336-8EFA-1955E556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B7E5-0845-4A73-B65D-0AC36EFE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DCCA-35C0-4805-89C0-1CA17FF8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0AB-7020-470E-9ABA-C05C0D77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E5B-BE59-4C8D-9578-7E2EF359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181A-48EA-44CB-BC83-88F995FA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F8B6-D2F2-47A3-BC79-8405144B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593E-2D9D-4198-8F81-74FF4B8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7AA0-9C22-4BB7-A8A1-3998CBC7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040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6880" y="160020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392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040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6880" y="3964320"/>
            <a:ext cx="240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7D2D-B4E8-45A8-9199-2BA41C4E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A23-55B9-4176-B60B-3768E519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A2E-60CF-420E-BA34-607E10EF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45B-0DE1-48CD-91E0-A81FE187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571680"/>
            <a:ext cx="64008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A62-F872-4F5F-A35E-677976C5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739-01EF-4AF1-961D-F30E13B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396432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714-1E08-4C83-9691-4940D0B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600200"/>
            <a:ext cx="364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3920" y="3964320"/>
            <a:ext cx="747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3A7-56E6-4EFB-B3DB-43B48B4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0F82-B3E6-4C10-B1D2-F3841C0D69A5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Click to edit the outline text format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con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Third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our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Fif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ix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2754"/>
                </a:solidFill>
                <a:latin typeface="Segoe UI"/>
              </a:rPr>
              <a:t>Seventh Outline Level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7492-FE71-4B9A-B297-A875B09D0CA0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png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652320" y="1262160"/>
            <a:ext cx="7961400" cy="4132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1628640"/>
            <a:ext cx="5327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04360" cy="573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Segoe Script"/>
              </a:rPr>
              <a:t>Цель:</a:t>
            </a:r>
            <a:r>
              <a:rPr b="0" lang="ru-RU" sz="3600" spc="-1" strike="noStrike">
                <a:solidFill>
                  <a:srgbClr val="3333ff"/>
                </a:solidFill>
                <a:latin typeface="Segoe Script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Segoe Script"/>
              </a:rPr>
              <a:t>использование в воспитательно-образовательном процессе разнообразных форм фольклора, </a:t>
            </a:r>
            <a:br>
              <a:rPr sz="3600"/>
            </a:br>
            <a:r>
              <a:rPr b="1" lang="ru-RU" sz="3600" spc="-1" strike="noStrike">
                <a:solidFill>
                  <a:srgbClr val="3333ff"/>
                </a:solidFill>
                <a:latin typeface="Segoe Script"/>
              </a:rPr>
              <a:t>для обогащения знаний об окружающем мире детей младшего дошкольного возраста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91" name="Picture 13" descr="detia-860"/>
          <p:cNvPicPr/>
          <p:nvPr/>
        </p:nvPicPr>
        <p:blipFill>
          <a:blip r:embed="rId1"/>
          <a:stretch/>
        </p:blipFill>
        <p:spPr>
          <a:xfrm>
            <a:off x="324000" y="4653000"/>
            <a:ext cx="3024000" cy="1942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babochkia-484"/>
          <p:cNvPicPr/>
          <p:nvPr/>
        </p:nvPicPr>
        <p:blipFill>
          <a:blip r:embed="rId2"/>
          <a:stretch/>
        </p:blipFill>
        <p:spPr>
          <a:xfrm>
            <a:off x="5724360" y="0"/>
            <a:ext cx="314352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2754"/>
                </a:solidFill>
                <a:latin typeface="Segoe UI"/>
              </a:rPr>
              <a:t>    </a:t>
            </a:r>
            <a:r>
              <a:rPr b="1" lang="ru-RU" sz="2800" spc="-1" strike="noStrike">
                <a:solidFill>
                  <a:srgbClr val="a20ae6"/>
                </a:solidFill>
                <a:latin typeface="Segoe UI"/>
              </a:rPr>
              <a:t>Роль фольклора в ознакомлении с окружающим миром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формирование первоначальных навыков художественно-речевой деятельности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 </a:t>
            </a: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расширение словарного запаса ребёнка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формирование познавательного интереса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воспитание любви к истокам народного творчества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20ae6"/>
                </a:solidFill>
                <a:latin typeface="Segoe UI"/>
              </a:rPr>
              <a:t>развитие эмоциональной отзывчивости на произведения народного творчества; 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94" name="Picture 7" descr="C:\Documents and Settings\Admin\Мои документы\Мои рисунки\РАЗНОЕ\animationwallpapers\detia-801.gif"/>
          <p:cNvPicPr/>
          <p:nvPr/>
        </p:nvPicPr>
        <p:blipFill>
          <a:blip r:embed="rId6"/>
          <a:stretch/>
        </p:blipFill>
        <p:spPr>
          <a:xfrm>
            <a:off x="7693200" y="5300640"/>
            <a:ext cx="1204560" cy="135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babochkia-500"/>
          <p:cNvPicPr/>
          <p:nvPr/>
        </p:nvPicPr>
        <p:blipFill>
          <a:blip r:embed="rId7"/>
          <a:stretch/>
        </p:blipFill>
        <p:spPr>
          <a:xfrm>
            <a:off x="0" y="260280"/>
            <a:ext cx="10368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54936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Методический комплек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57160" y="128484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Перспективный пл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00000" y="17856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Конспекты занятий, развлечений с использованием средств   малых форм фолькл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928800" y="30002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Наглядный мат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43760" y="3573000"/>
            <a:ext cx="57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Материал по работе с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807840" y="4144320"/>
            <a:ext cx="57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Материал по работе с педагог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28800" y="4462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Картотека  устного народного творчества; наро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 Antiqua"/>
              </a:rPr>
              <a:t>дидактические игры, игры-заб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detia-816"/>
          <p:cNvPicPr/>
          <p:nvPr/>
        </p:nvPicPr>
        <p:blipFill>
          <a:blip r:embed="rId1"/>
          <a:stretch/>
        </p:blipFill>
        <p:spPr>
          <a:xfrm>
            <a:off x="6877080" y="2781360"/>
            <a:ext cx="190512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C:\Documents and Settings\Admin\Мои документы\Мои рисунки\РАЗНОЕ\animationwallpapers\babochkia-366.gif"/>
          <p:cNvPicPr/>
          <p:nvPr/>
        </p:nvPicPr>
        <p:blipFill>
          <a:blip r:embed="rId2"/>
          <a:stretch/>
        </p:blipFill>
        <p:spPr>
          <a:xfrm>
            <a:off x="468360" y="5516640"/>
            <a:ext cx="112392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Segoe UI"/>
              </a:rPr>
              <a:t>Развитие эмоциональной отзывчивости на произведения русского народного творчества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Segoe UI"/>
              </a:rPr>
              <a:t>Развитие познавательных, творческих способностей дошкольников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Segoe UI"/>
              </a:rPr>
              <a:t>Воспитание у дошкольников патриотизма через возрождение и преображение богатого опыта русских традиций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Segoe UI"/>
              </a:rPr>
              <a:t>Развитие речи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212760" y="530280"/>
            <a:ext cx="6400800" cy="890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1680" y="1643040"/>
            <a:ext cx="74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ae6"/>
                </a:solidFill>
                <a:latin typeface="Segoe UI"/>
              </a:rPr>
              <a:t>Наглядный (демонстрация иллюстраций картин, показ способов действий)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ae6"/>
                </a:solidFill>
                <a:latin typeface="Segoe UI"/>
              </a:rPr>
              <a:t>Словесный (коллективное чтение, заучивание наизусть)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ae6"/>
                </a:solidFill>
                <a:latin typeface="Segoe UI"/>
              </a:rPr>
              <a:t>Игровой метод (игры-драматизации, игры-инсценировки, дидактические игры, настольно-печатные игры)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20ae6"/>
                </a:solidFill>
                <a:latin typeface="Segoe UI"/>
              </a:rPr>
              <a:t>Проектный метод(«Ладушки, ладушки»)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Clr>
                <a:srgbClr val="a20a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0" y="571680"/>
            <a:ext cx="64008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Элементы фолькл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словесные русские народные игры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пальчиковые игры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пение колыбельных, потешек, народных песенок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народные подвижные игры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отгадывание загадок;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754"/>
                </a:solidFill>
                <a:latin typeface="Segoe UI"/>
              </a:rPr>
              <a:t>игры-драматизации.</a:t>
            </a: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111" name="Рисунок 3" descr="0_1c6af_1952e4a9_orig.jpeg"/>
          <p:cNvPicPr/>
          <p:nvPr/>
        </p:nvPicPr>
        <p:blipFill>
          <a:blip r:embed="rId7"/>
          <a:stretch/>
        </p:blipFill>
        <p:spPr>
          <a:xfrm>
            <a:off x="5425920" y="3882960"/>
            <a:ext cx="3711600" cy="296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babochkia-493"/>
          <p:cNvPicPr/>
          <p:nvPr/>
        </p:nvPicPr>
        <p:blipFill>
          <a:blip r:embed="rId8"/>
          <a:stretch/>
        </p:blipFill>
        <p:spPr>
          <a:xfrm>
            <a:off x="468360" y="5084640"/>
            <a:ext cx="203184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4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период адаптации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режимных      моментах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на прогулке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непосредственно 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     </a:t>
            </a: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образовательной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     </a:t>
            </a: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деятельности: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игре;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Segoe UI"/>
              </a:rPr>
              <a:t>в свободной деятельности.</a:t>
            </a: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2754"/>
              </a:solidFill>
              <a:latin typeface="Segoe UI"/>
            </a:endParaRPr>
          </a:p>
        </p:txBody>
      </p:sp>
      <p:pic>
        <p:nvPicPr>
          <p:cNvPr id="115" name="Picture 6" descr="SDC11815"/>
          <p:cNvPicPr/>
          <p:nvPr/>
        </p:nvPicPr>
        <p:blipFill>
          <a:blip r:embed="rId8"/>
          <a:stretch/>
        </p:blipFill>
        <p:spPr>
          <a:xfrm>
            <a:off x="4643280" y="1773360"/>
            <a:ext cx="432144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1979640" y="1628640"/>
            <a:ext cx="518472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476360" y="2546280"/>
            <a:ext cx="5977080" cy="792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187280" y="3465360"/>
            <a:ext cx="6769440" cy="792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719280" y="4400640"/>
            <a:ext cx="7705440" cy="792000"/>
          </a:xfrm>
          <a:prstGeom prst="roundRect">
            <a:avLst>
              <a:gd name="adj" fmla="val 16667"/>
            </a:avLst>
          </a:prstGeom>
          <a:solidFill>
            <a:srgbClr val="0000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ительские 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971640" y="189000"/>
            <a:ext cx="7345440" cy="1079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Формы работы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24000" y="5337000"/>
            <a:ext cx="8572320" cy="936720"/>
          </a:xfrm>
          <a:prstGeom prst="roundRect">
            <a:avLst>
              <a:gd name="adj" fmla="val 16667"/>
            </a:avLst>
          </a:prstGeom>
          <a:solidFill>
            <a:srgbClr val="ff0000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ект,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0:20:33Z</dcterms:created>
  <dc:creator/>
  <dc:description/>
  <cp:keywords/>
  <dc:language>en-US</dc:language>
  <cp:lastModifiedBy/>
  <dcterms:modified xsi:type="dcterms:W3CDTF">2016-09-28T12:29:24Z</dcterms:modified>
  <cp:revision>7</cp:revision>
  <dc:subject/>
  <dc:title>Использование элементов фольклора в ознакомлении детей с окружающим</dc:title>
</cp:coreProperties>
</file>