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0.gif" ContentType="image/gif"/>
  <Override PartName="/ppt/media/image12.png" ContentType="image/png"/>
  <Override PartName="/ppt/media/image16.jpeg" ContentType="image/jpeg"/>
  <Override PartName="/ppt/media/image7.gif" ContentType="image/gif"/>
  <Override PartName="/ppt/media/image15.png" ContentType="image/png"/>
  <Override PartName="/ppt/media/image6.gif" ContentType="image/gif"/>
  <Override PartName="/ppt/media/image11.gif" ContentType="image/gif"/>
  <Override PartName="/ppt/media/image14.gif" ContentType="image/gif"/>
  <Override PartName="/ppt/media/image9.gif" ContentType="image/gif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Script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E798B-DA4C-4DC7-9239-5B569A43432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0B86D-BDED-42EE-8CDA-4B1A3E004FF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4C06-E21D-4AD5-B5BF-9D18A9D8B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3920" y="396432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83D5-8233-4C3F-A722-A38D26F98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80ED-052C-4B4D-B3BD-CA98E8E7F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4040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688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392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4040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688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97D6-9845-405F-900A-C6C7B88B3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2F75B-398E-403B-B406-BCC72CD28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09E54-9369-4162-A330-C103E062E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A67B1-907D-431B-977D-373F3CAA2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D1888-5E3A-43EC-8D57-94360442B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57AB3-83F4-4ADD-AC11-15AACA981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0" y="571680"/>
            <a:ext cx="64008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4F6DA-36DB-4541-982C-986782EB5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885D3-C337-4F86-BD6B-E753EAEA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33BE-3E4F-458D-BAB5-2633B912D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4324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87AF4-A399-4600-988D-5131C940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FB758-BAE1-481A-8044-4F8D44C2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3920" y="396432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C8808-9DDE-4925-9A5B-B4CC426D0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4324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13A3F-53AD-4C61-B30C-93A427CEC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4040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6688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392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4040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6688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0EE94-C195-48BE-A126-32E52626A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9F52-0215-49BA-82C5-786C928AD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A6F2-DE7B-4770-9D24-AB1AB4082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DB1A-BA04-43C1-BC8A-0CDAF54DF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0" y="571680"/>
            <a:ext cx="64008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D192-B064-4D89-944B-B4C92E50F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349A-CC23-48C9-9865-9798A3A9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A752-7C82-4FF6-A39A-A04536ED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8693-8265-419E-B9CB-7ED77283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1EF9-7EBD-4B0C-A6D1-3D37ECE737D6}" type="slidenum">
              <a:rPr b="0" lang="ru-RU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8334-89F1-4C85-AAF6-0D3BF8E22CC1}" type="slidenum">
              <a:rPr b="0" lang="ru-RU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8.gif"/><Relationship Id="rId7" Type="http://schemas.openxmlformats.org/officeDocument/2006/relationships/image" Target="../media/image9.gi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png"/><Relationship Id="rId8" Type="http://schemas.openxmlformats.org/officeDocument/2006/relationships/image" Target="../media/image14.gi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652320" y="1262160"/>
            <a:ext cx="7961400" cy="41320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4"/>
          <p:cNvSpPr txBox="1"/>
          <p:nvPr/>
        </p:nvSpPr>
        <p:spPr>
          <a:xfrm>
            <a:off x="1692360" y="1628640"/>
            <a:ext cx="532764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8604360" cy="573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ff"/>
                </a:solidFill>
                <a:latin typeface="Segoe Script"/>
              </a:rPr>
              <a:t>Цель:</a:t>
            </a:r>
            <a:r>
              <a:rPr b="0" lang="ru-RU" sz="3600" spc="-1" strike="noStrike">
                <a:solidFill>
                  <a:srgbClr val="3333ff"/>
                </a:solidFill>
                <a:latin typeface="Segoe Script"/>
              </a:rPr>
              <a:t> </a:t>
            </a:r>
            <a:r>
              <a:rPr b="1" lang="ru-RU" sz="3600" spc="-1" strike="noStrike">
                <a:solidFill>
                  <a:srgbClr val="3333ff"/>
                </a:solidFill>
                <a:latin typeface="Segoe Script"/>
              </a:rPr>
              <a:t>использование в воспитательно-образовательном процессе разнообразных форм фольклора, </a:t>
            </a:r>
            <a:br>
              <a:rPr sz="3600"/>
            </a:br>
            <a:r>
              <a:rPr b="1" lang="ru-RU" sz="3600" spc="-1" strike="noStrike">
                <a:solidFill>
                  <a:srgbClr val="3333ff"/>
                </a:solidFill>
                <a:latin typeface="Segoe Script"/>
              </a:rPr>
              <a:t>для обогащения знаний об окружающем мире детей младшего дошкольного возраста</a:t>
            </a:r>
            <a:r>
              <a:rPr b="0" lang="ru-RU" sz="2800" spc="-1" strike="noStrike">
                <a:solidFill>
                  <a:srgbClr val="000000"/>
                </a:solidFill>
                <a:latin typeface="Segoe Scrip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pic>
        <p:nvPicPr>
          <p:cNvPr id="91" name="Picture 13" descr="detia-860"/>
          <p:cNvPicPr/>
          <p:nvPr/>
        </p:nvPicPr>
        <p:blipFill>
          <a:blip r:embed="rId1"/>
          <a:stretch/>
        </p:blipFill>
        <p:spPr>
          <a:xfrm>
            <a:off x="324000" y="4653000"/>
            <a:ext cx="3024000" cy="1942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5" descr="babochkia-484"/>
          <p:cNvPicPr/>
          <p:nvPr/>
        </p:nvPicPr>
        <p:blipFill>
          <a:blip r:embed="rId2"/>
          <a:stretch/>
        </p:blipFill>
        <p:spPr>
          <a:xfrm>
            <a:off x="5724360" y="0"/>
            <a:ext cx="314352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755280" y="404640"/>
            <a:ext cx="7993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2754"/>
                </a:solidFill>
                <a:latin typeface="Segoe UI"/>
              </a:rPr>
              <a:t>    </a:t>
            </a:r>
            <a:r>
              <a:rPr b="1" lang="ru-RU" sz="2800" spc="-1" strike="noStrike">
                <a:solidFill>
                  <a:srgbClr val="a20ae6"/>
                </a:solidFill>
                <a:latin typeface="Segoe UI"/>
              </a:rPr>
              <a:t>Роль фольклора в ознакомлении с окружающим миром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20ae6"/>
                </a:solidFill>
                <a:latin typeface="Segoe UI"/>
              </a:rPr>
              <a:t>формирование первоначальных навыков художественно-речевой деятельности;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20ae6"/>
                </a:solidFill>
                <a:latin typeface="Segoe UI"/>
              </a:rPr>
              <a:t> </a:t>
            </a:r>
            <a:r>
              <a:rPr b="0" lang="ru-RU" sz="2800" spc="-1" strike="noStrike">
                <a:solidFill>
                  <a:srgbClr val="a20ae6"/>
                </a:solidFill>
                <a:latin typeface="Segoe UI"/>
              </a:rPr>
              <a:t>расширение словарного запаса ребёнка;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20ae6"/>
                </a:solidFill>
                <a:latin typeface="Segoe UI"/>
              </a:rPr>
              <a:t>формирование познавательного интереса;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20ae6"/>
                </a:solidFill>
                <a:latin typeface="Segoe UI"/>
              </a:rPr>
              <a:t>воспитание любви к истокам народного творчества;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20ae6"/>
                </a:solidFill>
                <a:latin typeface="Segoe UI"/>
              </a:rPr>
              <a:t>развитие эмоциональной отзывчивости на произведения народного творчества; 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pic>
        <p:nvPicPr>
          <p:cNvPr id="94" name="Picture 7" descr="C:\Documents and Settings\Admin\Мои документы\Мои рисунки\РАЗНОЕ\animationwallpapers\detia-801.gif"/>
          <p:cNvPicPr/>
          <p:nvPr/>
        </p:nvPicPr>
        <p:blipFill>
          <a:blip r:embed="rId6"/>
          <a:stretch/>
        </p:blipFill>
        <p:spPr>
          <a:xfrm>
            <a:off x="7693200" y="5300640"/>
            <a:ext cx="1204560" cy="1355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4" descr="babochkia-500"/>
          <p:cNvPicPr/>
          <p:nvPr/>
        </p:nvPicPr>
        <p:blipFill>
          <a:blip r:embed="rId7"/>
          <a:stretch/>
        </p:blipFill>
        <p:spPr>
          <a:xfrm>
            <a:off x="0" y="260280"/>
            <a:ext cx="103680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68360" y="54936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egoe Script"/>
              </a:rPr>
              <a:t>Методический комплекс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857160" y="1284840"/>
            <a:ext cx="47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7030a0"/>
                </a:solidFill>
                <a:latin typeface="Book Antiqua"/>
              </a:rPr>
              <a:t>Перспективный пла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900000" y="178560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7030a0"/>
                </a:solidFill>
                <a:latin typeface="Book Antiqua"/>
              </a:rPr>
              <a:t>Конспекты занятий, развлечений с использованием средств   малых форм фольклор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928800" y="300024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7030a0"/>
                </a:solidFill>
                <a:latin typeface="Book Antiqua"/>
              </a:rPr>
              <a:t>Наглядный материа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743760" y="3573000"/>
            <a:ext cx="57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7030a0"/>
                </a:solidFill>
                <a:latin typeface="Book Antiqua"/>
              </a:rPr>
              <a:t>Материал по работе с родителя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807840" y="4144320"/>
            <a:ext cx="57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7030a0"/>
                </a:solidFill>
                <a:latin typeface="Book Antiqua"/>
              </a:rPr>
              <a:t>Материал по работе с педагог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1"/>
          <p:cNvSpPr/>
          <p:nvPr/>
        </p:nvSpPr>
        <p:spPr>
          <a:xfrm>
            <a:off x="928800" y="4462920"/>
            <a:ext cx="82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7030a0"/>
                </a:solidFill>
                <a:latin typeface="Book Antiqua"/>
              </a:rPr>
              <a:t>Картотека  устного народного творчества; народны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Book Antiqua"/>
              </a:rPr>
              <a:t>дидактические игры, игры-заба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3" descr="detia-816"/>
          <p:cNvPicPr/>
          <p:nvPr/>
        </p:nvPicPr>
        <p:blipFill>
          <a:blip r:embed="rId1"/>
          <a:stretch/>
        </p:blipFill>
        <p:spPr>
          <a:xfrm>
            <a:off x="6877080" y="2781360"/>
            <a:ext cx="1905120" cy="1944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C:\Documents and Settings\Admin\Мои документы\Мои рисунки\РАЗНОЕ\animationwallpapers\babochkia-366.gif"/>
          <p:cNvPicPr/>
          <p:nvPr/>
        </p:nvPicPr>
        <p:blipFill>
          <a:blip r:embed="rId2"/>
          <a:stretch/>
        </p:blipFill>
        <p:spPr>
          <a:xfrm>
            <a:off x="468360" y="5516640"/>
            <a:ext cx="1123920" cy="11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Segoe Script"/>
              </a:rPr>
              <a:t>Задачи</a:t>
            </a:r>
            <a:endParaRPr b="0" lang="en-US" sz="40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ff"/>
                </a:solidFill>
                <a:latin typeface="Segoe UI"/>
              </a:rPr>
              <a:t>Развитие эмоциональной отзывчивости на произведения русского народного творчества;</a:t>
            </a:r>
            <a:endParaRPr b="0" lang="en-US" sz="2400" spc="-1" strike="noStrike">
              <a:solidFill>
                <a:srgbClr val="772754"/>
              </a:solidFill>
              <a:latin typeface="Segoe UI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ff"/>
                </a:solidFill>
                <a:latin typeface="Segoe UI"/>
              </a:rPr>
              <a:t>Развитие познавательных, творческих способностей дошкольников;</a:t>
            </a:r>
            <a:endParaRPr b="0" lang="en-US" sz="2400" spc="-1" strike="noStrike">
              <a:solidFill>
                <a:srgbClr val="772754"/>
              </a:solidFill>
              <a:latin typeface="Segoe UI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ff"/>
                </a:solidFill>
                <a:latin typeface="Segoe UI"/>
              </a:rPr>
              <a:t>Воспитание у дошкольников патриотизма через возрождение и преображение богатого опыта русских традиций;</a:t>
            </a:r>
            <a:endParaRPr b="0" lang="en-US" sz="2400" spc="-1" strike="noStrike">
              <a:solidFill>
                <a:srgbClr val="772754"/>
              </a:solidFill>
              <a:latin typeface="Segoe UI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ff"/>
                </a:solidFill>
                <a:latin typeface="Segoe UI"/>
              </a:rPr>
              <a:t>Развитие речи;</a:t>
            </a:r>
            <a:endParaRPr b="0" lang="en-US" sz="2400" spc="-1" strike="noStrike">
              <a:solidFill>
                <a:srgbClr val="772754"/>
              </a:solidFill>
              <a:latin typeface="Segoe UI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Заголовок 1" descr=""/>
          <p:cNvPicPr/>
          <p:nvPr/>
        </p:nvPicPr>
        <p:blipFill>
          <a:blip r:embed="rId1"/>
          <a:stretch/>
        </p:blipFill>
        <p:spPr>
          <a:xfrm>
            <a:off x="212760" y="530280"/>
            <a:ext cx="6400800" cy="8906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571680" y="1643040"/>
            <a:ext cx="747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20a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20ae6"/>
                </a:solidFill>
                <a:latin typeface="Segoe UI"/>
              </a:rPr>
              <a:t>Наглядный (демонстрация иллюстраций картин, показ способов действий)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marL="343080" indent="-343080">
              <a:spcBef>
                <a:spcPts val="700"/>
              </a:spcBef>
              <a:buClr>
                <a:srgbClr val="a20a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20ae6"/>
                </a:solidFill>
                <a:latin typeface="Segoe UI"/>
              </a:rPr>
              <a:t>Словесный (коллективное чтение, заучивание наизусть)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marL="343080" indent="-343080">
              <a:spcBef>
                <a:spcPts val="700"/>
              </a:spcBef>
              <a:buClr>
                <a:srgbClr val="a20a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20ae6"/>
                </a:solidFill>
                <a:latin typeface="Segoe UI"/>
              </a:rPr>
              <a:t>Игровой метод (игры-драматизации, игры-инсценировки, дидактические игры, настольно-печатные игры)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marL="343080" indent="-343080">
              <a:spcBef>
                <a:spcPts val="700"/>
              </a:spcBef>
              <a:buClr>
                <a:srgbClr val="a20a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20ae6"/>
                </a:solidFill>
                <a:latin typeface="Segoe UI"/>
              </a:rPr>
              <a:t>Проектный метод(«Ладушки, ладушки»)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marL="343080" indent="-343080">
              <a:spcBef>
                <a:spcPts val="700"/>
              </a:spcBef>
              <a:buClr>
                <a:srgbClr val="a20a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Segoe Script"/>
              </a:rPr>
              <a:t>Элементы фольклор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72754"/>
                </a:solidFill>
                <a:latin typeface="Segoe UI"/>
              </a:rPr>
              <a:t>словесные русские народные игры;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72754"/>
                </a:solidFill>
                <a:latin typeface="Segoe UI"/>
              </a:rPr>
              <a:t>пальчиковые игры;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72754"/>
                </a:solidFill>
                <a:latin typeface="Segoe UI"/>
              </a:rPr>
              <a:t>пение колыбельных, потешек, народных песенок;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72754"/>
                </a:solidFill>
                <a:latin typeface="Segoe UI"/>
              </a:rPr>
              <a:t>народные подвижные игры;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72754"/>
                </a:solidFill>
                <a:latin typeface="Segoe UI"/>
              </a:rPr>
              <a:t>отгадывание загадок;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72754"/>
                </a:solidFill>
                <a:latin typeface="Segoe UI"/>
              </a:rPr>
              <a:t>игры-драматизации.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pic>
        <p:nvPicPr>
          <p:cNvPr id="111" name="Рисунок 3" descr="0_1c6af_1952e4a9_orig.jpeg"/>
          <p:cNvPicPr/>
          <p:nvPr/>
        </p:nvPicPr>
        <p:blipFill>
          <a:blip r:embed="rId7"/>
          <a:stretch/>
        </p:blipFill>
        <p:spPr>
          <a:xfrm>
            <a:off x="5425920" y="3882960"/>
            <a:ext cx="3711600" cy="29685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4" descr="babochkia-493"/>
          <p:cNvPicPr/>
          <p:nvPr/>
        </p:nvPicPr>
        <p:blipFill>
          <a:blip r:embed="rId8"/>
          <a:stretch/>
        </p:blipFill>
        <p:spPr>
          <a:xfrm>
            <a:off x="468360" y="5084640"/>
            <a:ext cx="2031840" cy="10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Rectangle 2" descr=""/>
          <p:cNvPicPr/>
          <p:nvPr/>
        </p:nvPicPr>
        <p:blipFill>
          <a:blip r:embed="rId1"/>
          <a:stretch/>
        </p:blipFill>
        <p:spPr>
          <a:xfrm>
            <a:off x="457200" y="139680"/>
            <a:ext cx="8229600" cy="1440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9280" y="1628640"/>
            <a:ext cx="403236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Segoe UI"/>
              </a:rPr>
              <a:t>в период адаптации;</a:t>
            </a:r>
            <a:endParaRPr b="0" lang="en-US" sz="2400" spc="-1" strike="noStrike">
              <a:solidFill>
                <a:srgbClr val="772754"/>
              </a:solidFill>
              <a:latin typeface="Segoe UI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Segoe UI"/>
              </a:rPr>
              <a:t>в режимных      моментах;</a:t>
            </a:r>
            <a:endParaRPr b="0" lang="en-US" sz="2400" spc="-1" strike="noStrike">
              <a:solidFill>
                <a:srgbClr val="772754"/>
              </a:solidFill>
              <a:latin typeface="Segoe UI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Segoe UI"/>
              </a:rPr>
              <a:t>на прогулке;</a:t>
            </a:r>
            <a:endParaRPr b="0" lang="en-US" sz="2400" spc="-1" strike="noStrike">
              <a:solidFill>
                <a:srgbClr val="772754"/>
              </a:solidFill>
              <a:latin typeface="Segoe UI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Segoe UI"/>
              </a:rPr>
              <a:t>в непосредственно </a:t>
            </a:r>
            <a:endParaRPr b="0" lang="en-US" sz="2400" spc="-1" strike="noStrike">
              <a:solidFill>
                <a:srgbClr val="772754"/>
              </a:solidFill>
              <a:latin typeface="Segoe U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Segoe UI"/>
              </a:rPr>
              <a:t>     </a:t>
            </a:r>
            <a:r>
              <a:rPr b="0" lang="ru-RU" sz="2400" spc="-1" strike="noStrike">
                <a:solidFill>
                  <a:srgbClr val="3333ff"/>
                </a:solidFill>
                <a:latin typeface="Segoe UI"/>
              </a:rPr>
              <a:t>образовательной</a:t>
            </a:r>
            <a:endParaRPr b="0" lang="en-US" sz="2400" spc="-1" strike="noStrike">
              <a:solidFill>
                <a:srgbClr val="772754"/>
              </a:solidFill>
              <a:latin typeface="Segoe U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Segoe UI"/>
              </a:rPr>
              <a:t>     </a:t>
            </a:r>
            <a:r>
              <a:rPr b="0" lang="ru-RU" sz="2400" spc="-1" strike="noStrike">
                <a:solidFill>
                  <a:srgbClr val="3333ff"/>
                </a:solidFill>
                <a:latin typeface="Segoe UI"/>
              </a:rPr>
              <a:t>деятельности:</a:t>
            </a:r>
            <a:endParaRPr b="0" lang="en-US" sz="2400" spc="-1" strike="noStrike">
              <a:solidFill>
                <a:srgbClr val="772754"/>
              </a:solidFill>
              <a:latin typeface="Segoe UI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Segoe UI"/>
              </a:rPr>
              <a:t>в игре;</a:t>
            </a:r>
            <a:endParaRPr b="0" lang="en-US" sz="2400" spc="-1" strike="noStrike">
              <a:solidFill>
                <a:srgbClr val="772754"/>
              </a:solidFill>
              <a:latin typeface="Segoe UI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Segoe UI"/>
              </a:rPr>
              <a:t>в свободной деятельности.</a:t>
            </a:r>
            <a:endParaRPr b="0" lang="en-US" sz="2400" spc="-1" strike="noStrike">
              <a:solidFill>
                <a:srgbClr val="772754"/>
              </a:solidFill>
              <a:latin typeface="Segoe U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2754"/>
              </a:solidFill>
              <a:latin typeface="Segoe UI"/>
            </a:endParaRPr>
          </a:p>
        </p:txBody>
      </p:sp>
      <p:pic>
        <p:nvPicPr>
          <p:cNvPr id="115" name="Picture 6" descr="SDC11815"/>
          <p:cNvPicPr/>
          <p:nvPr/>
        </p:nvPicPr>
        <p:blipFill>
          <a:blip r:embed="rId8"/>
          <a:stretch/>
        </p:blipFill>
        <p:spPr>
          <a:xfrm>
            <a:off x="4643280" y="1773360"/>
            <a:ext cx="4321440" cy="38163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diamond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2"/>
          <p:cNvSpPr/>
          <p:nvPr/>
        </p:nvSpPr>
        <p:spPr>
          <a:xfrm>
            <a:off x="1979640" y="1628640"/>
            <a:ext cx="5184720" cy="792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4e7e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 Antiqua"/>
              </a:rPr>
              <a:t>Анкет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3"/>
          <p:cNvSpPr/>
          <p:nvPr/>
        </p:nvSpPr>
        <p:spPr>
          <a:xfrm>
            <a:off x="1476360" y="2546280"/>
            <a:ext cx="5977080" cy="79236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4e7e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 Antiqua"/>
              </a:rPr>
              <a:t>Бес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1187280" y="3465360"/>
            <a:ext cx="6769440" cy="79236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4e7e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онсуль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5"/>
          <p:cNvSpPr/>
          <p:nvPr/>
        </p:nvSpPr>
        <p:spPr>
          <a:xfrm>
            <a:off x="719280" y="4400640"/>
            <a:ext cx="7705440" cy="792000"/>
          </a:xfrm>
          <a:prstGeom prst="roundRect">
            <a:avLst>
              <a:gd name="adj" fmla="val 16667"/>
            </a:avLst>
          </a:prstGeom>
          <a:solidFill>
            <a:srgbClr val="0000ff">
              <a:alpha val="48000"/>
            </a:srgbClr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4e7e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одительские собр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971640" y="189000"/>
            <a:ext cx="7345440" cy="107928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d60093"/>
                </a:solidFill>
                <a:latin typeface="Arial"/>
              </a:rPr>
              <a:t>Формы работы с родител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324000" y="5337000"/>
            <a:ext cx="8572320" cy="936720"/>
          </a:xfrm>
          <a:prstGeom prst="roundRect">
            <a:avLst>
              <a:gd name="adj" fmla="val 16667"/>
            </a:avLst>
          </a:prstGeom>
          <a:solidFill>
            <a:srgbClr val="ff0000">
              <a:alpha val="48000"/>
            </a:srgbClr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4e7e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ект, празд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2T10:20:33Z</dcterms:created>
  <dc:creator/>
  <dc:description/>
  <cp:keywords/>
  <dc:language>en-US</dc:language>
  <cp:lastModifiedBy/>
  <dcterms:modified xsi:type="dcterms:W3CDTF">2016-09-28T12:29:24Z</dcterms:modified>
  <cp:revision>7</cp:revision>
  <dc:subject/>
  <dc:title>Использование элементов фольклора в ознакомлении детей с окружающим</dc:title>
</cp:coreProperties>
</file>