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CCAE1-46D5-4127-B302-455541116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38D1-5082-496B-B6EA-046E814E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7935F-B0E2-4BF2-94AE-2509C2E20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21EA-E79D-4B7D-BBDE-215F227CE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CC928-BFF4-4D05-BB1C-4B4E726B5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7341-6BFE-48E1-AB3E-040E06BEE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97F31-2396-4C04-942D-98CB15CC3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31DDD-8553-406F-83B5-6D1781412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35205-1613-4C86-BF14-FE88F52D8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7E672-AA11-47F5-8340-791B3E562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179F0-3EF8-45B2-82B6-0F28A9A3D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958F7-1877-48E6-B2DE-194D9C73D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0F6B4-7837-408D-BA06-AC0F03207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3C7C4-E76F-4BC6-8399-825BF0F02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28E7D-8920-4C0A-9BAD-01B0751C6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33818-AEF7-4BC8-AD69-037A06D68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DB13A-0729-4221-850D-8C8AD4C4D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5308E8-2C10-443D-83FB-5CACD3600C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AFF5F-73E8-439B-A43B-5ADD1D9A0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B0FB7-33D4-42A1-816B-28AAB58BC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94277-F47D-46B8-821C-17C23514E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D8D34-3266-48C8-A80D-3A4EE19C8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A5BB-54DA-4613-B64A-328F25DB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00A28D-10BB-4894-85DE-BD34F9845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6D4EF-334B-4B98-9405-D57BD3188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C239C-4B04-4EB0-BC1C-F3AE47643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00E9A-3F7F-4770-90B4-92BECEAEB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8E370-8A44-432E-998E-FD1F04DE5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664393-D476-448A-83FD-E9CFDF073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30108F-FDDA-4A75-B74D-3605ACEBF0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BD22D5-F3B6-48BC-8EC3-ACFF155DDD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5D99F-9D3A-4C99-8798-E4787F34C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E733A-D887-4495-8527-5FEC8425B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0C8D-DD81-4DFA-9825-B78073FCB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1EA9C-19B9-48B6-A6DB-FDB57832E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BBE05-225F-4EC0-A52E-DF3D172B8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55AE5-5215-496D-9BAC-F1BAD823C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CFD5C-DA59-41E1-99AB-9D3DC46A3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433C6-C585-4901-9A1C-0C38F6912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B1495-EA19-4D9D-A09E-88CE13172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024A3-E0C4-443E-8F29-64EA6A3E9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7AEBE3-A6AB-426C-9903-FEC892B08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499FB-BCCB-47F3-B747-B61942095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56832-AF9B-437D-BADD-8220625E0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8FD3-9159-449E-9082-5B694F860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1A36-91AD-4FC6-91AA-7363FC00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2A72E-6A40-43F1-8E81-7382B58A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94AC-025C-4492-BF34-5D61D8A6F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7B43-3F67-4CAA-8F7B-3117928E694B}"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A701-401E-494C-BFF2-14DE82E3A112}"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FCCE-5595-4968-8263-F6A53DED0304}"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8F67-096D-4243-A722-156EC313C1D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60;&#1072;&#1081;&#1083;:Pawe&#322;_Zagumny_2006-2007_2.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60;&#1072;&#1081;&#1083;:VolleyballRotation.svg" TargetMode="External"/><Relationship Id="rId2" Type="http://schemas.openxmlformats.org/officeDocument/2006/relationships/hyperlink" Target="http://ru.wikipedia.org/wiki/&#1060;&#1072;&#1081;&#1083;:VolleyballRotation.svg" TargetMode="External"/><Relationship Id="rId3" Type="http://schemas.openxmlformats.org/officeDocument/2006/relationships/image" Target="../media/image8.png"/><Relationship Id="rId4" Type="http://schemas.openxmlformats.org/officeDocument/2006/relationships/hyperlink" Target="http://ru.wikipedia.org/wiki/&#1060;&#1072;&#1081;&#1083;:VolleyballRotation.svg"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Urpo%25Sivula.jpg" TargetMode="External"/><Relationship Id="rId2" Type="http://schemas.openxmlformats.org/officeDocument/2006/relationships/image" Target="../media/image10.jpeg"/><Relationship Id="rId3" Type="http://schemas.openxmlformats.org/officeDocument/2006/relationships/hyperlink" Target="http://ru.wikipedia.org/wiki/&#1060;&#1072;&#1081;&#1083;:Urpo%25Sivula.jp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upload.wikimedia.org/wikipedia/commons/thumb/1/15/Pawe%C5%82_Zagumny_2006-2007_2.jpg/230px-Pawe%C5%82_Zagumny_2006-2007_2.jpg">
            <a:hlinkClick r:id="rId1"/>
          </p:cNvPr>
          <p:cNvPicPr/>
          <p:nvPr/>
        </p:nvPicPr>
        <p:blipFill>
          <a:blip r:embed="rId2"/>
          <a:stretch/>
        </p:blipFill>
        <p:spPr>
          <a:xfrm>
            <a:off x="0" y="0"/>
            <a:ext cx="9144000" cy="6858000"/>
          </a:xfrm>
          <a:prstGeom prst="rect">
            <a:avLst/>
          </a:prstGeom>
          <a:ln w="0">
            <a:noFill/>
          </a:ln>
        </p:spPr>
      </p:pic>
      <p:pic>
        <p:nvPicPr>
          <p:cNvPr id="196" name="Заголовок 7" descr=""/>
          <p:cNvPicPr/>
          <p:nvPr/>
        </p:nvPicPr>
        <p:blipFill>
          <a:blip r:embed="rId3"/>
          <a:stretch/>
        </p:blipFill>
        <p:spPr>
          <a:xfrm>
            <a:off x="450720" y="165240"/>
            <a:ext cx="8321760" cy="16873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1"/>
          <p:cNvSpPr/>
          <p:nvPr/>
        </p:nvSpPr>
        <p:spPr>
          <a:xfrm>
            <a:off x="714240" y="500040"/>
            <a:ext cx="79297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nstantia"/>
              </a:rPr>
              <a:t>Нарушения прави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иже перечислены наиболее характерные для игры ошибки игроков и трене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При подач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рок заступил ногой на пространство площад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рок подбросил и поймал мя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 истечении 8 секунд после свистка судьи мяч передаётся команде сопер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антенны мяч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овершил подачу до свистка судь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При розыгрыш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делано более трёх кас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верхнего края сетки игроком, выполняющим активное игровое действ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ступ игроком задней линии трёхметровой линии при ата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шибка на приёме: двойное касание или задержка мяч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антенны мячом при уд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ступ на игровую половину противни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Регла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арушение расстанов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еспортивное поведение одного из игроков или трен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верхнего края сетки.</a:t>
            </a:r>
            <a:endParaRPr b="0" lang="en-US" sz="18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Прямоугольник 5" descr=""/>
          <p:cNvPicPr/>
          <p:nvPr/>
        </p:nvPicPr>
        <p:blipFill>
          <a:blip r:embed="rId1"/>
          <a:stretch/>
        </p:blipFill>
        <p:spPr>
          <a:xfrm>
            <a:off x="463680" y="1542960"/>
            <a:ext cx="8216640" cy="410868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3"/>
          <p:cNvSpPr/>
          <p:nvPr/>
        </p:nvSpPr>
        <p:spPr>
          <a:xfrm>
            <a:off x="357120" y="285840"/>
            <a:ext cx="8215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Волейбол</a:t>
            </a:r>
            <a:r>
              <a:rPr b="0" lang="ru-RU" sz="1800" spc="-1" strike="noStrike">
                <a:solidFill>
                  <a:srgbClr val="000000"/>
                </a:solidFill>
                <a:latin typeface="Constantia"/>
              </a:rPr>
              <a:t> (англ.. </a:t>
            </a:r>
            <a:r>
              <a:rPr b="0" i="1" lang="ru-RU" sz="1800" spc="-1" strike="noStrike">
                <a:solidFill>
                  <a:srgbClr val="000000"/>
                </a:solidFill>
                <a:latin typeface="Constantia"/>
              </a:rPr>
              <a:t>volleyball</a:t>
            </a:r>
            <a:r>
              <a:rPr b="0" lang="ru-RU" sz="1800" spc="-1" strike="noStrike">
                <a:solidFill>
                  <a:srgbClr val="000000"/>
                </a:solidFill>
                <a:latin typeface="Constantia"/>
              </a:rPr>
              <a:t> от volley — «ударять мяч с лёта» (также переводят как «летающий», «парящий») и ball — «мяч»)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a:t>
            </a:r>
            <a:r>
              <a:rPr b="0" i="1" lang="ru-RU" sz="1800" spc="-1" strike="noStrike">
                <a:solidFill>
                  <a:srgbClr val="000000"/>
                </a:solidFill>
                <a:latin typeface="Constantia"/>
              </a:rPr>
              <a:t>добить до пола</a:t>
            </a:r>
            <a:r>
              <a:rPr b="0" lang="ru-RU" sz="1800" spc="-1" strike="noStrike">
                <a:solidFill>
                  <a:srgbClr val="000000"/>
                </a:solidFill>
                <a:latin typeface="Constantia"/>
              </a:rPr>
              <a:t>),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a:t>
            </a:r>
            <a:endParaRPr b="0" lang="en-US" sz="1800" spc="-1" strike="noStrike">
              <a:solidFill>
                <a:srgbClr val="000000"/>
              </a:solidFill>
              <a:latin typeface="Arial"/>
            </a:endParaRPr>
          </a:p>
        </p:txBody>
      </p:sp>
      <p:sp>
        <p:nvSpPr>
          <p:cNvPr id="198" name="Прямоугольник 6"/>
          <p:cNvSpPr/>
          <p:nvPr/>
        </p:nvSpPr>
        <p:spPr>
          <a:xfrm>
            <a:off x="428760" y="2714760"/>
            <a:ext cx="8429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Центральный орган волейбола как международного вида спорта, определяющий свод правил </a:t>
            </a:r>
            <a:r>
              <a:rPr b="0" lang="en-US" sz="1800" spc="-1" strike="noStrike">
                <a:solidFill>
                  <a:srgbClr val="000000"/>
                </a:solidFill>
                <a:latin typeface="Constantia"/>
              </a:rPr>
              <a:t>FIVB</a:t>
            </a:r>
            <a:r>
              <a:rPr b="0" lang="ru-RU" sz="1800" spc="-1" strike="noStrike">
                <a:solidFill>
                  <a:srgbClr val="000000"/>
                </a:solidFill>
                <a:latin typeface="Constantia"/>
              </a:rPr>
              <a:t> (англ.) — Международная федерация волейбола. Волейбол входит в программу Олимпийских игр с1964 г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лейбол — неконтактный, комбинационный вид спорта, где каждый игрок имеет строгую специализацию на площадке. Важнейшими качествами для игроков в волейбол являются прыгучесть для возможности высоко подняться над сеткой, реакция, координация, физическая сила для эффективного произведения атакующих удар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ля любителей волейбол — распространённое развлечение и способ отдыха благодаря простоте правил и доступности инвентар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уществуют многочисленные варианты волейбола, ответвившиеся от основного вида — пляжный волейбол(олимпийский вид с 1966 года), мини-волейбол, пионербол, парковый волейбол (утверждённый конгрессом FIVB в ноябре 1998 года в Токио)</a:t>
            </a: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428760" y="960840"/>
            <a:ext cx="7286400" cy="477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правила иг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e2d700"/>
                </a:solidFill>
                <a:uFillTx/>
                <a:latin typeface="Arial"/>
                <a:hlinkClick r:id="rId1"/>
              </a:rPr>
              <a:t>  </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Зоны» на площадке и перемещение игрок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ведётся на прямоугольной площадке Высота сетки для мужчин — 2,43 м, для женщин — 2,24 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ведётся сферическим мячом окружностью 65—67 см весом 260—280 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до пола</a:t>
            </a:r>
            <a:r>
              <a:rPr b="0" lang="ru-RU" sz="1600" spc="-1" strike="noStrike">
                <a:solidFill>
                  <a:srgbClr val="000000"/>
                </a:solidFill>
                <a:latin typeface="Arial"/>
              </a:rPr>
              <a:t>, то есть до игровой поверхности площадки половины противника, или заставить его ошибить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начинается вводом мяча в игру при помощи подачи согласно жребию.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а подачи от одной команды к другой в результате розыгрыша очка, игроки перемещаются в следующую зону по часовой стрелке.</a:t>
            </a:r>
            <a:endParaRPr b="0" lang="en-US" sz="1600" spc="-1" strike="noStrike">
              <a:solidFill>
                <a:srgbClr val="000000"/>
              </a:solidFill>
              <a:latin typeface="Arial"/>
            </a:endParaRPr>
          </a:p>
        </p:txBody>
      </p:sp>
      <p:pic>
        <p:nvPicPr>
          <p:cNvPr id="200" name="Picture 5" descr="http://upload.wikimedia.org/wikipedia/commons/thumb/5/59/VolleyballRotation.svg/150px-VolleyballRotation.svg.png">
            <a:hlinkClick r:id="rId2"/>
          </p:cNvPr>
          <p:cNvPicPr/>
          <p:nvPr/>
        </p:nvPicPr>
        <p:blipFill>
          <a:blip r:embed="rId3"/>
          <a:stretch/>
        </p:blipFill>
        <p:spPr>
          <a:xfrm>
            <a:off x="7715160" y="1643040"/>
            <a:ext cx="1428840" cy="3071880"/>
          </a:xfrm>
          <a:prstGeom prst="rect">
            <a:avLst/>
          </a:prstGeom>
          <a:ln w="0">
            <a:noFill/>
          </a:ln>
        </p:spPr>
      </p:pic>
      <p:pic>
        <p:nvPicPr>
          <p:cNvPr id="201" name="Picture 6" descr="http://bits.wikimedia.org/skins-1.17/common/images/magnify-clip.png">
            <a:hlinkClick r:id="rId4"/>
          </p:cNvPr>
          <p:cNvPicPr/>
          <p:nvPr/>
        </p:nvPicPr>
        <p:blipFill>
          <a:blip r:embed="rId5"/>
          <a:stretch/>
        </p:blipFill>
        <p:spPr>
          <a:xfrm>
            <a:off x="155520" y="614520"/>
            <a:ext cx="142920" cy="104760"/>
          </a:xfrm>
          <a:prstGeom prst="rect">
            <a:avLst/>
          </a:prstGeom>
          <a:ln w="0">
            <a:noFill/>
          </a:ln>
        </p:spPr>
      </p:pic>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upload.wikimedia.org/wikipedia/commons/thumb/d/d2/Urpo%25Sivula.jpg/160px-Urpo%25Sivula.jpg">
            <a:hlinkClick r:id="rId1"/>
          </p:cNvPr>
          <p:cNvPicPr/>
          <p:nvPr/>
        </p:nvPicPr>
        <p:blipFill>
          <a:blip r:embed="rId2"/>
          <a:stretch/>
        </p:blipFill>
        <p:spPr>
          <a:xfrm>
            <a:off x="7286760" y="214200"/>
            <a:ext cx="1523880" cy="1933560"/>
          </a:xfrm>
          <a:prstGeom prst="rect">
            <a:avLst/>
          </a:prstGeom>
          <a:ln w="0">
            <a:noFill/>
          </a:ln>
        </p:spPr>
      </p:pic>
      <p:sp>
        <p:nvSpPr>
          <p:cNvPr id="203" name="Rectangle 1"/>
          <p:cNvSpPr/>
          <p:nvPr/>
        </p:nvSpPr>
        <p:spPr>
          <a:xfrm>
            <a:off x="214200" y="1121400"/>
            <a:ext cx="8358480" cy="53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400" spc="-1" strike="noStrike">
                <a:solidFill>
                  <a:srgbClr val="ff0000"/>
                </a:solidFill>
                <a:latin typeface="Arial"/>
              </a:rPr>
              <a:t>Подач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ача в прыж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полняет подачу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особенности это касается подачи в прыжке).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аут</a:t>
            </a:r>
            <a:r>
              <a:rPr b="0" lang="ru-RU" sz="1800" spc="-1" strike="noStrike">
                <a:solidFill>
                  <a:srgbClr val="000000"/>
                </a:solidFill>
                <a:latin typeface="Arial"/>
              </a:rPr>
              <a:t>,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современном волейболе наиболее распространена силовая подача в прыжке. Её противоположностью является укороченная (планирующая, тактическая) подача, когда мяч направляется близко к сетке.</a:t>
            </a:r>
            <a:endParaRPr b="0" lang="en-US" sz="1800" spc="-1" strike="noStrike">
              <a:solidFill>
                <a:srgbClr val="000000"/>
              </a:solidFill>
              <a:latin typeface="Arial"/>
            </a:endParaRPr>
          </a:p>
        </p:txBody>
      </p:sp>
      <p:pic>
        <p:nvPicPr>
          <p:cNvPr id="204" name="Picture 3" descr="http://bits.wikimedia.org/skins-1.17/common/images/magnify-clip.png">
            <a:hlinkClick r:id="rId3"/>
          </p:cNvPr>
          <p:cNvPicPr/>
          <p:nvPr/>
        </p:nvPicPr>
        <p:blipFill>
          <a:blip r:embed="rId4"/>
          <a:stretch/>
        </p:blipFill>
        <p:spPr>
          <a:xfrm>
            <a:off x="155520" y="646200"/>
            <a:ext cx="142920" cy="1047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Прямоугольник 1"/>
          <p:cNvSpPr/>
          <p:nvPr/>
        </p:nvSpPr>
        <p:spPr>
          <a:xfrm>
            <a:off x="642960" y="571680"/>
            <a:ext cx="5072040" cy="68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nstantia"/>
              </a:rPr>
              <a:t>Приё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 максимум после третьего касания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1800" spc="-1" strike="noStrike">
              <a:solidFill>
                <a:srgbClr val="000000"/>
              </a:solidFill>
              <a:latin typeface="Arial"/>
            </a:endParaRPr>
          </a:p>
        </p:txBody>
      </p:sp>
      <p:pic>
        <p:nvPicPr>
          <p:cNvPr id="206" name="Picture 2" descr="http://upload.wikimedia.org/wikipedia/commons/thumb/4/43/Haavisto.jpg/150px-Haavisto.jpg"/>
          <p:cNvPicPr/>
          <p:nvPr/>
        </p:nvPicPr>
        <p:blipFill>
          <a:blip r:embed="rId1"/>
          <a:stretch/>
        </p:blipFill>
        <p:spPr>
          <a:xfrm>
            <a:off x="5929200" y="1357200"/>
            <a:ext cx="3000600" cy="45720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Прямоугольник 1"/>
          <p:cNvSpPr/>
          <p:nvPr/>
        </p:nvSpPr>
        <p:spPr>
          <a:xfrm>
            <a:off x="857160" y="1643040"/>
            <a:ext cx="7500960" cy="463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nstantia"/>
              </a:rPr>
              <a:t>Ата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ычно при позитивном приёме мяч принимается игроками задней линии (1-е касание), доводится до связующего игрока (2-е касание), связующий передаёт мяч игроку атаки (3-е касание).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 есть наносить удар по мячу выше линии верхнего края сетки) только либер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азличают атакующие удары: прямые (по ходу) и боковые, удары с переводом вправо (влево) и обманные удары (скидки).</a:t>
            </a:r>
            <a:endParaRPr b="0" lang="en-US" sz="18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1714680" y="785880"/>
            <a:ext cx="564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nstantia"/>
              </a:rPr>
              <a:t>Блокирование</a:t>
            </a:r>
            <a:endParaRPr b="0" lang="en-US" sz="4400" spc="-1" strike="noStrike">
              <a:solidFill>
                <a:srgbClr val="000000"/>
              </a:solidFill>
              <a:latin typeface="Arial"/>
            </a:endParaRPr>
          </a:p>
        </p:txBody>
      </p:sp>
      <p:sp>
        <p:nvSpPr>
          <p:cNvPr id="209" name="Прямоугольник 2"/>
          <p:cNvSpPr/>
          <p:nvPr/>
        </p:nvSpPr>
        <p:spPr>
          <a:xfrm>
            <a:off x="785880" y="2143080"/>
            <a:ext cx="7572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ок может быть одиночным или групповым (двойным, тройным). Касание блока не считается за одно из трёх касаний. Блокировать могут только те игроки, что стоят на передней линии, то есть в зонах 2, 3, 4.</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Прямоугольник 1"/>
          <p:cNvSpPr/>
          <p:nvPr/>
        </p:nvSpPr>
        <p:spPr>
          <a:xfrm rot="20998200">
            <a:off x="2221920" y="1174680"/>
            <a:ext cx="453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nstantia"/>
              </a:rPr>
              <a:t>Либеро</a:t>
            </a:r>
            <a:endParaRPr b="0" lang="en-US" sz="4400" spc="-1" strike="noStrike">
              <a:solidFill>
                <a:srgbClr val="000000"/>
              </a:solidFill>
              <a:latin typeface="Arial"/>
            </a:endParaRPr>
          </a:p>
        </p:txBody>
      </p:sp>
      <p:sp>
        <p:nvSpPr>
          <p:cNvPr id="211" name="Прямоугольник 2"/>
          <p:cNvSpPr/>
          <p:nvPr/>
        </p:nvSpPr>
        <p:spPr>
          <a:xfrm>
            <a:off x="642960" y="2428920"/>
            <a:ext cx="7643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вое из 14 игроков (с 2009 года, ранее назначался только один либеро из 12 игроков) команды могут быть назначены </a:t>
            </a:r>
            <a:r>
              <a:rPr b="0" i="1" lang="ru-RU" sz="2000" spc="-1" strike="noStrike">
                <a:solidFill>
                  <a:srgbClr val="000000"/>
                </a:solidFill>
                <a:latin typeface="Constantia"/>
              </a:rPr>
              <a:t>либеро</a:t>
            </a:r>
            <a:r>
              <a:rPr b="0" lang="ru-RU" sz="2000" spc="-1" strike="noStrike">
                <a:solidFill>
                  <a:srgbClr val="000000"/>
                </a:solidFill>
                <a:latin typeface="Constantia"/>
              </a:rPr>
              <a:t>.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642960" y="513000"/>
            <a:ext cx="7858080" cy="447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Регламент</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Arial"/>
              </a:rPr>
              <a:t>  </a:t>
            </a:r>
            <a:r>
              <a:rPr b="0" i="1" lang="ru-RU" sz="1600" spc="-1" strike="noStrike">
                <a:solidFill>
                  <a:srgbClr val="000000"/>
                </a:solidFill>
                <a:latin typeface="Arial"/>
              </a:rPr>
              <a:t>Вторую передачу делает связующий сборной Польши Павел Загумный. Игрок № 2 собирается атаковать первым темпом. Игрок № 11 угрожает атакой с задней линии («пайп»). Блокирующие противника должны решить, какую атаку им закрыва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тай-брейк)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 (по 60 секунд). 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 (кроме либеро).</a:t>
            </a:r>
            <a:endParaRPr b="0" lang="en-US" sz="1600" spc="-1" strike="noStrike">
              <a:solidFill>
                <a:srgbClr val="000000"/>
              </a:solidFill>
              <a:latin typeface="Arial"/>
            </a:endParaRPr>
          </a:p>
        </p:txBody>
      </p:sp>
      <p:pic>
        <p:nvPicPr>
          <p:cNvPr id="213" name="Picture 2" descr="http://upload.wikimedia.org/wikipedia/commons/thumb/1/15/Pawe%C5%82_Zagumny_2006-2007_2.jpg/230px-Pawe%C5%82_Zagumny_2006-2007_2.jpg"/>
          <p:cNvPicPr/>
          <p:nvPr/>
        </p:nvPicPr>
        <p:blipFill>
          <a:blip r:embed="rId1"/>
          <a:stretch/>
        </p:blipFill>
        <p:spPr>
          <a:xfrm>
            <a:off x="5786280" y="4929120"/>
            <a:ext cx="2190960" cy="1647720"/>
          </a:xfrm>
          <a:prstGeom prst="rect">
            <a:avLst/>
          </a:prstGeom>
          <a:ln w="0">
            <a:noFill/>
          </a:ln>
        </p:spPr>
      </p:pic>
      <p:pic>
        <p:nvPicPr>
          <p:cNvPr id="214" name="Picture 3" descr="http://bits.wikimedia.org/skins-1.17/common/images/magnify-clip.png"/>
          <p:cNvPicPr/>
          <p:nvPr/>
        </p:nvPicPr>
        <p:blipFill>
          <a:blip r:embed="rId2"/>
          <a:stretch/>
        </p:blipFill>
        <p:spPr>
          <a:xfrm>
            <a:off x="155520" y="593640"/>
            <a:ext cx="142920" cy="1047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0:15:49Z</dcterms:created>
  <dc:creator>Admin</dc:creator>
  <dc:description/>
  <dc:language>en-US</dc:language>
  <cp:lastModifiedBy>Admin</cp:lastModifiedBy>
  <dcterms:modified xsi:type="dcterms:W3CDTF">2011-03-06T23:17:57Z</dcterms:modified>
  <cp:revision>6</cp:revision>
  <dc:subject/>
  <dc:title>       волейбол</dc:title>
</cp:coreProperties>
</file>