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748-A9D7-4C87-9C54-1144DA25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B61-91B3-41A1-A52E-1A7E2D8C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BDA-381E-4B47-A2C3-60EADA58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39FD-5A54-4DF0-9B18-25272BC2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A77C-E95A-4ACA-B3F1-BDCC8C04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1151-FABC-482C-A9B9-2240FB99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D468-069C-4947-99D2-5422933F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8147-08CA-4E8D-8AC5-E5D43A47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A37C-C5E6-43CA-9EF5-4C4BB886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4EC8-D50D-490B-84AC-24B49949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AAFB-7FE6-4153-A575-29B81C5B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94F0-DB48-4709-9B75-62A16784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0CDC-5150-4800-BC66-84611E15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1C08-DA16-4195-AE3E-09E0F760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0839-4D08-41D2-AAE2-A2F4C940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8CD8-0820-4D10-A781-A66C6280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602C-0799-4D8F-80DA-D0136A71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34B4-FC76-4189-938E-34929BDE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59E1-92BC-4316-BB0C-99CDEFAB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F5ED-3CA9-4838-B043-8DD6C6E8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4CD35-6735-419F-A200-D8E45CFA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52D64-032C-4812-AD64-4E131973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444D-BA23-4A71-9A6D-21D3D72E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EEF28-1806-4FBF-9FA9-9D426C06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1608-2441-4C49-945C-48732372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041D-8552-4E11-9A15-FF13B4B4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C6FF3-5205-400D-9C32-5FE564B3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37723-ACC5-4287-8D0B-1B7EB17A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33EF-BF8E-4EFE-99A6-59DD03A0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01169-F715-40F3-AA4B-57D92898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6E72A-1749-4FFA-9E88-D3B50074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CEAFB-D128-4009-96C1-FB5F30C2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BA5FC-5709-4259-B985-A9271663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DB9-F1EE-4261-9DD3-C4FA67DD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6A583-47A1-4D45-B18E-9CE2E32E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F9EC1-A8BF-4332-B968-C7DAD0EA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09812-1BDF-4EFF-AE20-4330D37A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D3C15-C53F-4C6A-9A91-D0A25F44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263AF-1581-48BD-908F-BB276744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E758A-26F3-4A37-9D56-CB28476D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F25AA-A180-4517-A1FD-7CE46310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AFDFB-2C36-49C1-91A4-D8ED2094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A0134-6627-498D-9142-D437C979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18922-F1FA-4BC8-BEDD-B2656B6D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8F1-BDE1-4336-B14A-89D3805B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B9B03-EE4B-4CD5-8182-0DDBEEE9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B5269-B73D-4E43-A2E7-D83E0E03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7447E-A48C-4EC2-9586-5EC961D7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09756-6043-448D-BFF2-8915D4A1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9F967-0083-4EE2-8D2E-B7DD4BDC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E92DB-90F0-4DA4-8C9F-9E23A9F6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99C1C-1180-4D3B-9BE2-179C1BD0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E9905-CF76-4634-9D9F-17BFF5D3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90AA3-3D74-4A40-9A7D-8A0C612D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8B362-C374-4E81-906C-59175704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235-C612-49DE-BD81-5CABF5CE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F65B9-ACEA-4F31-B6D1-6FD21415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0E2-E926-4F64-924D-12A2C64B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537-3660-479E-94D9-F17E4678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EA4-AC43-433D-8543-682CF945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F941-F363-464D-8666-02A4831A182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D72B-6A8C-4AF6-A412-1761E553072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2BB2-D1CA-49C2-BA55-AF7FD7ADB3B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BC57-08D3-4E2B-8631-B17FACE54D4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C1DC-9CCC-4E03-875D-069D0578DAC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400" y="4429080"/>
            <a:ext cx="835812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н мне (не)друг, а просто сосед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чиной ошибок в диктанте была (не)внимательность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лёша принёс букет (не)забудок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43040" y="1000080"/>
          <a:ext cx="6191280" cy="4524480"/>
        </p:xfrm>
        <a:graphic>
          <a:graphicData uri="http://schemas.openxmlformats.org/drawingml/2006/table">
            <a:tbl>
              <a:tblPr/>
              <a:tblGrid>
                <a:gridCol w="3095640"/>
                <a:gridCol w="309564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аздельн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литн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556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_…      ,а.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4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23" name="Двойная стрелка влево/вправо 12"/>
          <p:cNvSpPr/>
          <p:nvPr/>
        </p:nvSpPr>
        <p:spPr>
          <a:xfrm>
            <a:off x="2928960" y="3857760"/>
            <a:ext cx="642960" cy="71280"/>
          </a:xfrm>
          <a:prstGeom prst="leftRightArrow">
            <a:avLst>
              <a:gd name="adj1" fmla="val 50000"/>
              <a:gd name="adj2" fmla="val 50112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Арка 16"/>
          <p:cNvSpPr/>
          <p:nvPr/>
        </p:nvSpPr>
        <p:spPr>
          <a:xfrm>
            <a:off x="4857840" y="3429000"/>
            <a:ext cx="1357200" cy="50004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18"/>
          <p:cNvSpPr/>
          <p:nvPr/>
        </p:nvSpPr>
        <p:spPr>
          <a:xfrm>
            <a:off x="4857840" y="4572000"/>
            <a:ext cx="64296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21"/>
          <p:cNvSpPr/>
          <p:nvPr/>
        </p:nvSpPr>
        <p:spPr>
          <a:xfrm flipH="1">
            <a:off x="5357520" y="4572000"/>
            <a:ext cx="142920" cy="1429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2428560"/>
            <a:ext cx="8183520" cy="2289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е узкий, а широкий мост запланировали строител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03280" y="114300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е дорогая, а дешёвая игруш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еразборчивый почер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еряшливый ребёно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3840" y="530280"/>
            <a:ext cx="8929800" cy="5898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ние №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(Не)добрый, а злой; (не)жёсткий, (не)жаркий, (не)лепый, (не)хороший,(не)вежлив, а груб; (не)мелкий,  не робкий, а смелый; (не)грустный, (не)здоровый, (не)долгий, а быстрый, (не)громкий,                 (не)лёгкий, а тяжёлы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лан работы в паре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. Распределить словосочет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. Выполнить самостоятельно согласно правил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 Взаимопроверка по ключ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 Обсуждение, исправление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5. Выв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02920" y="530280"/>
            <a:ext cx="8211960" cy="582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е: 4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юч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ебольшой рассказ, небрежная походка, невкусный обед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едалёкая поляна, некрепкий чай, ненастная погода, несерьёзный разговор, неразлучные друзь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Домашнее задание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&amp; 71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, повторить правило, упражнение:408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13:06:19Z</dcterms:created>
  <dc:creator>Лена</dc:creator>
  <dc:description/>
  <dc:language>en-US</dc:language>
  <cp:lastModifiedBy>Лена</cp:lastModifiedBy>
  <dcterms:modified xsi:type="dcterms:W3CDTF">2014-04-18T17:01:54Z</dcterms:modified>
  <cp:revision>11</cp:revision>
  <dc:subject/>
  <dc:title>Он мне (не)друг, а просто сосед.  Причиной ошибок в диктанте была (не)внимательность.  Алёша принёс букет (не)забудок</dc:title>
</cp:coreProperties>
</file>