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9DE-9DCA-4003-9340-67CFA359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766-BE13-4788-8B52-3F10F9E4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0A5-11D7-45E8-8B4B-8D4182F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F38-1B54-464D-A612-7F9853B3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B95-12C1-4A1B-AF08-51F5ACB0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30B-FF06-4EF9-A597-DA4BDEC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9A4-AE7F-4D24-9253-63395A6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53A-8148-4CA1-B200-D9EFEFF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2B35-F75B-46FE-B331-0AE80241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31B2-EC09-464C-BFF6-CE95B85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4815-2858-4D0B-ACCA-6C83BE9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E8E-BCF4-4659-A923-1F14CE53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58A3-A812-4875-855F-AD6FCCB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9B78-DC17-4E9C-A630-C062791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39E6-4BC9-4B5E-A752-8D736A2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661-B49D-46DC-BC5E-84D792B0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D08-4C9A-43E2-B070-BBCEE5F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8E1F-E9A8-4CC2-B462-F4D81A79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7368-96F4-4E93-B5E9-1A7CB880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2E6C-9DC9-48B6-B6FA-8180FA38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B79C8-4748-4529-8012-38158726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2A53-3D7C-4FE7-9975-63F1990A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FEC-5E6E-4E82-9108-9A35789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F50B-B10C-4FE3-8325-3F3C9AE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C097-558C-4275-9C8A-B7A8D12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5469-C9C8-44FE-9E1E-2A9173E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0B00-BE29-450B-8F6A-35CDD24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9928-DEB5-4D98-A21D-D16D7866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9A88-DACA-47AD-9B31-CD8E1AA9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9F70-7277-4071-B118-0BEA252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942E-B752-4C30-810D-E37EE7CB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DC27-8E45-4A27-B4C9-41393CCF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5FD97-08D9-4823-AF37-1A18080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A8D-D089-477A-B872-2EEF783F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5BBF-CD0A-44C5-B534-16875DB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5B20-5908-4784-9C58-583E4DE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1906-54F9-4A74-989E-0AC93E8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9265-86C4-49AC-9D7F-E43D30C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63E1-EA7B-4550-9AA2-2C78214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D79E-FE0F-44EE-ACEB-FCAFE9E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E78F-40AB-4DC0-97F5-AB32E5F1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C357-9B9F-4D27-B0A2-11928A6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2692-21A3-40FF-8B93-EB2A1117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660D-0C04-4168-B291-D4C662B8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967-0D30-4453-B76E-713C1E6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1A77-6B3A-43A3-BBFC-E1EB0DA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C9D7-AA85-40C2-8163-A3328DD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6014-8AEE-4D61-9412-E4397B84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5B31-65EF-402A-B324-6E881A5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7C26-8D84-4C52-87E0-F6904F0C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42F0-6C57-4C85-BF01-7AE43F8E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1BA59-8534-4DE6-8C41-0531955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F64C-737C-4FAF-A043-D20C4BD4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4FE5-EB36-4637-B174-C925E5C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D4E7-5733-41B3-B552-21216E0C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3DD-74DF-4526-988A-1FBA3D1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4B76-C8E5-459B-90A7-75D11747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AEE-C715-4A81-93F5-365CD64C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F99-D1AD-4DEF-9BC7-3DBDAE8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5AD-2CD2-400C-BAC3-E1F89C7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FA8-F1B7-467B-B36A-DB843D4196A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134D-A30B-45EF-B5E7-60FF937C4A0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11A-6865-4B42-A276-0B8BEC956AB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3F18-645A-4597-8FB1-6BF39CA286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6006-FE0D-47EC-8540-B18689D503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4429080"/>
            <a:ext cx="835812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н мне (не)друг, а просто сосед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чиной ошибок в диктанте была (не)внимательность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ёша принёс букет (не)забудок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43040" y="1000080"/>
          <a:ext cx="6191280" cy="4524480"/>
        </p:xfrm>
        <a:graphic>
          <a:graphicData uri="http://schemas.openxmlformats.org/drawingml/2006/table">
            <a:tbl>
              <a:tblPr/>
              <a:tblGrid>
                <a:gridCol w="3095640"/>
                <a:gridCol w="30956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здель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литн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55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_…      ,а.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3" name="Двойная стрелка влево/вправо 12"/>
          <p:cNvSpPr/>
          <p:nvPr/>
        </p:nvSpPr>
        <p:spPr>
          <a:xfrm>
            <a:off x="2928960" y="3857760"/>
            <a:ext cx="642960" cy="71280"/>
          </a:xfrm>
          <a:prstGeom prst="leftRightArrow">
            <a:avLst>
              <a:gd name="adj1" fmla="val 50000"/>
              <a:gd name="adj2" fmla="val 5011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Арка 16"/>
          <p:cNvSpPr/>
          <p:nvPr/>
        </p:nvSpPr>
        <p:spPr>
          <a:xfrm>
            <a:off x="4857840" y="3429000"/>
            <a:ext cx="1357200" cy="5000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8"/>
          <p:cNvSpPr/>
          <p:nvPr/>
        </p:nvSpPr>
        <p:spPr>
          <a:xfrm>
            <a:off x="4857840" y="4572000"/>
            <a:ext cx="64296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1"/>
          <p:cNvSpPr/>
          <p:nvPr/>
        </p:nvSpPr>
        <p:spPr>
          <a:xfrm flipH="1">
            <a:off x="5357520" y="4572000"/>
            <a:ext cx="142920" cy="142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2428560"/>
            <a:ext cx="8183520" cy="228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е узкий, а широкий мост запланировали строител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114300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 дорогая, а дешёвая игруш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разборчивый почер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ряшливый ребён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3840" y="530280"/>
            <a:ext cx="8929800" cy="589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(Не)добрый, а злой; (не)жёсткий, (не)жаркий, (не)лепый, (не)хороший,(не)вежлив, а груб; (не)мелкий,  не робкий, а смелый; (не)грустный, (не)здоровый, (не)долгий, а быстрый, (не)громкий,                 (не)лёгкий, а тяжёлы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лан работы в пар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 Распределить словосочет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 Выполнить самостоятельно согласно правил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заимопроверка по ключ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бсуждение, исправлени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. Выв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02920" y="530280"/>
            <a:ext cx="821196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е: 4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юч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большой рассказ, небрежная походка, невкусный обед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далёкая поляна, некрепкий чай, ненастная погода, несерьёзный разговор, неразлучные друзь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&amp; 71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, повторить правило, упражнение:408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3:06:19Z</dcterms:created>
  <dc:creator>Лена</dc:creator>
  <dc:description/>
  <dc:language>en-US</dc:language>
  <cp:lastModifiedBy>Лена</cp:lastModifiedBy>
  <dcterms:modified xsi:type="dcterms:W3CDTF">2014-04-18T17:01:54Z</dcterms:modified>
  <cp:revision>11</cp:revision>
  <dc:subject/>
  <dc:title>Он мне (не)друг, а просто сосед.  Причиной ошибок в диктанте была (не)внимательность.  Алёша принёс букет (не)забудок</dc:title>
</cp:coreProperties>
</file>