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3FAB-2B26-4220-8D83-827EA242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C6F-A65B-4BFA-B4A1-12687F90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27C-5484-46E3-9765-54364946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7712-757D-49C5-8575-7C46D07D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C3A8-9E2C-4A2A-9E1E-8D67D0B2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CF19-5EB3-42B4-9D52-D7251E43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EA12-88CD-4DA5-A801-E8BBB94D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9E6D-CC17-487A-87DD-854130BD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97E5-5BB9-4893-9627-A99BD722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0E26-EBB4-4E60-9D16-FDBE2E1A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D18-A553-40AC-9BFD-D8015E0B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703-9A02-492C-982C-8525E702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83C9-5D5B-410F-93C1-948EAE34BD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15.jpg"/>
          <p:cNvPicPr/>
          <p:nvPr/>
        </p:nvPicPr>
        <p:blipFill>
          <a:blip r:embed="rId1"/>
          <a:stretch/>
        </p:blipFill>
        <p:spPr>
          <a:xfrm>
            <a:off x="0" y="-68400"/>
            <a:ext cx="9121680" cy="692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8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зентация к творческому проекту: «Золотая осень» (с использованием природного материала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240" y="42667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и воспитате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пшина М.С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днева Х.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4" descr="196994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8390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ид проекта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раткосрочный (2 неде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ель проек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пробудить познавательный процесс к миру живой природы, обобщить и закрепить знания детей о сезонных изменениях вообще и об ос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частники проек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дети средней группы,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и проек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учающие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ширять представления детей об осени, о сельскохозяйственных культурах, видах природного материала; формировать элементарные экологические предст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звивающие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вать эстетический вкус, воображение детей, мелкую моторику ру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спитывающ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воспитывать бережное отношение к природе; аккуратность; желание доводить процесс работы до конечного положительного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дварительная рабо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рассматривание иллюстраций «Осенних пейзажей»; чтение художественной литературы; беседы об овощах и фруктах, поспевающих осенью; сбор природного материала; наблюдение за осенними изменениями в живой и неживой природ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5" descr="196994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этап: Подготовитель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ет в себя: рассматривание иллюстраций «Осенних пейзажей»; чтение художественной литературы; беседы об овощах и фруктах, поспевающих осенью; сбор природного материала, сбор овощей с огорода группы ; наблюдение за осенними изменениями в живой и неживой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20160909_115608"/>
          <p:cNvPicPr/>
          <p:nvPr/>
        </p:nvPicPr>
        <p:blipFill>
          <a:blip r:embed="rId2"/>
          <a:stretch/>
        </p:blipFill>
        <p:spPr>
          <a:xfrm>
            <a:off x="5105520" y="3124080"/>
            <a:ext cx="2014560" cy="3581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20160914_110551"/>
          <p:cNvPicPr/>
          <p:nvPr/>
        </p:nvPicPr>
        <p:blipFill>
          <a:blip r:embed="rId3"/>
          <a:stretch/>
        </p:blipFill>
        <p:spPr>
          <a:xfrm>
            <a:off x="7077240" y="1143000"/>
            <a:ext cx="1885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5" descr="196994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ты, стихи про о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Осень – замечательная пора, красивая и волнующая пора. Золотой листопад, превращающийся в мягкий пушистый ковер под ногами навевает мысли о народных поверьях, тайнах, загадках и всяческих приметах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Приметы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Запоздалый листопад предвещает тяжелую, голодную и холодную зиму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Снег выпал ранней осенью – весна тоже наступит ранняя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Осенний закат золотится – хорошую погоду предвещает на следующий день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Рябина от тяжести клонит ветки к земле – дождливую осень предсказывает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Когда осенью грибники идут с пустыми корзинами, зима ожидается суровой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На березе листья начинают желтеть снизу – весна ожидается поздняя; если первой верхушка пожелтела – то ранняя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Запоздалый листопад предвещает тяжелую, голодную и холодную зиму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Стихи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1.       Вот на ветке лист кленовый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Нынче он совсем как новый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есь румяный, золотой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ы куда, листок? Постой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2.       Заглянула осень в сад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Птицы улетел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За окном с утра шурша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Желтые метел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Под ногами первый ле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Крошится, ломаетс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оробей в саду вздохнет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А запеть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Стесняетс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3.       В лесу заметней стала елка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Он прибран засветло и пуст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И оголенный, как метелка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Забитый грязью у проселка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Обдутый изморозью золкой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Дрожит, свистит лозовый куст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5" descr="196994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то сбор овощей и природного матери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7" descr="20160909_115508"/>
          <p:cNvPicPr/>
          <p:nvPr/>
        </p:nvPicPr>
        <p:blipFill>
          <a:blip r:embed="rId2"/>
          <a:stretch/>
        </p:blipFill>
        <p:spPr>
          <a:xfrm>
            <a:off x="4343400" y="4267080"/>
            <a:ext cx="3886200" cy="218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20160926_171006"/>
          <p:cNvPicPr/>
          <p:nvPr/>
        </p:nvPicPr>
        <p:blipFill>
          <a:blip r:embed="rId3"/>
          <a:stretch/>
        </p:blipFill>
        <p:spPr>
          <a:xfrm>
            <a:off x="2057400" y="3657600"/>
            <a:ext cx="2187720" cy="291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" descr="20160928_171632"/>
          <p:cNvPicPr/>
          <p:nvPr/>
        </p:nvPicPr>
        <p:blipFill>
          <a:blip r:embed="rId4"/>
          <a:stretch/>
        </p:blipFill>
        <p:spPr>
          <a:xfrm>
            <a:off x="4952880" y="1447920"/>
            <a:ext cx="2187720" cy="291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3" descr="20160928_171522"/>
          <p:cNvPicPr/>
          <p:nvPr/>
        </p:nvPicPr>
        <p:blipFill>
          <a:blip r:embed="rId5"/>
          <a:stretch/>
        </p:blipFill>
        <p:spPr>
          <a:xfrm>
            <a:off x="685800" y="1219320"/>
            <a:ext cx="21859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5" descr="196994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 этап: Основ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ет в себ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местная работа родителей и детей по созданию рисунков и поделок на тему «Золотая  осен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думывание объекта коллектив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бор природного материала для создани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готовление коллективной работы «Осеннее богат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5" descr="196994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 этап: Заключительны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ключает в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тавка рисунков «Дары осе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готовление коллективной поделки (из природного материала) «Осеннее богатст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презентации на тему «Золотая осен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5" descr="196994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местная работа родителей, воспитателей и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"/>
          <p:cNvPicPr/>
          <p:nvPr/>
        </p:nvPicPr>
        <p:blipFill>
          <a:blip r:embed="rId2"/>
          <a:stretch/>
        </p:blipFill>
        <p:spPr>
          <a:xfrm>
            <a:off x="380880" y="2362320"/>
            <a:ext cx="2186280" cy="2914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"/>
          <p:cNvPicPr/>
          <p:nvPr/>
        </p:nvPicPr>
        <p:blipFill>
          <a:blip r:embed="rId3"/>
          <a:stretch/>
        </p:blipFill>
        <p:spPr>
          <a:xfrm>
            <a:off x="2895480" y="42670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4"/>
          <a:stretch/>
        </p:blipFill>
        <p:spPr>
          <a:xfrm>
            <a:off x="6477120" y="2438280"/>
            <a:ext cx="2185920" cy="2914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5"/>
          <a:stretch/>
        </p:blipFill>
        <p:spPr>
          <a:xfrm>
            <a:off x="2895480" y="160020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6"/>
          <p:cNvSpPr/>
          <p:nvPr/>
        </p:nvSpPr>
        <p:spPr>
          <a:xfrm>
            <a:off x="6477120" y="419112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9T10:12:54Z</dcterms:created>
  <dc:creator>1</dc:creator>
  <dc:description/>
  <dc:language>en-US</dc:language>
  <cp:lastModifiedBy>моцарт</cp:lastModifiedBy>
  <dcterms:modified xsi:type="dcterms:W3CDTF">2016-09-29T16:19:10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