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A5CD-6FE5-4357-9F9D-A9C5E857D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A2D5-3305-4DF8-9BC3-6171E1F5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1C9A-CCEA-423D-B01E-0E416AB75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0315-9715-4FFA-99A3-E6D994B12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60D8-1767-4116-8A3A-79832F64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8B3C-8B26-46BE-B16D-D01EE536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DDA0-ABD6-4A08-BA1C-6448626A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D968-D359-4F24-9EE5-06BCF225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83A6-4163-4D02-88CC-CF623CFE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2CA1-FE5C-4E99-8DF4-B114DA87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682B-3287-4409-BE0C-806E20D5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FD59-10EB-4A15-BC67-7A3F71E7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9DF1-65DC-4953-A7E5-F135CF4F26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15.jpg"/>
          <p:cNvPicPr/>
          <p:nvPr/>
        </p:nvPicPr>
        <p:blipFill>
          <a:blip r:embed="rId1"/>
          <a:stretch/>
        </p:blipFill>
        <p:spPr>
          <a:xfrm>
            <a:off x="0" y="-68400"/>
            <a:ext cx="9121680" cy="692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8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зентация к творческому проекту: «Золотая осень» (с использованием природного материала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8240" y="4266720"/>
            <a:ext cx="84582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или воспитате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пшина М.С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днева Х.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16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4" descr="196994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4560" y="380880"/>
            <a:ext cx="88390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ид проекта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краткосрочный (2 недел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Цель проект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пробудить познавательный процесс к миру живой природы, обобщить и закрепить знания детей о сезонных изменениях вообще и об осе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Участники проект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дети средней группы, педаг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дачи проект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бучающие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ширять представления детей об осени, о сельскохозяйственных культурах, видах природного материала; формировать элементарные экологические представ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азвивающие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вать эстетический вкус, воображение детей, мелкую моторику ру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оспитывающа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воспитывать бережное отношение к природе; аккуратность; желание доводить процесс работы до конечного положительного результ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едварительная работ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рассматривание иллюстраций «Осенних пейзажей»; чтение художественной литературы; беседы об овощах и фруктах, поспевающих осенью; сбор природного материала; наблюдение за осенними изменениями в живой и неживой природ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5" descr="196994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этап: Подготовитель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5410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ключает в себя: рассматривание иллюстраций «Осенних пейзажей»; чтение художественной литературы; беседы об овощах и фруктах, поспевающих осенью; сбор природного материала, сбор овощей с огорода группы ; наблюдение за осенними изменениями в живой и неживой при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20160909_115608"/>
          <p:cNvPicPr/>
          <p:nvPr/>
        </p:nvPicPr>
        <p:blipFill>
          <a:blip r:embed="rId2"/>
          <a:stretch/>
        </p:blipFill>
        <p:spPr>
          <a:xfrm>
            <a:off x="5105520" y="3124080"/>
            <a:ext cx="2014560" cy="3581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" descr="20160914_110551"/>
          <p:cNvPicPr/>
          <p:nvPr/>
        </p:nvPicPr>
        <p:blipFill>
          <a:blip r:embed="rId3"/>
          <a:stretch/>
        </p:blipFill>
        <p:spPr>
          <a:xfrm>
            <a:off x="7077240" y="1143000"/>
            <a:ext cx="1885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5" descr="196994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меты, стихи про ос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Осень – замечательная пора, красивая и волнующая пора. Золотой листопад, превращающийся в мягкий пушистый ковер под ногами навевает мысли о народных поверьях, тайнах, загадках и всяческих приметах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Приметы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Запоздалый листопад предвещает тяжелую, голодную и холодную зиму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Снег выпал ранней осенью – весна тоже наступит ранняя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Осенний закат золотится – хорошую погоду предвещает на следующий день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Рябина от тяжести клонит ветки к земле – дождливую осень предсказывает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Когда осенью грибники идут с пустыми корзинами, зима ожидается суровой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На березе листья начинают желтеть снизу – весна ожидается поздняя; если первой верхушка пожелтела – то ранняя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Запоздалый листопад предвещает тяжелую, голодную и холодную зиму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Стихи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1.       Вот на ветке лист кленовый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Нынче он совсем как новый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Весь румяный, золотой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Ты куда, листок? Постой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2.       Заглянула осень в сад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Птицы улетел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За окном с утра шурша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Желтые метел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Под ногами первый ле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Крошится, ломается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Воробей в саду вздохнет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А запеть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Стесняется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3.       В лесу заметней стала елка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Он прибран засветло и пуст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И оголенный, как метелка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Забитый грязью у проселка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Обдутый изморозью золкой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Дрожит, свистит лозовый куст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5" descr="196994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ото сбор овощей и природного материа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7" descr="20160909_115508"/>
          <p:cNvPicPr/>
          <p:nvPr/>
        </p:nvPicPr>
        <p:blipFill>
          <a:blip r:embed="rId2"/>
          <a:stretch/>
        </p:blipFill>
        <p:spPr>
          <a:xfrm>
            <a:off x="4343400" y="4267080"/>
            <a:ext cx="3886200" cy="2186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" descr="20160926_171006"/>
          <p:cNvPicPr/>
          <p:nvPr/>
        </p:nvPicPr>
        <p:blipFill>
          <a:blip r:embed="rId3"/>
          <a:stretch/>
        </p:blipFill>
        <p:spPr>
          <a:xfrm>
            <a:off x="2057400" y="3657600"/>
            <a:ext cx="2187720" cy="2916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3" descr="20160928_171632"/>
          <p:cNvPicPr/>
          <p:nvPr/>
        </p:nvPicPr>
        <p:blipFill>
          <a:blip r:embed="rId4"/>
          <a:stretch/>
        </p:blipFill>
        <p:spPr>
          <a:xfrm>
            <a:off x="4952880" y="1447920"/>
            <a:ext cx="2187720" cy="2916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3" descr="20160928_171522"/>
          <p:cNvPicPr/>
          <p:nvPr/>
        </p:nvPicPr>
        <p:blipFill>
          <a:blip r:embed="rId5"/>
          <a:stretch/>
        </p:blipFill>
        <p:spPr>
          <a:xfrm>
            <a:off x="685800" y="1219320"/>
            <a:ext cx="218592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5" descr="196994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 этап: Основн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ключает в себ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вместная работа родителей и детей по созданию рисунков и поделок на тему «Золотая  осень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думывание объекта коллективной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бор природного материала для создани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готовление коллективной работы «Осеннее богатств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5" descr="196994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 этап: Заключительны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ключает в себ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тавка рисунков «Дары осен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готовление коллективной поделки (из природного материала) «Осеннее богатств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презентации на тему «Золотая осен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5" descr="196994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вместная работа родителей, воспитателей и де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"/>
          <p:cNvPicPr/>
          <p:nvPr/>
        </p:nvPicPr>
        <p:blipFill>
          <a:blip r:embed="rId2"/>
          <a:stretch/>
        </p:blipFill>
        <p:spPr>
          <a:xfrm>
            <a:off x="380880" y="2362320"/>
            <a:ext cx="2186280" cy="2914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"/>
          <p:cNvPicPr/>
          <p:nvPr/>
        </p:nvPicPr>
        <p:blipFill>
          <a:blip r:embed="rId3"/>
          <a:stretch/>
        </p:blipFill>
        <p:spPr>
          <a:xfrm>
            <a:off x="2895480" y="426708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"/>
          <p:cNvPicPr/>
          <p:nvPr/>
        </p:nvPicPr>
        <p:blipFill>
          <a:blip r:embed="rId4"/>
          <a:stretch/>
        </p:blipFill>
        <p:spPr>
          <a:xfrm>
            <a:off x="6477120" y="2438280"/>
            <a:ext cx="2185920" cy="2914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"/>
          <p:cNvPicPr/>
          <p:nvPr/>
        </p:nvPicPr>
        <p:blipFill>
          <a:blip r:embed="rId5"/>
          <a:stretch/>
        </p:blipFill>
        <p:spPr>
          <a:xfrm>
            <a:off x="2895480" y="1600200"/>
            <a:ext cx="2916360" cy="21877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6"/>
          <p:cNvSpPr/>
          <p:nvPr/>
        </p:nvSpPr>
        <p:spPr>
          <a:xfrm>
            <a:off x="6477120" y="4191120"/>
            <a:ext cx="2209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9T10:12:54Z</dcterms:created>
  <dc:creator>1</dc:creator>
  <dc:description/>
  <dc:language>en-US</dc:language>
  <cp:lastModifiedBy>моцарт</cp:lastModifiedBy>
  <dcterms:modified xsi:type="dcterms:W3CDTF">2016-09-29T16:19:10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