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7E7-320C-4C9F-8B5D-DC92CE07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530-17AC-4740-B015-53F95CD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A503-AD45-449A-B342-1F6C87AE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F00E-A60E-4F97-83F2-3C40D17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99608-A2F5-4CCB-9241-5CC7DD5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90FC-5A9B-45B8-B143-34AD0A8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3A10E-D866-4CA8-8A6A-5F4FFB9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21139-AC94-478D-ADA9-7C7BBFB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A7CC4-3FE9-4C05-B4CA-5A23331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E58A8-62B2-4F1B-9E4C-B388D873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26E0-C228-4C93-AEA5-F6D5B954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993-5E67-4035-A608-94AAC76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259-9008-4744-A970-36C7A71C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CE32-A013-4690-8B99-BDE5AD0E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F6B7-3719-4E2D-9BA7-0C98AB23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FC4-EEA3-4D6D-AA42-B0771AA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726-6A97-42EB-A1BB-E8C06726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9631-3D28-45A2-A13E-9964CA63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3D8-028B-42F2-BE5D-D441B09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F12-12F3-44DC-816E-C17F6D6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E0D-F965-49BA-A135-D5333F82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1A4C-D787-4FC5-9292-A61A9F2C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8B1D-5C1A-44BF-811F-7586009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40F8-49F4-45BE-A3CD-254EAF5E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909-8188-42C3-BD5A-1FFF28E4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12B-2E0E-4C35-AF62-78C11BD2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D9B9-B4BB-4227-96EA-4BE0F4EB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910A-C614-4EBF-839F-BDCD62B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0B10-06B6-4AD4-A249-B1143C0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27C9-7508-4CCD-ACEE-F4E8849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1442-AFD3-4B73-8525-F9640A1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8F6-E710-403D-9484-3C4E837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E27E-50B7-4DA6-949F-E42BA8B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D723-F588-483A-9464-3815E14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ABF0-5099-4412-907B-CD6963A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CE65-6751-4FB2-9141-58A72E06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7EAC-E310-411F-BF24-B42671DB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E9F1-B5C3-4867-951B-C7F30B3F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2632-333A-4DDB-8C40-E174FF02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A94A-E1F9-49DB-AA7A-454B4D53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E3A9-B0AA-45E4-9D51-09432AA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280A-27CC-472B-BBF2-1F0D202D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0EC-546E-4469-A5B3-E4DC6EC8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E4C4-7912-443F-BBC9-B4494053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4C5F-0381-449E-85CD-F405629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AC41-188A-4896-89ED-F70448C6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5459-69E0-4EB3-BB51-61243C5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E8A8-2C6B-4F0D-89EB-41058FA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A74C-7FEE-448A-9424-1A453072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5410F-797E-48AC-A35D-D1C755D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A1E0-D76A-4672-ADC6-39006270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6A86-4452-476E-B867-C4E1ED9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7E6A-DE56-4685-A384-24CF0873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53-05EA-4638-992B-47AB727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7428-B152-4E14-B575-34CA7A82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0DB3-0A7F-4A23-80C6-126E499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1038-F806-4A13-8670-0E70070B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1ED2-B40B-42F0-A072-59BADF2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DB5F9-F137-4B4A-888F-BA0D167E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85E1-611B-44A8-9689-A6AC8B03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F7134-A578-4455-AC90-55F2A88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8DE7-C389-4C4C-9542-D9970E5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2933-DF9D-4B16-B791-8FEF1D0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139C-42C9-4325-8F2E-7946DCD4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690-07AE-45A5-BDD3-C88FEE4F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3FBD-16A5-4FB4-BAAD-2D576839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C4F3-7A43-4ACB-B254-EA0C32A4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0E804-D850-4AC0-92BF-D69AE5E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2D52-FCB2-4169-8CC4-73D96CA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A3180-E153-4584-9212-63B1D5E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1409-E9BE-4B38-9CA6-CE57719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B9EA-FAB5-425D-9D53-8DE5B125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BF5C1-766E-4992-AA19-C7C5F76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9390-F179-4569-A333-D258A5E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14E2-FAB3-45EE-9B88-0B5A119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66A-FB72-4E44-A8F7-5FF4B1F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83155-9B9E-4358-83F1-60FE57B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6A56-7A69-41E0-9E86-C12B139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3B47-767D-442E-BBDA-D9DF66A7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36F7-7A81-41BF-81C2-C3A73FDF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85B5-2787-4E9F-9616-73BB259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53CB-898E-4AA3-A664-F580FC2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5101-5692-4D2A-A2BB-1DCDC998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3BBF-8283-4C4E-903C-F658FFD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10F2-0C05-4113-9D09-C9FFF50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7205-BEC5-4B39-ABF9-47DA363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480-6B7B-4525-84F3-7E1110C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F8EA-F01A-415C-9FC9-B044220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08771-22B7-4B2E-AC17-3CDC40A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2DD7-5FCD-4C22-A6E1-3EF1AE1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F9A9-10AC-450A-BA5D-7065CE4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C1EDC-EA07-4908-82D8-0D387871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856C-46F6-4A56-AE12-0BF2C636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37064-3A26-49F7-A769-53F0A42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B400-857F-4D7F-8B66-AEEF963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C5CF-5926-4718-B9C4-4FB012D8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9113E-4064-4F3A-87D7-33F2F7B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284-8F17-41C1-8A07-D7DD106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1358-A0E6-42DA-9412-1AADF454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D0E1-15B6-493A-ADDA-08C73EE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40E5-7413-4E39-927D-338FCF3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319C-FD52-4B6F-A872-8807962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93FBC-EBB9-45E3-BF6B-4B29962D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58F8-E4C4-42D2-B889-8E8811EE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C7BE-F9F5-47BF-AB43-74FA787A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FC459-2FC5-4D02-BAB3-340A9CB8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EF5C-947B-4DFB-B423-7C93839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BF42D-BC16-4FDF-BE75-7218C007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E40-A05C-4E24-8B3A-1DA8C7C39D4E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B5B-CBFA-491A-B047-50C56842AF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7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68bc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ED8-7DCC-494A-BEED-4A374C32ED0C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4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6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68bc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6F4-5623-47AF-B233-8706D251F61F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C47-DD66-414D-9356-9B3C9E502B1D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6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3bac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7cb7f8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037-FA04-4125-8EB4-3A7343C60132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0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1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160-066A-4FAB-896D-B438DD76EB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7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7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8912-A758-4F32-9DAF-2EB785BFFD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2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2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9B06-78CB-4047-A6D5-CF1DB1104F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00120" y="10000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bcd"/>
                </a:solidFill>
                <a:latin typeface="Corbel"/>
              </a:rPr>
              <a:t>Инновационные подходы организации учебного занятия</a:t>
            </a:r>
            <a:endParaRPr b="0" lang="en-US" sz="40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00120" y="342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f80"/>
                </a:solidFill>
                <a:latin typeface="Corbel"/>
              </a:rPr>
              <a:t>Понятие инновационной деятельности. Инновационная система учреждения дополнительного образования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3576600" y="5300640"/>
            <a:ext cx="30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Arial"/>
              </a:rPr>
              <a:t>Окружной сем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Arial"/>
              </a:rPr>
              <a:t>16.11.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cd"/>
                </a:solidFill>
                <a:latin typeface="Corbel"/>
              </a:rPr>
              <a:t>Модель инновационного процесса</a:t>
            </a:r>
            <a:endParaRPr b="0" lang="en-US" sz="3600" spc="-1" strike="noStrike">
              <a:solidFill>
                <a:srgbClr val="002bcd"/>
              </a:solidFill>
              <a:latin typeface="Corbel"/>
            </a:endParaRPr>
          </a:p>
        </p:txBody>
      </p:sp>
      <p:pic>
        <p:nvPicPr>
          <p:cNvPr id="475" name="Схема 2" descr=""/>
          <p:cNvPicPr/>
          <p:nvPr/>
        </p:nvPicPr>
        <p:blipFill>
          <a:blip r:embed="rId1"/>
          <a:stretch/>
        </p:blipFill>
        <p:spPr>
          <a:xfrm>
            <a:off x="2077920" y="1427040"/>
            <a:ext cx="6230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Схема 4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69310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1214280" y="1143000"/>
            <a:ext cx="771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ка нельзя «сделать», «произвести, «вылепить» как вещь, как продукт, как пассивный результат извне, но можно только обусловить его включение в деятельность, вызвать его собственную активность и исключительно через механизм этой его собственной (совместно с другими людьми деятельности он формируется в то, что делает его эта деяте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.С. Батищ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1254240" y="836640"/>
            <a:ext cx="6730920" cy="1420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2846160" cy="701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7297560" cy="854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"/>
          <p:cNvPicPr/>
          <p:nvPr/>
        </p:nvPicPr>
        <p:blipFill>
          <a:blip r:embed="rId4"/>
          <a:stretch/>
        </p:blipFill>
        <p:spPr>
          <a:xfrm>
            <a:off x="758880" y="4149720"/>
            <a:ext cx="642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TextBox 1" descr=""/>
          <p:cNvPicPr/>
          <p:nvPr/>
        </p:nvPicPr>
        <p:blipFill>
          <a:blip r:embed="rId1"/>
          <a:stretch/>
        </p:blipFill>
        <p:spPr>
          <a:xfrm>
            <a:off x="208080" y="189000"/>
            <a:ext cx="8723160" cy="1315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320364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TextBox 3" descr=""/>
          <p:cNvPicPr/>
          <p:nvPr/>
        </p:nvPicPr>
        <p:blipFill>
          <a:blip r:embed="rId2"/>
          <a:stretch/>
        </p:blipFill>
        <p:spPr>
          <a:xfrm>
            <a:off x="706320" y="1359000"/>
            <a:ext cx="7602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extBox 2" descr=""/>
          <p:cNvPicPr/>
          <p:nvPr/>
        </p:nvPicPr>
        <p:blipFill>
          <a:blip r:embed="rId1"/>
          <a:stretch/>
        </p:blipFill>
        <p:spPr>
          <a:xfrm>
            <a:off x="603360" y="103320"/>
            <a:ext cx="8004240" cy="156672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547640"/>
            <a:ext cx="73947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extBox 1" descr=""/>
          <p:cNvPicPr/>
          <p:nvPr/>
        </p:nvPicPr>
        <p:blipFill>
          <a:blip r:embed="rId1"/>
          <a:stretch/>
        </p:blipFill>
        <p:spPr>
          <a:xfrm>
            <a:off x="706320" y="-19080"/>
            <a:ext cx="7877160" cy="15732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2"/>
          <p:cNvSpPr/>
          <p:nvPr/>
        </p:nvSpPr>
        <p:spPr>
          <a:xfrm>
            <a:off x="324000" y="1268280"/>
            <a:ext cx="8496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передачи функции от педагога к обучающему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бучает детей осуществлять рефлексивное 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ются задачи и четкие критерии самоконтроля и самооц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нициативы и самостоятельности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репродуктивной и проблемной форм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бивается осмысления учебного материала всеми воспитанн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стремится оценивать реальное продвижение каждого обучающего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бучает воспитанников ставить и адресовать вопро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ринимает позицию ребенка, обучает корректным формам ее выра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, тон отношений на занятии, создают атмосферу сотрудничества и психологического комфо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5:45:27Z</dcterms:created>
  <dc:creator>1</dc:creator>
  <dc:description/>
  <dc:language>en-US</dc:language>
  <cp:lastModifiedBy>Сазонова Н.Б.</cp:lastModifiedBy>
  <dcterms:modified xsi:type="dcterms:W3CDTF">2016-09-29T10:42:02Z</dcterms:modified>
  <cp:revision>50</cp:revision>
  <dc:subject/>
  <dc:title>Инновационные подходы организации учебного занятия</dc:title>
</cp:coreProperties>
</file>