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DBC-BD93-4D1C-9EF0-E86329F1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2FC-4826-41EF-B34A-98B9727C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705D6-33F5-4205-95B4-80EA7E91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40A1B-330B-4C8B-AE89-D9D131B5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50285-A842-4A7B-A398-953D3D27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E0011-2C65-4E49-B465-BADE8B3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BF7D1-DA2C-46C2-A50B-B6478064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6E5AC-C4E4-4B58-BECD-686B858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6F1BE-4F3D-4BB8-9A30-8FF1ADED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30344-C38A-4B7F-AEF9-8171D6D3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E7C02-C83F-4A47-B458-F2DDA7C2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BBE-A205-43DC-925F-D3FB9674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EA0-0195-4623-BD23-D3795327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B46C-ABB0-4ABB-8074-3E558EE0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6582-67DB-42D6-AE75-F55F70D1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E314-C2E6-4C8C-9244-D19C949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79F1-F5E7-48ED-B3F9-6396A555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E528-5131-4DE3-B138-4F63051A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D9DB-193A-4C11-AFDC-BE5DC780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FD28-12AC-456A-9789-2E9E7528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E2E-E128-4149-A9F0-88B2CD1A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1637-C78E-4FFA-9BC7-0ED0F2E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E338-7295-402E-9A82-0C222E3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6C9D-8689-4ABE-8C7D-F9C1E6DF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951E-8799-4AF0-A056-0C98236D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F091-12A2-4370-8F7C-7297E585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6A31-6705-44F1-B645-8BA15D1A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2F89-4540-4EBB-873B-F4B4B83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2E67-5D82-42E4-A1AB-30FC0818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B9D2-7B71-443B-A754-196F05B9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051F-A0A1-45F6-90FA-DA102178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465-C795-4EB5-A63C-772D6808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E053-B6FC-489A-B78E-4C1A9896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723C-6E8D-4ABD-A16B-365677F4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94A1-6924-4C47-978E-2086723C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5D30-17ED-48F4-94F0-76D2459D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57937-C0B2-4076-86C1-A5FE51C2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0018-95FC-4A20-ADBD-E6AEDD23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FCF5-EFC0-4A7D-BB54-973808D7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D906-EC8F-4250-AE2A-CF2F1A65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8C2B-9071-442A-8143-8AE7F308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7C47-6F6D-4261-9DFB-EB4261DB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01E-9916-47D0-8AEF-75353DA2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E47A-9227-4FC8-A680-0E09DAF6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08A4-8F03-4F13-835B-4B58E84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6E85-1C5C-4A1F-9B36-8D007233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2579-04B1-43C1-98AD-B2F392C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5D5C-08EC-4B77-9728-433196E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5864-36C8-4CCB-838D-3EFE75B5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487A-A11E-4DEC-8F13-F0D49DC0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9819-68C3-41C3-93E9-7DBF6813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6D5E-69E8-4572-A3E6-C4F16DFE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0812-A6A6-4470-9727-8DCCE046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AEF-A5A4-41F3-91FD-5D3D06B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A2AD-045E-4FD6-A8C1-A076962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F51E7-8E17-420D-BBBA-0AE6E64D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19BB3-9F2F-4CDA-8F26-1293CA62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35E5-7D59-48E5-9E12-9F86C1C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5BEF-2F52-440F-B7FD-930D613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F5AF-EE58-4B6F-B734-37FE039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927F-C122-42D8-8247-3D10D83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EF9A5-84F4-4675-A036-9D5190B7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F3765-BC0A-4191-A989-5A01297D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4454C-C60D-4DC3-970C-FA1B7603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395-093B-4905-8D7B-5181FE21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95FC-0DA9-4A85-8C0B-FBABE22B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1D33-7EE5-434F-9D1C-902EAE53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43726-35A1-4C9D-A871-A1A4D290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72A22-8578-4007-92E3-AB01ECA9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0D3E5-2BDA-4DBC-8096-68B37C18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54DD-BCBD-42A7-92CC-080F05BB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DFBD9-93F7-4C43-8364-ED0CF57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0256F-62B6-432E-9024-8A96D17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F1C0-298E-44E6-8764-EA73A5AF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B790-6BFB-42DB-8C8C-CA3A7DD2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47A-96F4-4259-89FE-D75C1DE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0D706-D53C-4181-BF02-8B62612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74FA-1F8B-4B94-A8F1-A6F54229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B67A-D1A4-4343-8127-66806EF9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29AB-9A91-4B64-B365-1D97F658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B59F3-D37F-487E-9C67-846142C5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E9119-9166-4F80-8662-3F005805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4658-0E93-4B9B-B1E6-D4F9B94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071B9-BEBE-454A-9F8F-8E1E7ABE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024D-720B-4AE3-B6F0-D2F44D20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A6DE5-0F76-4C41-B805-6F10836F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3D5-4BCD-447D-B325-3CD7429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97474-77F2-4417-8279-161A9E3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208B-A12A-470C-84C7-3A044F6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0FFD8-7E95-4ED3-835D-B7BF3FE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46EB1-8DA6-4869-BB03-D2F75CA7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82382-266D-40C4-B0F1-91A6946B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EA81-035A-42A4-B67D-4591DFD5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30CA-393D-44EA-967C-4E3C65A6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B1BBA-CF4F-410E-BCB3-6447BEA4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BA4E7-095E-4CC6-9762-A01624B9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2952E-D10C-48C6-BC96-A5618D8B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551-E3E2-4FEF-8CD5-A95954A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54E1E-3E5B-41CC-8AA9-E95D50C1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BFA3-158A-4C1A-8BF4-B162789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CA2E-D657-44F6-96F1-C7EB0A8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EDF4D-B384-4B48-BD00-EBCA426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99D69-F91F-4583-93FC-42256B98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ED70B-4619-42D7-A16F-191EEBCA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AEE0-4919-4ED5-870C-FD763C3D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D7805-17B3-443E-8BA0-8F72BFF2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C4C14-D067-412F-ADE3-E6D7A694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7E1BA-8404-4DD7-BC13-07A12E2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5914-F83B-4494-809F-B065C8BA3BC9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D4C-C844-40E5-8E39-7BD89A188FD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2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7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68bc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DF9-8408-4045-8CD5-338F712AB1AD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4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6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68bc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1866-9950-448D-A46F-345F0395D5B4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8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5A6D-4437-466B-8E39-24A7339A8BC6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2886"/>
            </a:gs>
            <a:gs pos="100000">
              <a:srgbClr val="de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e5f2ff">
              <a:alpha val="33000"/>
            </a:srgbClr>
          </a:solidFill>
          <a:ln cap="rnd" w="3240">
            <a:solidFill>
              <a:srgbClr val="34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2d9ff"/>
            </a:solidFill>
            <a:miter/>
          </a:ln>
          <a:effectLst>
            <a:outerShdw dist="12600" dir="5400000" blurRad="0" rotWithShape="0">
              <a:srgbClr val="4284c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58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5577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6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3bac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7cb7f8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bc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f9ee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f9ee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7b5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4a8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8b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83e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b83e5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1BB-EED5-4062-9217-AC911EBF3D3C}" type="slidenum">
              <a:rPr b="0" lang="ru-RU" sz="1200" spc="-1" strike="noStrike">
                <a:solidFill>
                  <a:srgbClr val="2b83e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0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12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16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09D7-F6E3-402E-A42E-CFA70065E07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6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6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6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370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373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77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608A-9A84-4066-B1A5-86AA25B9C4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42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2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2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07B8-2ABE-4DEE-BB94-B22820CFC34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00120" y="10000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bcd"/>
                </a:solidFill>
                <a:latin typeface="Corbel"/>
              </a:rPr>
              <a:t>Инновационные подходы организации учебного занятия</a:t>
            </a:r>
            <a:endParaRPr b="0" lang="en-US" sz="4000" spc="-1" strike="noStrike">
              <a:solidFill>
                <a:srgbClr val="002bcd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00120" y="3429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f80"/>
                </a:solidFill>
                <a:latin typeface="Corbel"/>
              </a:rPr>
              <a:t>Понятие инновационной деятельности. Инновационная система учреждения дополнительного образования де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3576600" y="5300640"/>
            <a:ext cx="30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Arial"/>
              </a:rPr>
              <a:t>Окружной сем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36b3"/>
                </a:solidFill>
                <a:latin typeface="Arial"/>
              </a:rPr>
              <a:t>16.11.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bcd"/>
                </a:solidFill>
                <a:latin typeface="Corbel"/>
              </a:rPr>
              <a:t>Модель инновационного процесса</a:t>
            </a:r>
            <a:endParaRPr b="0" lang="en-US" sz="3600" spc="-1" strike="noStrike">
              <a:solidFill>
                <a:srgbClr val="002bcd"/>
              </a:solidFill>
              <a:latin typeface="Corbel"/>
            </a:endParaRPr>
          </a:p>
        </p:txBody>
      </p:sp>
      <p:pic>
        <p:nvPicPr>
          <p:cNvPr id="475" name="Схема 2" descr=""/>
          <p:cNvPicPr/>
          <p:nvPr/>
        </p:nvPicPr>
        <p:blipFill>
          <a:blip r:embed="rId1"/>
          <a:stretch/>
        </p:blipFill>
        <p:spPr>
          <a:xfrm>
            <a:off x="2077920" y="1427040"/>
            <a:ext cx="62308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Схема 4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69310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1214280" y="1143000"/>
            <a:ext cx="7715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Человека нельзя «сделать», «произвести, «вылепить» как вещь, как продукт, как пассивный результат извне, но можно только обусловить его включение в деятельность, вызвать его собственную активность и исключительно через механизм этой его собственной (совместно с другими людьми деятельности он формируется в то, что делает его эта деятель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.С. Батищ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1254240" y="836640"/>
            <a:ext cx="6730920" cy="14209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2846160" cy="701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7297560" cy="854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"/>
          <p:cNvPicPr/>
          <p:nvPr/>
        </p:nvPicPr>
        <p:blipFill>
          <a:blip r:embed="rId4"/>
          <a:stretch/>
        </p:blipFill>
        <p:spPr>
          <a:xfrm>
            <a:off x="758880" y="4149720"/>
            <a:ext cx="642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TextBox 1" descr=""/>
          <p:cNvPicPr/>
          <p:nvPr/>
        </p:nvPicPr>
        <p:blipFill>
          <a:blip r:embed="rId1"/>
          <a:stretch/>
        </p:blipFill>
        <p:spPr>
          <a:xfrm>
            <a:off x="208080" y="189000"/>
            <a:ext cx="8723160" cy="13158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3203640" y="2492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TextBox 3" descr=""/>
          <p:cNvPicPr/>
          <p:nvPr/>
        </p:nvPicPr>
        <p:blipFill>
          <a:blip r:embed="rId2"/>
          <a:stretch/>
        </p:blipFill>
        <p:spPr>
          <a:xfrm>
            <a:off x="706320" y="1359000"/>
            <a:ext cx="7602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extBox 2" descr=""/>
          <p:cNvPicPr/>
          <p:nvPr/>
        </p:nvPicPr>
        <p:blipFill>
          <a:blip r:embed="rId1"/>
          <a:stretch/>
        </p:blipFill>
        <p:spPr>
          <a:xfrm>
            <a:off x="603360" y="103320"/>
            <a:ext cx="8004240" cy="1566720"/>
          </a:xfrm>
          <a:prstGeom prst="rect">
            <a:avLst/>
          </a:prstGeom>
          <a:ln w="0">
            <a:noFill/>
          </a:ln>
        </p:spPr>
      </p:pic>
      <p:pic>
        <p:nvPicPr>
          <p:cNvPr id="486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547640"/>
            <a:ext cx="73947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TextBox 1" descr=""/>
          <p:cNvPicPr/>
          <p:nvPr/>
        </p:nvPicPr>
        <p:blipFill>
          <a:blip r:embed="rId1"/>
          <a:stretch/>
        </p:blipFill>
        <p:spPr>
          <a:xfrm>
            <a:off x="706320" y="-19080"/>
            <a:ext cx="7877160" cy="15732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2"/>
          <p:cNvSpPr/>
          <p:nvPr/>
        </p:nvSpPr>
        <p:spPr>
          <a:xfrm>
            <a:off x="324000" y="1268280"/>
            <a:ext cx="8496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передачи функции от педагога к обучающему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обучает детей осуществлять рефлексивное действ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ются задачи и четкие критерии самоконтроля и самооце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нициативы и самостоятельности воспитан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 репродуктивной и проблемной формы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бивается осмысления учебного материала всеми воспитанн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стремится оценивать реальное продвижение каждого обучающего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обучает воспитанников ставить и адресовать вопро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ринимает позицию ребенка, обучает корректным формам ее выра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, тон отношений на занятии, создают атмосферу сотрудничества и психологического комфор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5:45:27Z</dcterms:created>
  <dc:creator>1</dc:creator>
  <dc:description/>
  <dc:language>en-US</dc:language>
  <cp:lastModifiedBy>Сазонова Н.Б.</cp:lastModifiedBy>
  <dcterms:modified xsi:type="dcterms:W3CDTF">2016-09-29T10:42:02Z</dcterms:modified>
  <cp:revision>50</cp:revision>
  <dc:subject/>
  <dc:title>Инновационные подходы организации учебного занятия</dc:title>
</cp:coreProperties>
</file>