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E53-2D0D-48B9-A374-5B95C6B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82E-D927-45C2-A9FB-CB0AD16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DB7-BA31-4A7C-BB06-462C181C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67B-8783-4027-8529-23C15D0A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A375-E9E0-4436-94A3-E6CBC59C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D94-1E90-4C9C-B18D-5FD198C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1759-F628-4755-9D18-8168B40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045-AFB4-4F15-9ABB-F70E2F6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8B96-E141-4D8B-A25C-7FDA7D3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55F-E2E5-4964-8FC7-606A4E4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43CD-C524-4A10-ABD8-9A38582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73-F77F-444A-BF2E-62655A3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9402-3E99-4DF6-AC78-F64A5A2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F204-F403-4C29-B64E-F0CD73C2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AE8-7E30-4E6C-B86D-646BD0C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ABBA-8F39-46A8-846D-E9EAC353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67B2-6E36-452F-9096-BAA398FB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99C-517C-4C49-9261-B31F2441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6D0-26F9-4BA8-B197-832982D3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A52-6222-4573-A4C9-53E7FC0B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8F7-01BE-4A1F-B750-8FF3C46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AC2-FEFE-4244-BD5C-7C4EC22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DB5-EE15-4645-A306-106BC4E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B34-8837-4201-B7AB-0B38A75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ACD-5541-4E19-8D0E-2F991872B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C45-AB15-48C0-8C6C-B56EB1E2E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7139/&#1057;&#1080;&#1089;&#1090;&#1077;&#1084;&#1072;" TargetMode="External"/><Relationship Id="rId3" Type="http://schemas.openxmlformats.org/officeDocument/2006/relationships/hyperlink" Target="http://psychology_pedagogy.academic.ru/6405/&#1047;&#1072;&#1076;&#1072;&#1095;&#1072;" TargetMode="External"/><Relationship Id="rId4" Type="http://schemas.openxmlformats.org/officeDocument/2006/relationships/hyperlink" Target="http://psychology_pedagogy.academic.ru/20182/&#1062;&#1045;&#1051;&#1068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8466/&#1058;&#1077;&#1088;&#1084;&#1080;&#1085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472/&#1040;&#1082;&#1094;&#1077;&#1085;&#1090;" TargetMode="External"/><Relationship Id="rId3" Type="http://schemas.openxmlformats.org/officeDocument/2006/relationships/hyperlink" Target="http://psychology_pedagogy.academic.ru/6714/&#1047;&#1085;&#1072;&#1095;&#1077;&#1085;&#1080;&#1077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1432/&#1054;&#1073;&#1091;&#1095;&#1077;&#1085;&#1080;&#1077;" TargetMode="External"/><Relationship Id="rId3" Type="http://schemas.openxmlformats.org/officeDocument/2006/relationships/hyperlink" Target="http://psychology_pedagogy.academic.ru/5765/&#1044;&#1080;&#1076;&#1072;&#1082;&#1090;&#1080;&#1095;&#1077;&#1089;&#1082;&#1080;&#1081;" TargetMode="External"/><Relationship Id="rId4" Type="http://schemas.openxmlformats.org/officeDocument/2006/relationships/hyperlink" Target="http://psychology_pedagogy.academic.ru/12161/&#1055;&#1072;&#1083;&#1086;&#1095;&#1082;&#1080;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5682/&#1044;&#1077;&#1103;&#1090;&#1077;&#1083;&#1100;&#1085;&#1086;&#1089;&#1090;&#1100;" TargetMode="External"/><Relationship Id="rId3" Type="http://schemas.openxmlformats.org/officeDocument/2006/relationships/hyperlink" Target="http://psychology_pedagogy.academic.ru/10301/&#1052;&#1091;&#1079;&#1099;&#1082;&#1072;" TargetMode="External"/><Relationship Id="rId4" Type="http://schemas.openxmlformats.org/officeDocument/2006/relationships/hyperlink" Target="http://psychology_pedagogy.academic.ru/15656/&#1057;&#1074;&#1103;&#1079;&#1100;" TargetMode="External"/><Relationship Id="rId5" Type="http://schemas.openxmlformats.org/officeDocument/2006/relationships/hyperlink" Target="http://psychology_pedagogy.academic.ru/20467/&#1063;&#1091;&#1074;&#1089;&#1090;&#1074;&#1077;&#1085;&#1085;&#1099;&#1081;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9256/&#1059;&#1095;&#1072;&#1089;&#1090;&#1080;&#1077;" TargetMode="External"/><Relationship Id="rId3" Type="http://schemas.openxmlformats.org/officeDocument/2006/relationships/hyperlink" Target="http://psychology_pedagogy.academic.ru/5512/&#1044;&#1077;&#1084;&#1086;&#1085;&#1089;&#1090;&#1088;&#1072;&#1094;&#1080;&#1103;" TargetMode="External"/><Relationship Id="rId4" Type="http://schemas.openxmlformats.org/officeDocument/2006/relationships/hyperlink" Target="http://psychology_pedagogy.academic.ru/15363/&#1088;&#1091;&#1082;&#1086;&#1074;&#1086;&#1076;&#1089;&#1090;&#1074;&#1086;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y_pedagogy.academic.ru/13494/&#1055;&#1088;&#1080;&#1085;&#1094;&#1080;&#1087;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истема Фребеля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истема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 воспитания,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ная немецким педагогом и теоретиком дошкольного во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я Фридрихом Фребелем ( 1782— 185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бель являетсяоснователем первых детских са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задач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х заключалась в обучении и воспитании дете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ц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ла в содействии развитию при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х способностей 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451640" y="260280"/>
            <a:ext cx="14814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 растут как цве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сюд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терм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детский сад») и задача воспитателей в том, чтобы заботиться о них и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ствовать их наиболее полному раскрыт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14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системе воспитания Фребеля глав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акц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ся на активности самого ребенка, на необходимости побуждения и организации его собственной 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 в воспитании детей дошкольного возраста подчеркивается огромное воспитательное 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знач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547640" y="3213000"/>
            <a:ext cx="5616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Обуч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 в детских садах Фребеля построено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 системе игр с конкретным дидактическим материалом. Фребель 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л свой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идактиче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 (так наз. «дары Фребеля»), куда входили предметы, различающиеся по цвету, форме, величине и по способу действия с ними: вязаные шарики всех цветов; кубы и цилиндры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чи разных цветов и размеров; куб, разделенный на 8кубиков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палоч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 выкладывания; бумажные полоски для плетения и аппликаций и 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450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 место в системе воспитания Фребеля занимает художественная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й: рисование, лепка, аппликац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музы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 стих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м принципом  является сочетание действия или чувственного впечатления со слово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вяз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 слов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т действия ребенка и е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чувствен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 осмысленным и осознанным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3384720" cy="252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292720" y="3860640"/>
            <a:ext cx="2808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бель предполагает активное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участ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 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 ребенка: передача «даров»,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емонстра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ов действия с ними, стишки и песенки -все это исходит от воспитателя. Н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руковод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 основано на уважении к ребенку и на учете его интересов.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050920" y="2924280"/>
            <a:ext cx="54738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723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663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ринци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 и активности самого ребенка оказался наруш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м. В результате эти занятия утратили свой ра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ва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ффек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 система Фребел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ла массу критики 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ал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зм, дидактизм, излишнюю регламентацию деятельности детей. Вместе с тем основные теоретические и методические принципы системы Фребеля  остаютс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уальными в настояще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рем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 использу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 в современной практике дошкольной педаг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19:29:48Z</dcterms:created>
  <dc:creator>Твоя Техника</dc:creator>
  <dc:description/>
  <dc:language>en-US</dc:language>
  <cp:lastModifiedBy>Твоя Техника</cp:lastModifiedBy>
  <dcterms:modified xsi:type="dcterms:W3CDTF">2016-05-23T18:59:13Z</dcterms:modified>
  <cp:revision>3</cp:revision>
  <dc:subject/>
  <dc:title>Эстетическое воспитание</dc:title>
</cp:coreProperties>
</file>