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9F6-0312-4402-8CFA-10198612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EFB-1B94-4CEF-B037-171E175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5CA-0F81-49E0-A018-56BF3049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D0A-3FC2-4580-82A7-01E65607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35B-8A8B-40F6-96C8-0BC93594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AFB-5851-4A5A-B0C9-1D48C33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513-1E0E-4D98-A008-1ABD6D16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639B-CF17-49E2-855C-2183107D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8B3D-EFAD-4AB9-8B21-A09AF092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EEB9-1924-4808-BA9B-D6A97CB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DF9F-DF29-443C-B9B2-F05185E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1A9-7EBE-405C-AB11-91415028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0E70-0157-4B62-8210-4776D0F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CBD-0F3C-4E91-AD99-D417721A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CF7-FBF7-4AD5-8500-6B44E5F0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A2E-BD5F-42F5-B072-E20B2FBB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839-FAD9-467C-ABC6-32577F3B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638-8723-435D-984F-EF9E0ED6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3D3-A1AF-4FD5-8353-89CD8533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FF5-58A4-4B15-B2A2-A32C184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6BE-F427-442D-9804-3D981AC9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FC6-313E-4FA2-B9E2-212DB85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ED0-B9B3-4EC0-B556-A6CBEE4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EFB-45C7-421F-A0AD-AE2A312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5430-C2DC-4952-98F2-C7A8DE8E6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E999-C3C6-4E0B-A20A-97CBD5C35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7139/&#1057;&#1080;&#1089;&#1090;&#1077;&#1084;&#1072;" TargetMode="External"/><Relationship Id="rId3" Type="http://schemas.openxmlformats.org/officeDocument/2006/relationships/hyperlink" Target="http://psychology_pedagogy.academic.ru/6405/&#1047;&#1072;&#1076;&#1072;&#1095;&#1072;" TargetMode="External"/><Relationship Id="rId4" Type="http://schemas.openxmlformats.org/officeDocument/2006/relationships/hyperlink" Target="http://psychology_pedagogy.academic.ru/20182/&#1062;&#1045;&#1051;&#1068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8466/&#1058;&#1077;&#1088;&#1084;&#1080;&#1085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472/&#1040;&#1082;&#1094;&#1077;&#1085;&#1090;" TargetMode="External"/><Relationship Id="rId3" Type="http://schemas.openxmlformats.org/officeDocument/2006/relationships/hyperlink" Target="http://psychology_pedagogy.academic.ru/6714/&#1047;&#1085;&#1072;&#1095;&#1077;&#1085;&#1080;&#1077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1432/&#1054;&#1073;&#1091;&#1095;&#1077;&#1085;&#1080;&#1077;" TargetMode="External"/><Relationship Id="rId3" Type="http://schemas.openxmlformats.org/officeDocument/2006/relationships/hyperlink" Target="http://psychology_pedagogy.academic.ru/5765/&#1044;&#1080;&#1076;&#1072;&#1082;&#1090;&#1080;&#1095;&#1077;&#1089;&#1082;&#1080;&#1081;" TargetMode="External"/><Relationship Id="rId4" Type="http://schemas.openxmlformats.org/officeDocument/2006/relationships/hyperlink" Target="http://psychology_pedagogy.academic.ru/12161/&#1055;&#1072;&#1083;&#1086;&#1095;&#1082;&#1080;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5682/&#1044;&#1077;&#1103;&#1090;&#1077;&#1083;&#1100;&#1085;&#1086;&#1089;&#1090;&#1100;" TargetMode="External"/><Relationship Id="rId3" Type="http://schemas.openxmlformats.org/officeDocument/2006/relationships/hyperlink" Target="http://psychology_pedagogy.academic.ru/10301/&#1052;&#1091;&#1079;&#1099;&#1082;&#1072;" TargetMode="External"/><Relationship Id="rId4" Type="http://schemas.openxmlformats.org/officeDocument/2006/relationships/hyperlink" Target="http://psychology_pedagogy.academic.ru/15656/&#1057;&#1074;&#1103;&#1079;&#1100;" TargetMode="External"/><Relationship Id="rId5" Type="http://schemas.openxmlformats.org/officeDocument/2006/relationships/hyperlink" Target="http://psychology_pedagogy.academic.ru/20467/&#1063;&#1091;&#1074;&#1089;&#1090;&#1074;&#1077;&#1085;&#1085;&#1099;&#1081;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9256/&#1059;&#1095;&#1072;&#1089;&#1090;&#1080;&#1077;" TargetMode="External"/><Relationship Id="rId3" Type="http://schemas.openxmlformats.org/officeDocument/2006/relationships/hyperlink" Target="http://psychology_pedagogy.academic.ru/5512/&#1044;&#1077;&#1084;&#1086;&#1085;&#1089;&#1090;&#1088;&#1072;&#1094;&#1080;&#1103;" TargetMode="External"/><Relationship Id="rId4" Type="http://schemas.openxmlformats.org/officeDocument/2006/relationships/hyperlink" Target="http://psychology_pedagogy.academic.ru/15363/&#1088;&#1091;&#1082;&#1086;&#1074;&#1086;&#1076;&#1089;&#1090;&#1074;&#1086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3494/&#1055;&#1088;&#1080;&#1085;&#1094;&#1080;&#1087;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истема Фребеля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истема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 воспитания,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ная немецким педагогом и теоретиком дошкольного во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я Фридрихом Фребелем ( 1782— 185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бель являетсяоснователем первых детских са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зада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х заключалась в обучении и воспитании дете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ц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ла в содействии развитию при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х способностей 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451640" y="260280"/>
            <a:ext cx="1481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 растут как цве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сю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терм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етский сад») и задача воспитателей в том, чтобы заботиться о них и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ствовать их наиболее полному раскрыт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14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системе воспитания Фребеля глав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акц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ся на активности самого ребенка, на необходимости побуждения и организации его собственной 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 в воспитании детей дошкольного возраста подчеркивается огромное воспитательное 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знач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5616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Обуч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 в детских садах Фребеля построено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 системе игр с конкретным дидактическим материалом. Фребель 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л свой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идактиче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 (так наз. «дары Фребеля»), куда входили предметы, различающиеся по цвету, форме, величине и по способу действия с ними: вязаные шарики всех цветов; кубы и цилиндры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чи разных цветов и размеров; куб, разделенный на 8кубиков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палоч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 выкладывания; бумажные полоски для плетения и аппликаций и 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4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 место в системе воспитания Фребеля занимает художественная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: рисование, лепка, аппликац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музы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стих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м принципом  является сочетание действия или чувственного впечатления со слово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вяз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 слов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 действия ребенка и е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чувствен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 осмысленным и осознанным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3384720" cy="252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292720" y="3860640"/>
            <a:ext cx="280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бель предполагает активное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участ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 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 ребенка: передача «даров»,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емонст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ов действия с ними, стишки и песенки -все это исходит от воспитателя. 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руковод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 основано на уважении к ребенку и на учете его интересов.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050920" y="2924280"/>
            <a:ext cx="54738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723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663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ринци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 и активности самого ребенка оказался наруш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м. В результате эти занятия утратили свой 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ва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ффек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 система Фребел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ла массу критики 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ал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зм, дидактизм, излишнюю регламентацию деятельности детей. Вместе с тем основные теоретические и методические принципы системы Фребеля  остают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ьными в настояще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рем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 использу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 в современной практике дошкольной педаг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19:29:48Z</dcterms:created>
  <dc:creator>Твоя Техника</dc:creator>
  <dc:description/>
  <dc:language>en-US</dc:language>
  <cp:lastModifiedBy>Твоя Техника</cp:lastModifiedBy>
  <dcterms:modified xsi:type="dcterms:W3CDTF">2016-05-23T18:59:13Z</dcterms:modified>
  <cp:revision>3</cp:revision>
  <dc:subject/>
  <dc:title>Эстетическое воспитание</dc:title>
</cp:coreProperties>
</file>