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58B6-292E-46F6-92A8-B30A1C5346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3886-242E-4AF8-9486-7459318D42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6A25-00EF-4E96-9775-952FDE9EE5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CC5E-FC70-4A05-8EDD-B00D35CBA9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266C-8A68-4E4C-9184-726363A39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6DA7-8ABA-4882-84A1-682562DC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0F2F-DBEB-4E9F-B625-F124892A3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8462-DA0C-46B4-8AC7-10273F0FF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360F-0F72-48A6-81A3-B67E8CA9E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51DB-1246-4EBC-85BB-CA88D844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931C-B460-4903-86CC-F3D7F0DA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9AAD-582A-4F6F-8D28-923AF1A7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AF07-97D1-492D-A3D8-3786D3E6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AA3E-108E-4ADA-AF4C-E7334340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61C6-0FE1-4C97-916A-CE5D4F24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9869-E6BE-4C87-9DF9-40BBD5AC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975C8-5001-4B9A-8E42-18CCD774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99E4-0A9D-4C6C-89A2-3E8F7345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A9D61-95D7-4D75-A176-4D119723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5461F-0FA9-41B7-B3E4-32669E9F1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9D60-8970-4CF8-B490-10B8554CE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8B1E7-63D2-456D-BF4D-9BF875F15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6EBC3-E5EB-48B8-A5CE-F74EB629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F8086-58B9-4B0F-9164-AFD23C2D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861FD-504F-41FE-B580-8311C571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9AD90-7739-43A4-A6BA-91D6220C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5C9D-8D58-4320-83E5-21FD566B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49B28-825F-4BF6-9D47-E08A25C1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82262-15CE-4ABB-B7C7-CE897815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A642B-3484-4880-A159-E8331942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3496A-7C90-4752-B721-7C2462FE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74676-D124-440C-93E8-91160FC9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7D280-BBA1-4077-8CA8-54D626E0B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FCCD5-8CC7-4BEA-9517-17272B5E0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ED533-2486-489D-96C7-AD5A14F85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47013-63CF-4C07-91C2-DD7EA3AD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AC3BD-FD69-4928-8168-A8F2ACEE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2B96-F75E-45DD-AFBC-6AB8C9D7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DC849-197E-4051-9725-0CDC5712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8E012-3227-44AB-AF52-74A3D44C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91C9A-8C3F-4EA7-9746-3F831427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11C97-4B36-4D4E-8ED5-FE682053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49A15-5CC2-4566-99C4-19AAF417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23D41-C1F5-47EB-8893-2CB85767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3F4E3-F167-4C74-B515-1B9BCFDB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21B67-9B1F-46BA-9DF3-AFC77BA10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CA518-6623-4E5F-A10A-E3427A2E5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666B4-6051-45F0-910D-B0F70D5B3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A789-8117-40D6-8CF2-0B32E307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C9D30-6412-46F8-A0D9-7806BE9E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70D65-B094-4153-AC99-CF347B61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0E9F4-4EB7-408D-A9B1-67B661EB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DB7A6-7243-4FBA-8313-A56B866D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670C3-EE41-45FD-97C6-6D55C784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FFA5D-5026-46AA-9DAD-1B864669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6AC46-5377-483E-A8D4-D7C6829F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74BF5-0308-44FA-BBB7-66CCBFFE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75B10-A039-4F8D-92BB-D7B27EAC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D7BA3-792D-4FFE-BAFA-A3F563017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6C20-4E2D-4115-B164-9873138A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50958-42E0-4EFB-8966-5B1ED2CAB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C94DC-D298-47F7-AA87-80841ACD2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26936-C75D-4203-AD3F-C64676FB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D984B-E419-47C2-AC77-50460F35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05047-AA9E-44FA-AEC6-FF8E88CF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1B216-DC04-4E5D-957D-22626A25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EFB2A-E35F-4598-BDAE-453EE490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DD60E-0BCF-4DAE-A6F7-F25BC1D3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D8902-6A5E-4A53-A353-A9F471D4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21F89-7EBB-4809-96B1-455AA3B2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E555-EA98-4B5F-B694-FF5EA1E7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29ACE-BC2C-4340-AAB6-43754528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E85D2-C7BD-4BEC-ABC9-B5F0E2BA8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E40B6-4FAD-49E2-8C45-EBFD3654B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0943-F02A-412D-B897-AE1E0264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81AB-281C-4826-A056-427B3F23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93f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93f35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5ad6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ba8a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67F5-8FF8-4BD2-8684-F56CC7D6A14F}" type="slidenum">
              <a:rPr b="0" lang="ru-RU" sz="1000" spc="-1" strike="noStrike">
                <a:solidFill>
                  <a:srgbClr val="aba8a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93f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93f35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5ad6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ba8a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A223-6A15-4853-BC9C-3862EB36ED9B}" type="slidenum">
              <a:rPr b="0" lang="ru-RU" sz="1000" spc="-1" strike="noStrike">
                <a:solidFill>
                  <a:srgbClr val="aba8a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93f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93f35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5ad6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ba8a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DAE2-20E7-49A9-8A40-4566861DA1C4}" type="slidenum">
              <a:rPr b="0" lang="ru-RU" sz="1000" spc="-1" strike="noStrike">
                <a:solidFill>
                  <a:srgbClr val="aba8a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93f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93f35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5ad6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ba8a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78E4-C0B1-4DDA-AA47-C0A2C5698467}" type="slidenum">
              <a:rPr b="0" lang="ru-RU" sz="1000" spc="-1" strike="noStrike">
                <a:solidFill>
                  <a:srgbClr val="aba8a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93f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93f35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5ad6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ba8a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68C8-9DF1-4D88-8BBA-1F4219DDEA02}" type="slidenum">
              <a:rPr b="0" lang="ru-RU" sz="1000" spc="-1" strike="noStrike">
                <a:solidFill>
                  <a:srgbClr val="aba8a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93f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93f35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5ad6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ba8a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9804-8CC6-4D3C-99A2-8CD5687803DE}" type="slidenum">
              <a:rPr b="0" lang="ru-RU" sz="1000" spc="-1" strike="noStrike">
                <a:solidFill>
                  <a:srgbClr val="aba8a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lkiop'[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6"/>
          <p:cNvSpPr/>
          <p:nvPr/>
        </p:nvSpPr>
        <p:spPr>
          <a:xfrm>
            <a:off x="4246560" y="1500120"/>
            <a:ext cx="489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9b2d1f"/>
                </a:solidFill>
                <a:latin typeface="Comic Sans MS"/>
              </a:rPr>
              <a:t>Белк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8" descr="i?id=21746371&amp;tov=3"/>
          <p:cNvPicPr/>
          <p:nvPr/>
        </p:nvPicPr>
        <p:blipFill>
          <a:blip r:embed="rId2"/>
          <a:stretch/>
        </p:blipFill>
        <p:spPr>
          <a:xfrm>
            <a:off x="250920" y="765000"/>
            <a:ext cx="4182840" cy="540072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sp>
        <p:nvSpPr>
          <p:cNvPr id="275" name="Text Box 12"/>
          <p:cNvSpPr/>
          <p:nvPr/>
        </p:nvSpPr>
        <p:spPr>
          <a:xfrm>
            <a:off x="2411280" y="6308640"/>
            <a:ext cx="45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5"/>
          <p:cNvSpPr/>
          <p:nvPr/>
        </p:nvSpPr>
        <p:spPr>
          <a:xfrm>
            <a:off x="4581360" y="3716280"/>
            <a:ext cx="45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Василевская О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Учитель высшей категории СОШ №18 г.Со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4" descr="lkiop'[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5"/>
          <p:cNvSpPr/>
          <p:nvPr/>
        </p:nvSpPr>
        <p:spPr>
          <a:xfrm>
            <a:off x="826920" y="18900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9b2d1f"/>
                </a:solidFill>
                <a:uFillTx/>
                <a:latin typeface="Comic Sans MS"/>
              </a:rPr>
              <a:t>Химические свойства бел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6"/>
          <p:cNvSpPr/>
          <p:nvPr/>
        </p:nvSpPr>
        <p:spPr>
          <a:xfrm>
            <a:off x="0" y="134136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b2d1f"/>
                </a:solidFill>
                <a:latin typeface="Monotype Corsiva"/>
              </a:rPr>
              <a:t>1. </a:t>
            </a:r>
            <a:r>
              <a:rPr b="1" lang="ru-RU" sz="3200" spc="-1" strike="noStrike" u="sng">
                <a:solidFill>
                  <a:srgbClr val="9b2d1f"/>
                </a:solidFill>
                <a:uFillTx/>
                <a:latin typeface="Monotype Corsiva"/>
              </a:rPr>
              <a:t>Гидролиз</a:t>
            </a:r>
            <a:r>
              <a:rPr b="1" lang="ru-RU" sz="3200" spc="-1" strike="noStrike">
                <a:solidFill>
                  <a:srgbClr val="9b2d1f"/>
                </a:solidFill>
                <a:latin typeface="Monotype Corsiva"/>
              </a:rPr>
              <a:t> (кислотно-основный, ферментативный), в результате которого образуются аминокисл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0" y="2637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b2d1f"/>
                </a:solidFill>
                <a:latin typeface="Monotype Corsiva"/>
              </a:rPr>
              <a:t>2. </a:t>
            </a:r>
            <a:r>
              <a:rPr b="1" lang="ru-RU" sz="3200" spc="-1" strike="noStrike" u="sng">
                <a:solidFill>
                  <a:srgbClr val="9b2d1f"/>
                </a:solidFill>
                <a:uFillTx/>
                <a:latin typeface="Monotype Corsiva"/>
              </a:rPr>
              <a:t>Денатурация</a:t>
            </a:r>
            <a:r>
              <a:rPr b="1" lang="ru-RU" sz="3200" spc="-1" strike="noStrike">
                <a:solidFill>
                  <a:srgbClr val="9b2d1f"/>
                </a:solidFill>
                <a:latin typeface="Monotype Corsiva"/>
              </a:rPr>
              <a:t> – нарушение природной структуры белка под действием нагревания или химических реаген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5" descr="i?id=57002499&amp;tov=6"/>
          <p:cNvPicPr/>
          <p:nvPr/>
        </p:nvPicPr>
        <p:blipFill>
          <a:blip r:embed="rId2"/>
          <a:stretch/>
        </p:blipFill>
        <p:spPr>
          <a:xfrm>
            <a:off x="250920" y="3789360"/>
            <a:ext cx="3313080" cy="286560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16"/>
          <p:cNvSpPr/>
          <p:nvPr/>
        </p:nvSpPr>
        <p:spPr>
          <a:xfrm>
            <a:off x="3780000" y="4076640"/>
            <a:ext cx="49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7"/>
          <p:cNvSpPr/>
          <p:nvPr/>
        </p:nvSpPr>
        <p:spPr>
          <a:xfrm>
            <a:off x="3780000" y="4395960"/>
            <a:ext cx="518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b2d1f"/>
                </a:solidFill>
                <a:latin typeface="Monotype Corsiva"/>
              </a:rPr>
              <a:t>Денатурированный белок теряет свои биологические свой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4" descr="lkiop'[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6" descr="i?id=92186886&amp;tov=3"/>
          <p:cNvPicPr/>
          <p:nvPr/>
        </p:nvPicPr>
        <p:blipFill>
          <a:blip r:embed="rId2"/>
          <a:stretch/>
        </p:blipFill>
        <p:spPr>
          <a:xfrm>
            <a:off x="6084720" y="1484280"/>
            <a:ext cx="2659320" cy="200340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pic>
        <p:nvPicPr>
          <p:cNvPr id="315" name="Picture 8" descr="i?id=76475545&amp;tov=8"/>
          <p:cNvPicPr/>
          <p:nvPr/>
        </p:nvPicPr>
        <p:blipFill>
          <a:blip r:embed="rId3"/>
          <a:stretch/>
        </p:blipFill>
        <p:spPr>
          <a:xfrm>
            <a:off x="237960" y="4149720"/>
            <a:ext cx="2521080" cy="185256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sp>
        <p:nvSpPr>
          <p:cNvPr id="316" name="Text Box 9"/>
          <p:cNvSpPr/>
          <p:nvPr/>
        </p:nvSpPr>
        <p:spPr>
          <a:xfrm>
            <a:off x="826920" y="18900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9b2d1f"/>
                </a:solidFill>
                <a:uFillTx/>
                <a:latin typeface="Comic Sans MS"/>
              </a:rPr>
              <a:t>Цветные реакции на бел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0" y="1413000"/>
            <a:ext cx="594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b2d1f"/>
                </a:solidFill>
                <a:latin typeface="Monotype Corsiva"/>
              </a:rPr>
              <a:t>1. </a:t>
            </a:r>
            <a:r>
              <a:rPr b="1" lang="ru-RU" sz="2800" spc="-1" strike="noStrike" u="sng">
                <a:solidFill>
                  <a:srgbClr val="9b2d1f"/>
                </a:solidFill>
                <a:uFillTx/>
                <a:latin typeface="Monotype Corsiva"/>
              </a:rPr>
              <a:t>Ксантопротеиновая</a:t>
            </a:r>
            <a:r>
              <a:rPr b="1" lang="ru-RU" sz="2800" spc="-1" strike="noStrike">
                <a:solidFill>
                  <a:srgbClr val="9b2d1f"/>
                </a:solidFill>
                <a:latin typeface="Monotype Corsiva"/>
              </a:rPr>
              <a:t> – взаимодействие с концентрированной азотной кислотой, которое сопровождается появлением желтой окрас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2843280" y="4076640"/>
            <a:ext cx="6300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b2d1f"/>
                </a:solidFill>
                <a:latin typeface="Monotype Corsiva"/>
              </a:rPr>
              <a:t>2. </a:t>
            </a:r>
            <a:r>
              <a:rPr b="1" lang="ru-RU" sz="2800" spc="-1" strike="noStrike" u="sng">
                <a:solidFill>
                  <a:srgbClr val="9b2d1f"/>
                </a:solidFill>
                <a:uFillTx/>
                <a:latin typeface="Monotype Corsiva"/>
              </a:rPr>
              <a:t>Биуретовая</a:t>
            </a:r>
            <a:r>
              <a:rPr b="1" lang="ru-RU" sz="2800" spc="-1" strike="noStrike">
                <a:solidFill>
                  <a:srgbClr val="9b2d1f"/>
                </a:solidFill>
                <a:latin typeface="Monotype Corsiva"/>
              </a:rPr>
              <a:t> – взаимодействие слабощелочных растворов белков с раствором сульфата меди (</a:t>
            </a:r>
            <a:r>
              <a:rPr b="1" lang="en-US" sz="2800" spc="-1" strike="noStrike">
                <a:solidFill>
                  <a:srgbClr val="9b2d1f"/>
                </a:solidFill>
                <a:latin typeface="Monotype Corsiva"/>
              </a:rPr>
              <a:t>II</a:t>
            </a:r>
            <a:r>
              <a:rPr b="1" lang="ru-RU" sz="2800" spc="-1" strike="noStrike">
                <a:solidFill>
                  <a:srgbClr val="9b2d1f"/>
                </a:solidFill>
                <a:latin typeface="Monotype Corsiva"/>
              </a:rPr>
              <a:t>), в результате которой появляется фиолетово-синяя окрас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Номер слайда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3373-13BF-4587-8863-EBB3406A97FB}" type="slidenum">
              <a:rPr b="0" lang="ru-RU" sz="1000" spc="-1" strike="noStrike">
                <a:solidFill>
                  <a:srgbClr val="aba8a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-181440" y="0"/>
            <a:ext cx="9325080" cy="685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роверка знаний по теме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Verdana"/>
              </a:rPr>
              <a:t>«Белки, состав, структура, функции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(работа на 10-12 минут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1797-4480-4BB7-BB1B-15C9FF0F5063}" type="slidenum">
              <a:rPr b="0" lang="ru-RU" sz="1000" spc="-1" strike="noStrike">
                <a:solidFill>
                  <a:srgbClr val="aba8a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428760" y="17640"/>
          <a:ext cx="8286480" cy="6318000"/>
        </p:xfrm>
        <a:graphic>
          <a:graphicData uri="http://schemas.openxmlformats.org/drawingml/2006/table">
            <a:tbl>
              <a:tblPr/>
              <a:tblGrid>
                <a:gridCol w="581040"/>
                <a:gridCol w="3562200"/>
                <a:gridCol w="255600"/>
                <a:gridCol w="3887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24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 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1.Вместо точек проставьте нужные слова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В состав белков входят элементы:…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Мономерами белков являются… 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Всего в белках  имеется … видов  аминокисло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Основная связь между мономерами белка -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Вторичная структура белка в виде 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Первичная структура белка в виде …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Четвертичная структура белка в виде…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Третичная структура белка в виде…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) Восстановление природной структуры белка называется…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) Разрушение природной структуры белка называется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23" name="Text Box 32"/>
          <p:cNvSpPr/>
          <p:nvPr/>
        </p:nvSpPr>
        <p:spPr>
          <a:xfrm>
            <a:off x="250920" y="64008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а выполнение задания - 3 мину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"/>
          <p:cNvGraphicFramePr/>
          <p:nvPr/>
        </p:nvGraphicFramePr>
        <p:xfrm>
          <a:off x="357120" y="0"/>
          <a:ext cx="8429760" cy="6431040"/>
        </p:xfrm>
        <a:graphic>
          <a:graphicData uri="http://schemas.openxmlformats.org/drawingml/2006/table">
            <a:tbl>
              <a:tblPr/>
              <a:tblGrid>
                <a:gridCol w="696960"/>
                <a:gridCol w="3778200"/>
                <a:gridCol w="3954600"/>
              </a:tblGrid>
              <a:tr h="69084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а  «4»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2.  Вместо точек проставьте соответствующие функции бел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Ускоряя химические реакции в клетке, белки выполняют … функцию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Ферменты выполняют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Белки-гормоны выполняют  … функци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Антитела выполняют … функцию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5680" indent="-856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Гемоглобин выполняет …функцию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Белки в составе мышц,  хрящей, волос и т.д. выполняют … функцию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Сократительные белки выполняют …функци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5680" indent="-856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Белки клеточных мембран, улавливающие  воздействия на них выполняют… функцию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Text Box 26"/>
          <p:cNvSpPr/>
          <p:nvPr/>
        </p:nvSpPr>
        <p:spPr>
          <a:xfrm>
            <a:off x="1500120" y="6429240"/>
            <a:ext cx="629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а выполнение задания – 5 мин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F062-24AA-42ED-877B-A64E992C7594}" type="slidenum">
              <a:rPr b="0" lang="ru-RU" sz="1000" spc="-1" strike="noStrike">
                <a:solidFill>
                  <a:srgbClr val="aba8a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357120" y="285840"/>
          <a:ext cx="8215560" cy="5689440"/>
        </p:xfrm>
        <a:graphic>
          <a:graphicData uri="http://schemas.openxmlformats.org/drawingml/2006/table">
            <a:tbl>
              <a:tblPr/>
              <a:tblGrid>
                <a:gridCol w="614520"/>
                <a:gridCol w="3946320"/>
                <a:gridCol w="3654720"/>
              </a:tblGrid>
              <a:tr h="4395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На  </a:t>
                      </a: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3. Ответьте на 1  вопрос (на выбор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Чем можно объяснить огромное разнообразие белков в природе, несмотря на то, что в их состав входят одни и те же аминокислоты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Почему для человека опасно повышение температуры тела свыше 41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Какую структуру  могут иметь белки в составе мышц  и почему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Какую структуру могут иметь белки в составе сухожилий и почему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Чем сходны и чем отличаются простые белки от сложных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Какой структурой определяются все особенности строения белка и почему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8" name="Text Box 20"/>
          <p:cNvSpPr/>
          <p:nvPr/>
        </p:nvSpPr>
        <p:spPr>
          <a:xfrm>
            <a:off x="1357200" y="6000840"/>
            <a:ext cx="56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а выполнение задания – 2 мину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Номер слайда 6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1CAE-2D89-40F2-B2B9-D30B9E4DC1B2}" type="slidenum">
              <a:rPr b="0" lang="ru-RU" sz="1000" spc="-1" strike="noStrike">
                <a:solidFill>
                  <a:srgbClr val="aba8a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Verdana"/>
              </a:rPr>
              <a:t>ПРОВЕРКА ОТВЕТОВ:</a:t>
            </a:r>
            <a:endParaRPr b="1" lang="en-US" sz="2200" spc="-1" strike="noStrike">
              <a:solidFill>
                <a:srgbClr val="f66047"/>
              </a:solidFill>
              <a:latin typeface="Verdana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357120" y="285840"/>
          <a:ext cx="8429760" cy="3317760"/>
        </p:xfrm>
        <a:graphic>
          <a:graphicData uri="http://schemas.openxmlformats.org/drawingml/2006/table">
            <a:tbl>
              <a:tblPr/>
              <a:tblGrid>
                <a:gridCol w="4125960"/>
                <a:gridCol w="216000"/>
                <a:gridCol w="4087800"/>
              </a:tblGrid>
              <a:tr h="299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вариа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вариа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5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b2d1f"/>
                          </a:solidFill>
                          <a:latin typeface="Times New Roman"/>
                          <a:ea typeface="Times New Roman"/>
                        </a:rPr>
                        <a:t>1.Вместо точек проставьте нужные слов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В состав белков входят элементы </a:t>
                      </a: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,С,О,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Мономерами белков являются </a:t>
                      </a: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минокисл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Всего в белках  имеется </a:t>
                      </a: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20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ов  аминокисло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Основная связь между мономерами белка -</a:t>
                      </a: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ептид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Вторичная структура белка в виде </a:t>
                      </a: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спир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Первичная структура белка в виде </a:t>
                      </a: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цепочки аминокисло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Четвертичная структура белка в виде </a:t>
                      </a: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нескольких связанных глобу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Третичная структура белка в виде </a:t>
                      </a: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глобу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) Восстановление природной структуры белка называется </a:t>
                      </a: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ренатур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) Разрушение природной структуры белка называется </a:t>
                      </a: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денатур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428760" y="3683160"/>
          <a:ext cx="8429400" cy="3274920"/>
        </p:xfrm>
        <a:graphic>
          <a:graphicData uri="http://schemas.openxmlformats.org/drawingml/2006/table">
            <a:tbl>
              <a:tblPr/>
              <a:tblGrid>
                <a:gridCol w="4154400"/>
                <a:gridCol w="4275000"/>
              </a:tblGrid>
              <a:tr h="334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b2d1f"/>
                          </a:solidFill>
                          <a:latin typeface="Times New Roman"/>
                          <a:ea typeface="Times New Roman"/>
                        </a:rPr>
                        <a:t>2. Какую функцию белков отражают примеры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Ускоряя химические реакции в клетке, белки выполняют </a:t>
                      </a: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каталитическую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функцию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Ферменты выполняют </a:t>
                      </a: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каталитическую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функц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Белки-гормоны выполняют  </a:t>
                      </a: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регуляторную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функц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Антитела выполняют </a:t>
                      </a: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защитную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ю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Гемоглобин  эритроцитов выполняет </a:t>
                      </a: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транспортную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функцию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Белки в составе мышц,  хрящей, волос и т.д. выполняют </a:t>
                      </a: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строительную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функцию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Сократительные белки выполняют двигательную функц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Белки клеточных мембран, улавливающие  воздействия на них выполняют </a:t>
                      </a: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сигнальную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функцию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514440" y="529920"/>
            <a:ext cx="8129520" cy="43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Домашнее задани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араграф 17 стр.128-133, упр.10 стр.134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6" name="Прямоугольник 4" descr=""/>
          <p:cNvPicPr/>
          <p:nvPr/>
        </p:nvPicPr>
        <p:blipFill>
          <a:blip r:embed="rId1"/>
          <a:stretch/>
        </p:blipFill>
        <p:spPr>
          <a:xfrm>
            <a:off x="811080" y="2786040"/>
            <a:ext cx="776628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lkiop'[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"/>
          <p:cNvPicPr/>
          <p:nvPr/>
        </p:nvPicPr>
        <p:blipFill>
          <a:blip r:embed="rId2"/>
          <a:stretch/>
        </p:blipFill>
        <p:spPr>
          <a:xfrm>
            <a:off x="4859280" y="771480"/>
            <a:ext cx="4038480" cy="510552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sp>
        <p:nvSpPr>
          <p:cNvPr id="279" name="Text Box 9"/>
          <p:cNvSpPr/>
          <p:nvPr/>
        </p:nvSpPr>
        <p:spPr>
          <a:xfrm>
            <a:off x="468360" y="1125360"/>
            <a:ext cx="381636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b2d1f"/>
                </a:solidFill>
                <a:latin typeface="Comic Sans MS"/>
              </a:rPr>
              <a:t>Жизнь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b2d1f"/>
                </a:solidFill>
                <a:latin typeface="Comic Sans MS"/>
              </a:rPr>
              <a:t>это спосо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b2d1f"/>
                </a:solidFill>
                <a:latin typeface="Comic Sans MS"/>
              </a:rPr>
              <a:t>существ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b2d1f"/>
                </a:solidFill>
                <a:latin typeface="Comic Sans MS"/>
              </a:rPr>
              <a:t>белковых те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0"/>
          <p:cNvSpPr/>
          <p:nvPr/>
        </p:nvSpPr>
        <p:spPr>
          <a:xfrm>
            <a:off x="1187280" y="5157720"/>
            <a:ext cx="30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b2d1f"/>
                </a:solidFill>
                <a:latin typeface="Monotype Corsiva"/>
              </a:rPr>
              <a:t>Ф.Энгель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lkiop'[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5"/>
          <p:cNvSpPr/>
          <p:nvPr/>
        </p:nvSpPr>
        <p:spPr>
          <a:xfrm>
            <a:off x="179280" y="549360"/>
            <a:ext cx="89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9b2d1f"/>
                </a:solidFill>
                <a:uFillTx/>
                <a:latin typeface="Monotype Corsiva"/>
              </a:rPr>
              <a:t>Белки</a:t>
            </a:r>
            <a:r>
              <a:rPr b="0" lang="ru-RU" sz="4000" spc="-1" strike="noStrike">
                <a:solidFill>
                  <a:srgbClr val="9b2d1f"/>
                </a:solidFill>
                <a:latin typeface="Monotype Corsiva"/>
              </a:rPr>
              <a:t> – высокомолекулярные природные соединения (биополимеры), состоящие из остатков аминокислот, которые соединены пептидной связью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2700360" y="3141720"/>
            <a:ext cx="33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9b2d1f"/>
                </a:solidFill>
                <a:uFillTx/>
                <a:latin typeface="Monotype Corsiva"/>
              </a:rPr>
              <a:t>Бел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684360" y="50198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b2d1f"/>
                </a:solidFill>
                <a:latin typeface="Monotype Corsiva"/>
              </a:rPr>
              <a:t>Протеин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5019840" y="50054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b2d1f"/>
                </a:solidFill>
                <a:latin typeface="Monotype Corsiva"/>
              </a:rPr>
              <a:t>Протеид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0"/>
          <p:cNvSpPr/>
          <p:nvPr/>
        </p:nvSpPr>
        <p:spPr>
          <a:xfrm flipH="1">
            <a:off x="2916000" y="4103640"/>
            <a:ext cx="863640" cy="863640"/>
          </a:xfrm>
          <a:prstGeom prst="line">
            <a:avLst/>
          </a:prstGeom>
          <a:ln w="28440">
            <a:solidFill>
              <a:srgbClr val="00008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1"/>
          <p:cNvSpPr/>
          <p:nvPr/>
        </p:nvSpPr>
        <p:spPr>
          <a:xfrm>
            <a:off x="4932360" y="4103640"/>
            <a:ext cx="1008000" cy="792360"/>
          </a:xfrm>
          <a:prstGeom prst="line">
            <a:avLst/>
          </a:prstGeom>
          <a:ln w="28440">
            <a:solidFill>
              <a:srgbClr val="00008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lkiop'[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5"/>
          <p:cNvSpPr/>
          <p:nvPr/>
        </p:nvSpPr>
        <p:spPr>
          <a:xfrm>
            <a:off x="826920" y="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9b2d1f"/>
                </a:solidFill>
                <a:uFillTx/>
                <a:latin typeface="Comic Sans MS"/>
              </a:rPr>
              <a:t>Функции бел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0" y="980640"/>
            <a:ext cx="9144000" cy="5218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90000"/>
          </a:bodyPr>
          <a:p>
            <a:pPr marL="238320" indent="-23832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b2d1f"/>
                </a:solidFill>
                <a:latin typeface="Monotype Corsiva"/>
              </a:rPr>
              <a:t>Строительная (пластическая) –</a:t>
            </a:r>
            <a:r>
              <a:rPr b="0" lang="ru-RU" sz="2800" spc="-1" strike="noStrike">
                <a:solidFill>
                  <a:srgbClr val="9b2d1f"/>
                </a:solidFill>
                <a:latin typeface="Monotype Corsiva"/>
              </a:rPr>
              <a:t> белки участвуют в образовании оболочки клетки, органоидов и мембран клетки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8320" indent="-23832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b2d1f"/>
                </a:solidFill>
                <a:latin typeface="Monotype Corsiva"/>
              </a:rPr>
              <a:t>Каталитическая – </a:t>
            </a:r>
            <a:r>
              <a:rPr b="0" lang="ru-RU" sz="2800" spc="-1" strike="noStrike">
                <a:solidFill>
                  <a:srgbClr val="9b2d1f"/>
                </a:solidFill>
                <a:latin typeface="Monotype Corsiva"/>
              </a:rPr>
              <a:t>все клеточные катализаторы – белки (активные центры фермента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8320" indent="-23832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b2d1f"/>
                </a:solidFill>
                <a:latin typeface="Monotype Corsiva"/>
              </a:rPr>
              <a:t>Двигательная – </a:t>
            </a:r>
            <a:r>
              <a:rPr b="0" lang="ru-RU" sz="2800" spc="-1" strike="noStrike">
                <a:solidFill>
                  <a:srgbClr val="9b2d1f"/>
                </a:solidFill>
                <a:latin typeface="Monotype Corsiva"/>
              </a:rPr>
              <a:t>сократительные белки вызывают всякое движени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8320" indent="-23832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b2d1f"/>
                </a:solidFill>
                <a:latin typeface="Monotype Corsiva"/>
              </a:rPr>
              <a:t>Транспортная – </a:t>
            </a:r>
            <a:r>
              <a:rPr b="0" lang="ru-RU" sz="2800" spc="-1" strike="noStrike">
                <a:solidFill>
                  <a:srgbClr val="9b2d1f"/>
                </a:solidFill>
                <a:latin typeface="Monotype Corsiva"/>
              </a:rPr>
              <a:t>белок крови гемоглобин присоединяет кислород и разносит его по всем тканям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8320" indent="-23832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b2d1f"/>
                </a:solidFill>
                <a:latin typeface="Monotype Corsiva"/>
              </a:rPr>
              <a:t>Защитная – </a:t>
            </a:r>
            <a:r>
              <a:rPr b="0" lang="ru-RU" sz="2800" spc="-1" strike="noStrike">
                <a:solidFill>
                  <a:srgbClr val="9b2d1f"/>
                </a:solidFill>
                <a:latin typeface="Monotype Corsiva"/>
              </a:rPr>
              <a:t>выработка белковых тел и антител для обезвреживания чужеродных веществ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8320" indent="-23832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b2d1f"/>
                </a:solidFill>
                <a:latin typeface="Monotype Corsiva"/>
              </a:rPr>
              <a:t>Энергетическая – </a:t>
            </a:r>
            <a:r>
              <a:rPr b="0" lang="ru-RU" sz="2800" spc="-1" strike="noStrike">
                <a:solidFill>
                  <a:srgbClr val="9b2d1f"/>
                </a:solidFill>
                <a:latin typeface="Monotype Corsiva"/>
              </a:rPr>
              <a:t>1 г белка эквивалентен 17,6 кДж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8320" indent="-23832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b2d1f"/>
                </a:solidFill>
                <a:latin typeface="Monotype Corsiva"/>
              </a:rPr>
              <a:t>Рецепторная – </a:t>
            </a:r>
            <a:r>
              <a:rPr b="0" lang="ru-RU" sz="2800" spc="-1" strike="noStrike">
                <a:solidFill>
                  <a:srgbClr val="9b2d1f"/>
                </a:solidFill>
                <a:latin typeface="Monotype Corsiva"/>
              </a:rPr>
              <a:t>реакция на внешний раздражител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4" descr="lkiop'[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b2d1f"/>
                </a:solidFill>
                <a:latin typeface="Comic Sans MS"/>
              </a:rPr>
              <a:t>В состав белковых веществ входят: углерод, водород, кислород, азот, сера, фосфор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b2d1f"/>
                </a:solidFill>
                <a:latin typeface="Comic Sans MS"/>
              </a:rPr>
              <a:t>Гемоглобин – </a:t>
            </a:r>
            <a:r>
              <a:rPr b="0" lang="en-US" sz="2800" spc="-1" strike="noStrike">
                <a:solidFill>
                  <a:srgbClr val="9b2d1f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9b2d1f"/>
                </a:solidFill>
                <a:latin typeface="Comic Sans MS"/>
              </a:rPr>
              <a:t>3032</a:t>
            </a:r>
            <a:r>
              <a:rPr b="0" lang="en-US" sz="2800" spc="-1" strike="noStrike">
                <a:solidFill>
                  <a:srgbClr val="9b2d1f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9b2d1f"/>
                </a:solidFill>
                <a:latin typeface="Comic Sans MS"/>
              </a:rPr>
              <a:t>4816</a:t>
            </a:r>
            <a:r>
              <a:rPr b="0" lang="en-US" sz="2800" spc="-1" strike="noStrike">
                <a:solidFill>
                  <a:srgbClr val="9b2d1f"/>
                </a:solidFill>
                <a:latin typeface="Comic Sans MS"/>
              </a:rPr>
              <a:t>O</a:t>
            </a:r>
            <a:r>
              <a:rPr b="0" lang="en-US" sz="2800" spc="-1" strike="noStrike" baseline="-25000">
                <a:solidFill>
                  <a:srgbClr val="9b2d1f"/>
                </a:solidFill>
                <a:latin typeface="Comic Sans MS"/>
              </a:rPr>
              <a:t>872</a:t>
            </a:r>
            <a:r>
              <a:rPr b="0" lang="en-US" sz="2800" spc="-1" strike="noStrike">
                <a:solidFill>
                  <a:srgbClr val="9b2d1f"/>
                </a:solidFill>
                <a:latin typeface="Comic Sans MS"/>
              </a:rPr>
              <a:t>N</a:t>
            </a:r>
            <a:r>
              <a:rPr b="0" lang="en-US" sz="2800" spc="-1" strike="noStrike" baseline="-25000">
                <a:solidFill>
                  <a:srgbClr val="9b2d1f"/>
                </a:solidFill>
                <a:latin typeface="Comic Sans MS"/>
              </a:rPr>
              <a:t>780</a:t>
            </a:r>
            <a:r>
              <a:rPr b="0" lang="en-US" sz="2800" spc="-1" strike="noStrike">
                <a:solidFill>
                  <a:srgbClr val="9b2d1f"/>
                </a:solidFill>
                <a:latin typeface="Comic Sans MS"/>
              </a:rPr>
              <a:t>S</a:t>
            </a:r>
            <a:r>
              <a:rPr b="0" lang="en-US" sz="2800" spc="-1" strike="noStrike" baseline="-25000">
                <a:solidFill>
                  <a:srgbClr val="9b2d1f"/>
                </a:solidFill>
                <a:latin typeface="Comic Sans MS"/>
              </a:rPr>
              <a:t>8</a:t>
            </a:r>
            <a:r>
              <a:rPr b="0" lang="en-US" sz="2800" spc="-1" strike="noStrike">
                <a:solidFill>
                  <a:srgbClr val="9b2d1f"/>
                </a:solidFill>
                <a:latin typeface="Comic Sans MS"/>
              </a:rPr>
              <a:t>Fe</a:t>
            </a:r>
            <a:r>
              <a:rPr b="0" lang="en-US" sz="2800" spc="-1" strike="noStrike" baseline="-25000">
                <a:solidFill>
                  <a:srgbClr val="9b2d1f"/>
                </a:solidFill>
                <a:latin typeface="Comic Sans MS"/>
              </a:rPr>
              <a:t>4</a:t>
            </a:r>
            <a:r>
              <a:rPr b="0" lang="ru-RU" sz="2800" spc="-1" strike="noStrike">
                <a:solidFill>
                  <a:srgbClr val="9b2d1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b2d1f"/>
                </a:solidFill>
                <a:latin typeface="Comic Sans MS"/>
              </a:rPr>
              <a:t>Молекулярная масса белков колеблется от нескольких тысяч до нескольких миллионов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b2d1f"/>
                </a:solidFill>
                <a:latin typeface="Comic Sans MS"/>
              </a:rPr>
              <a:t>Mr белка яйца = 36 000, Mr белка мышц = 1 500 0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826920" y="40464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9b2d1f"/>
                </a:solidFill>
                <a:uFillTx/>
                <a:latin typeface="Comic Sans MS"/>
              </a:rPr>
              <a:t>Качественный состав бел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4" descr="lkiop'[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"/>
          <p:cNvPicPr/>
          <p:nvPr/>
        </p:nvPicPr>
        <p:blipFill>
          <a:blip r:embed="rId2"/>
          <a:stretch/>
        </p:blipFill>
        <p:spPr>
          <a:xfrm>
            <a:off x="179280" y="2519280"/>
            <a:ext cx="8785440" cy="4149720"/>
          </a:xfrm>
          <a:prstGeom prst="rect">
            <a:avLst/>
          </a:prstGeom>
          <a:ln w="19080">
            <a:solidFill>
              <a:srgbClr val="000080"/>
            </a:solidFill>
            <a:miter/>
          </a:ln>
        </p:spPr>
      </p:pic>
      <p:sp>
        <p:nvSpPr>
          <p:cNvPr id="296" name="Text Box 7"/>
          <p:cNvSpPr/>
          <p:nvPr/>
        </p:nvSpPr>
        <p:spPr>
          <a:xfrm>
            <a:off x="0" y="26028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9b2d1f"/>
                </a:solidFill>
                <a:uFillTx/>
                <a:latin typeface="Monotype Corsiva"/>
              </a:rPr>
              <a:t>Первичная структура</a:t>
            </a:r>
            <a:r>
              <a:rPr b="0" lang="ru-RU" sz="4000" spc="-1" strike="noStrike">
                <a:solidFill>
                  <a:srgbClr val="9b2d1f"/>
                </a:solidFill>
                <a:latin typeface="Monotype Corsiva"/>
              </a:rPr>
              <a:t> – последовательность чередования аминокислотных остатков в полипептидной цеп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4" descr="lkiop'[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" descr=""/>
          <p:cNvPicPr/>
          <p:nvPr/>
        </p:nvPicPr>
        <p:blipFill>
          <a:blip r:embed="rId2"/>
          <a:stretch/>
        </p:blipFill>
        <p:spPr>
          <a:xfrm>
            <a:off x="0" y="333360"/>
            <a:ext cx="3505320" cy="6172200"/>
          </a:xfrm>
          <a:prstGeom prst="rect">
            <a:avLst/>
          </a:prstGeom>
          <a:ln w="19080">
            <a:solidFill>
              <a:srgbClr val="000080"/>
            </a:solidFill>
            <a:miter/>
          </a:ln>
        </p:spPr>
      </p:pic>
      <p:sp>
        <p:nvSpPr>
          <p:cNvPr id="299" name="Text Box 6"/>
          <p:cNvSpPr/>
          <p:nvPr/>
        </p:nvSpPr>
        <p:spPr>
          <a:xfrm>
            <a:off x="3635280" y="189000"/>
            <a:ext cx="5257800" cy="75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b2d1f"/>
                </a:solidFill>
                <a:uFillTx/>
                <a:latin typeface="Monotype Corsiva"/>
              </a:rPr>
              <a:t>Вторичная структура</a:t>
            </a:r>
            <a:r>
              <a:rPr b="0" lang="ru-RU" sz="3600" spc="-1" strike="noStrike">
                <a:solidFill>
                  <a:srgbClr val="9b2d1f"/>
                </a:solidFill>
                <a:latin typeface="Monotype Corsiva"/>
              </a:rPr>
              <a:t> – пространственная конфигурация полипептидной цепи, то есть ее возможное расположение в пространств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b2d1f"/>
                </a:solidFill>
                <a:latin typeface="Monotype Corsiva"/>
              </a:rPr>
              <a:t>Для белков наиболее часто встречающимся вариантом вторичной структуры  является </a:t>
            </a:r>
            <a:r>
              <a:rPr b="1" lang="ru-RU" sz="3600" spc="-1" strike="noStrike">
                <a:solidFill>
                  <a:srgbClr val="9b2d1f"/>
                </a:solidFill>
                <a:latin typeface="Monotype Corsiva"/>
              </a:rPr>
              <a:t>спираль</a:t>
            </a:r>
            <a:r>
              <a:rPr b="0" lang="ru-RU" sz="3600" spc="-1" strike="noStrike">
                <a:solidFill>
                  <a:srgbClr val="9b2d1f"/>
                </a:solidFill>
                <a:latin typeface="Monotype Corsiv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4" descr="lkiop'[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"/>
          <p:cNvPicPr/>
          <p:nvPr/>
        </p:nvPicPr>
        <p:blipFill>
          <a:blip r:embed="rId2"/>
          <a:stretch/>
        </p:blipFill>
        <p:spPr>
          <a:xfrm>
            <a:off x="5076720" y="333360"/>
            <a:ext cx="3888000" cy="5904000"/>
          </a:xfrm>
          <a:prstGeom prst="rect">
            <a:avLst/>
          </a:prstGeom>
          <a:ln w="19080">
            <a:solidFill>
              <a:srgbClr val="000080"/>
            </a:solidFill>
            <a:miter/>
          </a:ln>
        </p:spPr>
      </p:pic>
      <p:sp>
        <p:nvSpPr>
          <p:cNvPr id="302" name="Text Box 6"/>
          <p:cNvSpPr/>
          <p:nvPr/>
        </p:nvSpPr>
        <p:spPr>
          <a:xfrm>
            <a:off x="0" y="404640"/>
            <a:ext cx="5003640" cy="86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b2d1f"/>
                </a:solidFill>
                <a:uFillTx/>
                <a:latin typeface="Monotype Corsiva"/>
              </a:rPr>
              <a:t>Третичная структура</a:t>
            </a:r>
            <a:r>
              <a:rPr b="0" lang="ru-RU" sz="3600" spc="-1" strike="noStrike">
                <a:solidFill>
                  <a:srgbClr val="9b2d1f"/>
                </a:solidFill>
                <a:latin typeface="Monotype Corsiva"/>
              </a:rPr>
              <a:t> – трехмерная  конфигурация, которую принимает в пространстве закрученная спирал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b2d1f"/>
                </a:solidFill>
                <a:latin typeface="Monotype Corsiva"/>
              </a:rPr>
              <a:t>Третичной структурой объясняется специфичность белковой молекулы и ее биологическая активно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4" descr="lkiop'[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" descr="i?id=29060926&amp;tov=7"/>
          <p:cNvPicPr/>
          <p:nvPr/>
        </p:nvPicPr>
        <p:blipFill>
          <a:blip r:embed="rId2"/>
          <a:stretch/>
        </p:blipFill>
        <p:spPr>
          <a:xfrm>
            <a:off x="250920" y="765000"/>
            <a:ext cx="3816360" cy="4896000"/>
          </a:xfrm>
          <a:prstGeom prst="rect">
            <a:avLst/>
          </a:prstGeom>
          <a:ln w="19080">
            <a:solidFill>
              <a:srgbClr val="9b2d1f"/>
            </a:solidFill>
            <a:miter/>
          </a:ln>
        </p:spPr>
      </p:pic>
      <p:sp>
        <p:nvSpPr>
          <p:cNvPr id="305" name="Text Box 7"/>
          <p:cNvSpPr/>
          <p:nvPr/>
        </p:nvSpPr>
        <p:spPr>
          <a:xfrm>
            <a:off x="4284720" y="770040"/>
            <a:ext cx="485928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b2d1f"/>
                </a:solidFill>
                <a:uFillTx/>
                <a:latin typeface="Monotype Corsiva"/>
              </a:rPr>
              <a:t>Четвертичная структура</a:t>
            </a:r>
            <a:r>
              <a:rPr b="0" lang="ru-RU" sz="3600" spc="-1" strike="noStrike">
                <a:solidFill>
                  <a:srgbClr val="9b2d1f"/>
                </a:solidFill>
                <a:latin typeface="Monotype Corsiva"/>
              </a:rPr>
              <a:t> – расположение в пространстве нескольких полипептидных цепей, каждая из которых имеет свою первичную, вторичную и третичную структуру и называется </a:t>
            </a:r>
            <a:r>
              <a:rPr b="1" lang="ru-RU" sz="3600" spc="-1" strike="noStrike">
                <a:solidFill>
                  <a:srgbClr val="9b2d1f"/>
                </a:solidFill>
                <a:latin typeface="Monotype Corsiva"/>
              </a:rPr>
              <a:t>субъединицей</a:t>
            </a:r>
            <a:r>
              <a:rPr b="0" lang="ru-RU" sz="3600" spc="-1" strike="noStrike">
                <a:solidFill>
                  <a:srgbClr val="9b2d1f"/>
                </a:solidFill>
                <a:latin typeface="Monotype Corsiv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6T05:29:24Z</dcterms:created>
  <dc:creator/>
  <dc:description/>
  <dc:language>en-US</dc:language>
  <cp:lastModifiedBy>Кабинет химии</cp:lastModifiedBy>
  <dcterms:modified xsi:type="dcterms:W3CDTF">2014-05-12T06:11:32Z</dcterms:modified>
  <cp:revision>10</cp:revision>
  <dc:subject/>
  <dc:title>Презентация PowerPoint</dc:title>
</cp:coreProperties>
</file>