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06F3-A0CD-4DE3-A1F9-EFEEF93D1A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B08D-63E8-4B43-A662-0352BE7ED7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2620-D829-4FFB-877E-A73E0E6E7D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6984-A45F-49A7-A126-3239F2FD12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9C83-9FA3-4E84-8417-9D66FC1D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68B-3EEA-4EFB-81E9-E0CD3BED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9F1-E4FD-48EC-A982-985E902E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3E1-B676-4563-AD3B-70F6C511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70D3-4447-42BE-828E-7D119BBC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8F5B-B2B8-4635-85A6-23BD3F85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2791-FF17-4E48-BD3D-DADBEE73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E0E9-4EA8-421D-9C84-2C31C3F6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2F81-5F6F-46A5-AA45-87B9FE9F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90DF-4332-4F8C-8030-01F5D765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F821-7CE1-416A-B613-E4474811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6A03-AC59-4B3C-B91C-E8A94569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C2C2-8858-4FFD-A0B0-226534DA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80E8-89AE-4009-86F8-AF967865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F586-FBCB-4CEC-A8FA-B4FEE85E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110C-A323-4140-9FED-1F24F39B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46D9-419D-4584-9BE6-A3E4AABD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3138A-9A61-40B5-97FC-B5888E35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C3DF2-6607-4FD9-BFD7-FE5D4A6F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28287-AAA6-4ED4-89BC-DB1D86CC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E2B78-3564-44FF-8283-E0001FD8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21156-9A1F-45E3-B527-CF859789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D66C-DC34-4F03-8EDE-611928B6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986D4-EA45-48BB-8EC4-B04D980C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ED770-94A7-4135-8F46-CFE7EEF2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1507C-3B2F-46CB-B977-1BE431BB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90FEC-CF09-4975-BB6C-6F17F988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A0841-E0DD-4095-ABAD-A453BDBE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4A77A-EFDB-4EF0-A6B4-BE493893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55861-D12E-42A8-8B3D-BB29179F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B480A-AB80-49CA-835F-EA261595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8855F-42C8-4B86-A7A2-69383AC4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A9814-2CD0-4947-93C5-8F2F45A2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A1D1-A60D-4EE1-9D86-0743C3ED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720D5-AEF3-411E-9B73-B2BE5BFC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6DCC0-0989-4631-B497-3253B460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E3848-F211-4B49-8F46-A4059D44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AD501-2C38-4AD2-A13E-C283FF9D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D6AEA-658A-491D-BD43-B1B05AE6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02B89-C938-4411-9144-85AD9452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217AB-EA8A-4027-9DE7-9AE005E9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AAC52-D27D-4349-AF93-4272C498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7372C-9673-42D0-BE12-3081A162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DBC2E-E147-4402-8090-DB701331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8AE1-E5AF-4847-858A-87EF56AD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C0601-9952-4D29-B1A5-B7A5CA21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BBB7E-75FD-4C61-A47A-85896F3D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1F723-EF47-4416-AEEB-7E93C3C7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DB7D9-ECA2-4A7A-A18F-11994953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A8055-F01F-49CA-80A5-CEC803C5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B7863-6566-4694-B1F4-E25B776E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93EFE-DF5F-4944-BA6E-AFC441CB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2926F-3DB8-49BE-8574-C82744F7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3571E-3375-4C44-B634-0F28FA25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316FF-176E-4820-80FE-5E669470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ED88-3C96-4239-9B5C-14C741C0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EAAA9-E2E8-490F-AFBC-A40DDA47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B6B35-48C1-4C59-A7BA-CADA8622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27592-0E29-4043-83C7-2F42FA4E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FF71F-F44D-4D48-8318-F85BE8E5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F8768-EFF9-4833-8B8E-300FF931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A632C-5C1C-4EDB-9D2B-3CB80B6B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56674-332B-41CD-8D7C-EC07F688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C19DD-67A2-4941-91A8-EA4AFC16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8238E-DFFD-446F-9524-86D3E622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5D222-8B92-449C-B096-B6B33068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28E-7635-403A-884E-4098E60E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53202-CA50-4F2A-8BA1-BA73B82C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09A6A-FF1C-4CD2-A358-7BAD9283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62362-FF78-452B-ABB6-FBD17391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551-0075-4F2C-8D5D-C16E98F9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30C-5905-4EEC-8DF6-AB2E15FB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ba8a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8EFA-E996-4349-BAE6-3B5F3CF2E2A7}" type="slidenum">
              <a:rPr b="0" lang="ru-RU" sz="1000" spc="-1" strike="noStrike">
                <a:solidFill>
                  <a:srgbClr val="aba8a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ba8a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0B7D-74A4-43E6-AD7D-DA85FF4527E8}" type="slidenum">
              <a:rPr b="0" lang="ru-RU" sz="1000" spc="-1" strike="noStrike">
                <a:solidFill>
                  <a:srgbClr val="aba8a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ba8a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07F4-B861-4F3E-9C46-2DEECEA98ECA}" type="slidenum">
              <a:rPr b="0" lang="ru-RU" sz="1000" spc="-1" strike="noStrike">
                <a:solidFill>
                  <a:srgbClr val="aba8a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ba8a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A5E5-7D09-4533-9B01-FA7F9F7A831C}" type="slidenum">
              <a:rPr b="0" lang="ru-RU" sz="1000" spc="-1" strike="noStrike">
                <a:solidFill>
                  <a:srgbClr val="aba8a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ba8a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7B3D-BD26-4722-9B0B-C04DE7ED7E59}" type="slidenum">
              <a:rPr b="0" lang="ru-RU" sz="1000" spc="-1" strike="noStrike">
                <a:solidFill>
                  <a:srgbClr val="aba8a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ba8a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BC1B-0540-4D53-8B28-06BC474A867F}" type="slidenum">
              <a:rPr b="0" lang="ru-RU" sz="1000" spc="-1" strike="noStrike">
                <a:solidFill>
                  <a:srgbClr val="aba8a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6"/>
          <p:cNvSpPr/>
          <p:nvPr/>
        </p:nvSpPr>
        <p:spPr>
          <a:xfrm>
            <a:off x="4246560" y="150012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9b2d1f"/>
                </a:solidFill>
                <a:latin typeface="Comic Sans MS"/>
              </a:rPr>
              <a:t>Белк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i?id=21746371&amp;tov=3"/>
          <p:cNvPicPr/>
          <p:nvPr/>
        </p:nvPicPr>
        <p:blipFill>
          <a:blip r:embed="rId2"/>
          <a:stretch/>
        </p:blipFill>
        <p:spPr>
          <a:xfrm>
            <a:off x="250920" y="765000"/>
            <a:ext cx="4182840" cy="540072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275" name="Text Box 12"/>
          <p:cNvSpPr/>
          <p:nvPr/>
        </p:nvSpPr>
        <p:spPr>
          <a:xfrm>
            <a:off x="2411280" y="630864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5"/>
          <p:cNvSpPr/>
          <p:nvPr/>
        </p:nvSpPr>
        <p:spPr>
          <a:xfrm>
            <a:off x="4581360" y="371628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асилевская О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Учитель высшей категории СОШ №18 г.Со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5"/>
          <p:cNvSpPr/>
          <p:nvPr/>
        </p:nvSpPr>
        <p:spPr>
          <a:xfrm>
            <a:off x="826920" y="189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b2d1f"/>
                </a:solidFill>
                <a:uFillTx/>
                <a:latin typeface="Comic Sans MS"/>
              </a:rPr>
              <a:t>Химические свойства бе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0" y="1341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b2d1f"/>
                </a:solidFill>
                <a:latin typeface="Monotype Corsiva"/>
              </a:rPr>
              <a:t>1. </a:t>
            </a:r>
            <a:r>
              <a:rPr b="1" lang="ru-RU" sz="3200" spc="-1" strike="noStrike" u="sng">
                <a:solidFill>
                  <a:srgbClr val="9b2d1f"/>
                </a:solidFill>
                <a:uFillTx/>
                <a:latin typeface="Monotype Corsiva"/>
              </a:rPr>
              <a:t>Гидролиз</a:t>
            </a:r>
            <a:r>
              <a:rPr b="1" lang="ru-RU" sz="3200" spc="-1" strike="noStrike">
                <a:solidFill>
                  <a:srgbClr val="9b2d1f"/>
                </a:solidFill>
                <a:latin typeface="Monotype Corsiva"/>
              </a:rPr>
              <a:t> (кислотно-основный, ферментативный), в результате которого образуются аминокисл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0" y="2637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b2d1f"/>
                </a:solidFill>
                <a:latin typeface="Monotype Corsiva"/>
              </a:rPr>
              <a:t>2. </a:t>
            </a:r>
            <a:r>
              <a:rPr b="1" lang="ru-RU" sz="3200" spc="-1" strike="noStrike" u="sng">
                <a:solidFill>
                  <a:srgbClr val="9b2d1f"/>
                </a:solidFill>
                <a:uFillTx/>
                <a:latin typeface="Monotype Corsiva"/>
              </a:rPr>
              <a:t>Денатурация</a:t>
            </a:r>
            <a:r>
              <a:rPr b="1" lang="ru-RU" sz="3200" spc="-1" strike="noStrike">
                <a:solidFill>
                  <a:srgbClr val="9b2d1f"/>
                </a:solidFill>
                <a:latin typeface="Monotype Corsiva"/>
              </a:rPr>
              <a:t> – нарушение природной структуры белка под действием нагревания или химических реаг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5" descr="i?id=57002499&amp;tov=6"/>
          <p:cNvPicPr/>
          <p:nvPr/>
        </p:nvPicPr>
        <p:blipFill>
          <a:blip r:embed="rId2"/>
          <a:stretch/>
        </p:blipFill>
        <p:spPr>
          <a:xfrm>
            <a:off x="250920" y="3789360"/>
            <a:ext cx="3313080" cy="28656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6"/>
          <p:cNvSpPr/>
          <p:nvPr/>
        </p:nvSpPr>
        <p:spPr>
          <a:xfrm>
            <a:off x="3780000" y="407664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780000" y="4395960"/>
            <a:ext cx="518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b2d1f"/>
                </a:solidFill>
                <a:latin typeface="Monotype Corsiva"/>
              </a:rPr>
              <a:t>Денатурированный белок теряет свои биологические св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i?id=92186886&amp;tov=3"/>
          <p:cNvPicPr/>
          <p:nvPr/>
        </p:nvPicPr>
        <p:blipFill>
          <a:blip r:embed="rId2"/>
          <a:stretch/>
        </p:blipFill>
        <p:spPr>
          <a:xfrm>
            <a:off x="6084720" y="1484280"/>
            <a:ext cx="2659320" cy="20034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315" name="Picture 8" descr="i?id=76475545&amp;tov=8"/>
          <p:cNvPicPr/>
          <p:nvPr/>
        </p:nvPicPr>
        <p:blipFill>
          <a:blip r:embed="rId3"/>
          <a:stretch/>
        </p:blipFill>
        <p:spPr>
          <a:xfrm>
            <a:off x="237960" y="4149720"/>
            <a:ext cx="2521080" cy="18525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316" name="Text Box 9"/>
          <p:cNvSpPr/>
          <p:nvPr/>
        </p:nvSpPr>
        <p:spPr>
          <a:xfrm>
            <a:off x="826920" y="189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b2d1f"/>
                </a:solidFill>
                <a:uFillTx/>
                <a:latin typeface="Comic Sans MS"/>
              </a:rPr>
              <a:t>Цветные реакции на бе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0" y="1413000"/>
            <a:ext cx="594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1. </a:t>
            </a:r>
            <a:r>
              <a:rPr b="1" lang="ru-RU" sz="2800" spc="-1" strike="noStrike" u="sng">
                <a:solidFill>
                  <a:srgbClr val="9b2d1f"/>
                </a:solidFill>
                <a:uFillTx/>
                <a:latin typeface="Monotype Corsiva"/>
              </a:rPr>
              <a:t>Ксантопротеиновая</a:t>
            </a: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 – взаимодействие с концентрированной азотной кислотой, которое сопровождается появлением желтой окра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2843280" y="4076640"/>
            <a:ext cx="630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2. </a:t>
            </a:r>
            <a:r>
              <a:rPr b="1" lang="ru-RU" sz="2800" spc="-1" strike="noStrike" u="sng">
                <a:solidFill>
                  <a:srgbClr val="9b2d1f"/>
                </a:solidFill>
                <a:uFillTx/>
                <a:latin typeface="Monotype Corsiva"/>
              </a:rPr>
              <a:t>Биуретовая</a:t>
            </a: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 – взаимодействие слабощелочных растворов белков с раствором сульфата меди (</a:t>
            </a:r>
            <a:r>
              <a:rPr b="1" lang="en-US" sz="2800" spc="-1" strike="noStrike">
                <a:solidFill>
                  <a:srgbClr val="9b2d1f"/>
                </a:solidFill>
                <a:latin typeface="Monotype Corsiva"/>
              </a:rPr>
              <a:t>II</a:t>
            </a: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), в результате которой появляется фиолетово-синяя окра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C5DF-D3F6-4020-B0EF-D1BCC3B3F5AF}" type="slidenum">
              <a:rPr b="0" lang="ru-RU" sz="1000" spc="-1" strike="noStrike">
                <a:solidFill>
                  <a:srgbClr val="aba8a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9325080" cy="685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знаний по теме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Verdana"/>
              </a:rPr>
              <a:t>«Белки, состав, структура, функции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(работа на 10-12 минут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9209-A76F-44F3-99EA-919E92A7BC02}" type="slidenum">
              <a:rPr b="0" lang="ru-RU" sz="1000" spc="-1" strike="noStrike">
                <a:solidFill>
                  <a:srgbClr val="aba8a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28760" y="17640"/>
          <a:ext cx="8286480" cy="6318000"/>
        </p:xfrm>
        <a:graphic>
          <a:graphicData uri="http://schemas.openxmlformats.org/drawingml/2006/table">
            <a:tbl>
              <a:tblPr/>
              <a:tblGrid>
                <a:gridCol w="581040"/>
                <a:gridCol w="3562200"/>
                <a:gridCol w="255600"/>
                <a:gridCol w="38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 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.Вместо точек проставьте нужные слова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В состав белков входят элементы:…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Мономерами белков являются… 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Всего в белках  имеется … видов  аминокисл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Основная связь между мономерами белка -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Вторичная структура белка в виде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Первичная структура белка в виде …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Четвертичная структура белка в виде…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Третичная структура белка в виде…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Восстановление природной структуры белка называется…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Разрушение природной структуры белка называется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3" name="Text Box 32"/>
          <p:cNvSpPr/>
          <p:nvPr/>
        </p:nvSpPr>
        <p:spPr>
          <a:xfrm>
            <a:off x="250920" y="6400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 выполнение задания - 3 мин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357120" y="0"/>
          <a:ext cx="8429760" cy="6431040"/>
        </p:xfrm>
        <a:graphic>
          <a:graphicData uri="http://schemas.openxmlformats.org/drawingml/2006/table">
            <a:tbl>
              <a:tblPr/>
              <a:tblGrid>
                <a:gridCol w="696960"/>
                <a:gridCol w="3778200"/>
                <a:gridCol w="3954600"/>
              </a:tblGrid>
              <a:tr h="690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  «4»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.  Вместо точек проставьте соответствующие функции бел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Ускоряя химические реакции в клетке, белки выполняют … функцию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Ферменты выполняют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Белки-гормоны выполняют  … функц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Антитела выполняют … функцию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Гемоглобин выполняет …функцию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Белки в составе мышц,  хрящей, волос и т.д. выполняют … функцию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Сократительные белки выполняют …функц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Белки клеточных мембран, улавливающие  воздействия на них выполняют… функцию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Text Box 26"/>
          <p:cNvSpPr/>
          <p:nvPr/>
        </p:nvSpPr>
        <p:spPr>
          <a:xfrm>
            <a:off x="1500120" y="6429240"/>
            <a:ext cx="62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 выполнение задания – 5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EBAE-998F-4049-BC3F-C7B056A8FCF0}" type="slidenum">
              <a:rPr b="0" lang="ru-RU" sz="1000" spc="-1" strike="noStrike">
                <a:solidFill>
                  <a:srgbClr val="aba8a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57120" y="285840"/>
          <a:ext cx="8215560" cy="5689440"/>
        </p:xfrm>
        <a:graphic>
          <a:graphicData uri="http://schemas.openxmlformats.org/drawingml/2006/table">
            <a:tbl>
              <a:tblPr/>
              <a:tblGrid>
                <a:gridCol w="614520"/>
                <a:gridCol w="3946320"/>
                <a:gridCol w="3654720"/>
              </a:tblGrid>
              <a:tr h="4395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На  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3. Ответьте на 1  вопрос (на выбор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Чем можно объяснить огромное разнообразие белков в природе, несмотря на то, что в их состав входят одни и те же аминокислоты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Почему для человека опасно повышение температуры тела свыше 41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Какую структуру  могут иметь белки в составе мышц  и почему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Какую структуру могут иметь белки в составе сухожилий и почему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Чем сходны и чем отличаются простые белки от сложных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Какой структурой определяются все особенности строения белка и почему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Text Box 20"/>
          <p:cNvSpPr/>
          <p:nvPr/>
        </p:nvSpPr>
        <p:spPr>
          <a:xfrm>
            <a:off x="1357200" y="6000840"/>
            <a:ext cx="56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 выполнение задания – 2 мин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28D8-AF32-4C6D-8E95-A2EB1E2AFA11}" type="slidenum">
              <a:rPr b="0" lang="ru-RU" sz="1000" spc="-1" strike="noStrike">
                <a:solidFill>
                  <a:srgbClr val="aba8a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Verdana"/>
              </a:rPr>
              <a:t>ПРОВЕРКА ОТВЕТОВ:</a:t>
            </a:r>
            <a:endParaRPr b="1" lang="en-US" sz="2200" spc="-1" strike="noStrike">
              <a:solidFill>
                <a:srgbClr val="f66047"/>
              </a:solidFill>
              <a:latin typeface="Verdana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57120" y="285840"/>
          <a:ext cx="8429760" cy="3317760"/>
        </p:xfrm>
        <a:graphic>
          <a:graphicData uri="http://schemas.openxmlformats.org/drawingml/2006/table">
            <a:tbl>
              <a:tblPr/>
              <a:tblGrid>
                <a:gridCol w="4125960"/>
                <a:gridCol w="216000"/>
                <a:gridCol w="4087800"/>
              </a:tblGrid>
              <a:tr h="299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b2d1f"/>
                          </a:solidFill>
                          <a:latin typeface="Times New Roman"/>
                          <a:ea typeface="Times New Roman"/>
                        </a:rPr>
                        <a:t>1.Вместо точек проставьте нужные слов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В состав белков входят элементы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,С,О,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Мономерами белков являются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минокисл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Всего в белках  имеется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0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ов  аминокисл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Основная связь между мономерами белка -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епти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Вторичная структура белка в виде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пир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Первичная структура белка в виде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цепочки аминокисл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Четвертичная структура белка в виде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нескольких связанных глобу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Третичная структура белка в виде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глоб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Восстановление природной структуры белка называется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енату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Разрушение природной структуры белка называется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денату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428760" y="3683160"/>
          <a:ext cx="8429400" cy="3274920"/>
        </p:xfrm>
        <a:graphic>
          <a:graphicData uri="http://schemas.openxmlformats.org/drawingml/2006/table">
            <a:tbl>
              <a:tblPr/>
              <a:tblGrid>
                <a:gridCol w="4154400"/>
                <a:gridCol w="4275000"/>
              </a:tblGrid>
              <a:tr h="33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b2d1f"/>
                          </a:solidFill>
                          <a:latin typeface="Times New Roman"/>
                          <a:ea typeface="Times New Roman"/>
                        </a:rPr>
                        <a:t>2. Какую функцию белков отражают пример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Ускоряя химические реакции в клетке, белки выполняют 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аталитическую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ункц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Ферменты выполняют 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аталитическую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ункц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Белки-гормоны выполняют  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егуляторную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функц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Антитела выполняют 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защитную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Гемоглобин  эритроцитов выполняет 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транспортную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ункц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Белки в составе мышц,  хрящей, волос и т.д. выполняют 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троительную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функц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Сократительные белки выполняют двигательную функц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Белки клеточных мембран, улавливающие  воздействия на них выполняют 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игнальную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ункц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14440" y="529920"/>
            <a:ext cx="812952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араграф 17 стр.128-133, упр.10 стр.134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Прямоугольник 4" descr=""/>
          <p:cNvPicPr/>
          <p:nvPr/>
        </p:nvPicPr>
        <p:blipFill>
          <a:blip r:embed="rId1"/>
          <a:stretch/>
        </p:blipFill>
        <p:spPr>
          <a:xfrm>
            <a:off x="811080" y="2786040"/>
            <a:ext cx="77662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"/>
          <p:cNvPicPr/>
          <p:nvPr/>
        </p:nvPicPr>
        <p:blipFill>
          <a:blip r:embed="rId2"/>
          <a:stretch/>
        </p:blipFill>
        <p:spPr>
          <a:xfrm>
            <a:off x="4859280" y="771480"/>
            <a:ext cx="4038480" cy="510552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279" name="Text Box 9"/>
          <p:cNvSpPr/>
          <p:nvPr/>
        </p:nvSpPr>
        <p:spPr>
          <a:xfrm>
            <a:off x="468360" y="1125360"/>
            <a:ext cx="38163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2d1f"/>
                </a:solidFill>
                <a:latin typeface="Comic Sans MS"/>
              </a:rPr>
              <a:t>Жизнь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2d1f"/>
                </a:solidFill>
                <a:latin typeface="Comic Sans MS"/>
              </a:rPr>
              <a:t>это спос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2d1f"/>
                </a:solidFill>
                <a:latin typeface="Comic Sans MS"/>
              </a:rPr>
              <a:t>существ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2d1f"/>
                </a:solidFill>
                <a:latin typeface="Comic Sans MS"/>
              </a:rPr>
              <a:t>белковых т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1187280" y="5157720"/>
            <a:ext cx="30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Monotype Corsiva"/>
              </a:rPr>
              <a:t>Ф.Энгель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179280" y="54936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b2d1f"/>
                </a:solidFill>
                <a:uFillTx/>
                <a:latin typeface="Monotype Corsiva"/>
              </a:rPr>
              <a:t>Белки</a:t>
            </a:r>
            <a:r>
              <a:rPr b="0" lang="ru-RU" sz="4000" spc="-1" strike="noStrike">
                <a:solidFill>
                  <a:srgbClr val="9b2d1f"/>
                </a:solidFill>
                <a:latin typeface="Monotype Corsiva"/>
              </a:rPr>
              <a:t> – высокомолекулярные природные соединения (биополимеры), состоящие из остатков аминокислот, которые соединены пептидной связью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2700360" y="314172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9b2d1f"/>
                </a:solidFill>
                <a:uFillTx/>
                <a:latin typeface="Monotype Corsiva"/>
              </a:rPr>
              <a:t>Бел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684360" y="50198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2d1f"/>
                </a:solidFill>
                <a:latin typeface="Monotype Corsiva"/>
              </a:rPr>
              <a:t>Протеи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5019840" y="50054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2d1f"/>
                </a:solidFill>
                <a:latin typeface="Monotype Corsiva"/>
              </a:rPr>
              <a:t>Протеид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0"/>
          <p:cNvSpPr/>
          <p:nvPr/>
        </p:nvSpPr>
        <p:spPr>
          <a:xfrm flipH="1">
            <a:off x="2916000" y="4103640"/>
            <a:ext cx="863640" cy="863640"/>
          </a:xfrm>
          <a:prstGeom prst="line">
            <a:avLst/>
          </a:prstGeom>
          <a:ln w="28440">
            <a:solidFill>
              <a:srgbClr val="00008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1"/>
          <p:cNvSpPr/>
          <p:nvPr/>
        </p:nvSpPr>
        <p:spPr>
          <a:xfrm>
            <a:off x="4932360" y="4103640"/>
            <a:ext cx="1008000" cy="792360"/>
          </a:xfrm>
          <a:prstGeom prst="line">
            <a:avLst/>
          </a:prstGeom>
          <a:ln w="28440">
            <a:solidFill>
              <a:srgbClr val="00008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826920" y="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b2d1f"/>
                </a:solidFill>
                <a:uFillTx/>
                <a:latin typeface="Comic Sans MS"/>
              </a:rPr>
              <a:t>Функции бе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980640"/>
            <a:ext cx="9144000" cy="5218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0000"/>
          </a:bodyPr>
          <a:p>
            <a:pPr marL="238320" indent="-23832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Строительная (пластическая) –</a:t>
            </a:r>
            <a:r>
              <a:rPr b="0" lang="ru-RU" sz="2800" spc="-1" strike="noStrike">
                <a:solidFill>
                  <a:srgbClr val="9b2d1f"/>
                </a:solidFill>
                <a:latin typeface="Monotype Corsiva"/>
              </a:rPr>
              <a:t> белки участвуют в образовании оболочки клетки, органоидов и мембран клетки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Каталитическая – </a:t>
            </a:r>
            <a:r>
              <a:rPr b="0" lang="ru-RU" sz="2800" spc="-1" strike="noStrike">
                <a:solidFill>
                  <a:srgbClr val="9b2d1f"/>
                </a:solidFill>
                <a:latin typeface="Monotype Corsiva"/>
              </a:rPr>
              <a:t>все клеточные катализаторы – белки (активные центры фермента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Двигательная – </a:t>
            </a:r>
            <a:r>
              <a:rPr b="0" lang="ru-RU" sz="2800" spc="-1" strike="noStrike">
                <a:solidFill>
                  <a:srgbClr val="9b2d1f"/>
                </a:solidFill>
                <a:latin typeface="Monotype Corsiva"/>
              </a:rPr>
              <a:t>сократительные белки вызывают всякое движени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Транспортная – </a:t>
            </a:r>
            <a:r>
              <a:rPr b="0" lang="ru-RU" sz="2800" spc="-1" strike="noStrike">
                <a:solidFill>
                  <a:srgbClr val="9b2d1f"/>
                </a:solidFill>
                <a:latin typeface="Monotype Corsiva"/>
              </a:rPr>
              <a:t>белок крови гемоглобин присоединяет кислород и разносит его по всем тканя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Защитная – </a:t>
            </a:r>
            <a:r>
              <a:rPr b="0" lang="ru-RU" sz="2800" spc="-1" strike="noStrike">
                <a:solidFill>
                  <a:srgbClr val="9b2d1f"/>
                </a:solidFill>
                <a:latin typeface="Monotype Corsiva"/>
              </a:rPr>
              <a:t>выработка белковых тел и антител для обезвреживания чужеродных вещест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Энергетическая – </a:t>
            </a:r>
            <a:r>
              <a:rPr b="0" lang="ru-RU" sz="2800" spc="-1" strike="noStrike">
                <a:solidFill>
                  <a:srgbClr val="9b2d1f"/>
                </a:solidFill>
                <a:latin typeface="Monotype Corsiva"/>
              </a:rPr>
              <a:t>1 г белка эквивалентен 17,6 кДж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2d1f"/>
                </a:solidFill>
                <a:latin typeface="Monotype Corsiva"/>
              </a:rPr>
              <a:t>Рецепторная – </a:t>
            </a:r>
            <a:r>
              <a:rPr b="0" lang="ru-RU" sz="2800" spc="-1" strike="noStrike">
                <a:solidFill>
                  <a:srgbClr val="9b2d1f"/>
                </a:solidFill>
                <a:latin typeface="Monotype Corsiva"/>
              </a:rPr>
              <a:t>реакция на внешний раздражител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4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2d1f"/>
                </a:solidFill>
                <a:latin typeface="Comic Sans MS"/>
              </a:rPr>
              <a:t>В состав белковых веществ входят: углерод, водород, кислород, азот, сера, фосфор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2d1f"/>
                </a:solidFill>
                <a:latin typeface="Comic Sans MS"/>
              </a:rPr>
              <a:t>Гемоглобин – </a:t>
            </a:r>
            <a:r>
              <a:rPr b="0" lang="en-US" sz="2800" spc="-1" strike="noStrike">
                <a:solidFill>
                  <a:srgbClr val="9b2d1f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9b2d1f"/>
                </a:solidFill>
                <a:latin typeface="Comic Sans MS"/>
              </a:rPr>
              <a:t>3032</a:t>
            </a:r>
            <a:r>
              <a:rPr b="0" lang="en-US" sz="2800" spc="-1" strike="noStrike">
                <a:solidFill>
                  <a:srgbClr val="9b2d1f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9b2d1f"/>
                </a:solidFill>
                <a:latin typeface="Comic Sans MS"/>
              </a:rPr>
              <a:t>4816</a:t>
            </a:r>
            <a:r>
              <a:rPr b="0" lang="en-US" sz="2800" spc="-1" strike="noStrike">
                <a:solidFill>
                  <a:srgbClr val="9b2d1f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9b2d1f"/>
                </a:solidFill>
                <a:latin typeface="Comic Sans MS"/>
              </a:rPr>
              <a:t>872</a:t>
            </a:r>
            <a:r>
              <a:rPr b="0" lang="en-US" sz="2800" spc="-1" strike="noStrike">
                <a:solidFill>
                  <a:srgbClr val="9b2d1f"/>
                </a:solidFill>
                <a:latin typeface="Comic Sans MS"/>
              </a:rPr>
              <a:t>N</a:t>
            </a:r>
            <a:r>
              <a:rPr b="0" lang="en-US" sz="2800" spc="-1" strike="noStrike" baseline="-25000">
                <a:solidFill>
                  <a:srgbClr val="9b2d1f"/>
                </a:solidFill>
                <a:latin typeface="Comic Sans MS"/>
              </a:rPr>
              <a:t>780</a:t>
            </a:r>
            <a:r>
              <a:rPr b="0" lang="en-US" sz="2800" spc="-1" strike="noStrike">
                <a:solidFill>
                  <a:srgbClr val="9b2d1f"/>
                </a:solidFill>
                <a:latin typeface="Comic Sans MS"/>
              </a:rPr>
              <a:t>S</a:t>
            </a:r>
            <a:r>
              <a:rPr b="0" lang="en-US" sz="2800" spc="-1" strike="noStrike" baseline="-25000">
                <a:solidFill>
                  <a:srgbClr val="9b2d1f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9b2d1f"/>
                </a:solidFill>
                <a:latin typeface="Comic Sans MS"/>
              </a:rPr>
              <a:t>Fe</a:t>
            </a:r>
            <a:r>
              <a:rPr b="0" lang="en-US" sz="2800" spc="-1" strike="noStrike" baseline="-25000">
                <a:solidFill>
                  <a:srgbClr val="9b2d1f"/>
                </a:solidFill>
                <a:latin typeface="Comic Sans MS"/>
              </a:rPr>
              <a:t>4</a:t>
            </a:r>
            <a:r>
              <a:rPr b="0" lang="ru-RU" sz="2800" spc="-1" strike="noStrike">
                <a:solidFill>
                  <a:srgbClr val="9b2d1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2d1f"/>
                </a:solidFill>
                <a:latin typeface="Comic Sans MS"/>
              </a:rPr>
              <a:t>Молекулярная масса белков колеблется от нескольких тысяч до нескольких миллион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2d1f"/>
                </a:solidFill>
                <a:latin typeface="Comic Sans MS"/>
              </a:rPr>
              <a:t>Mr белка яйца = 36 000, Mr белка мышц = 1 500 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82692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b2d1f"/>
                </a:solidFill>
                <a:uFillTx/>
                <a:latin typeface="Comic Sans MS"/>
              </a:rPr>
              <a:t>Качественный состав бе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"/>
          <p:cNvPicPr/>
          <p:nvPr/>
        </p:nvPicPr>
        <p:blipFill>
          <a:blip r:embed="rId2"/>
          <a:stretch/>
        </p:blipFill>
        <p:spPr>
          <a:xfrm>
            <a:off x="179280" y="2519280"/>
            <a:ext cx="8785440" cy="414972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296" name="Text Box 7"/>
          <p:cNvSpPr/>
          <p:nvPr/>
        </p:nvSpPr>
        <p:spPr>
          <a:xfrm>
            <a:off x="0" y="260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b2d1f"/>
                </a:solidFill>
                <a:uFillTx/>
                <a:latin typeface="Monotype Corsiva"/>
              </a:rPr>
              <a:t>Первичная структура</a:t>
            </a:r>
            <a:r>
              <a:rPr b="0" lang="ru-RU" sz="4000" spc="-1" strike="noStrike">
                <a:solidFill>
                  <a:srgbClr val="9b2d1f"/>
                </a:solidFill>
                <a:latin typeface="Monotype Corsiva"/>
              </a:rPr>
              <a:t> – последовательность чередования аминокислотных остатков в полипептидной цеп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"/>
          <p:cNvPicPr/>
          <p:nvPr/>
        </p:nvPicPr>
        <p:blipFill>
          <a:blip r:embed="rId2"/>
          <a:stretch/>
        </p:blipFill>
        <p:spPr>
          <a:xfrm>
            <a:off x="0" y="333360"/>
            <a:ext cx="3505320" cy="617220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299" name="Text Box 6"/>
          <p:cNvSpPr/>
          <p:nvPr/>
        </p:nvSpPr>
        <p:spPr>
          <a:xfrm>
            <a:off x="3635280" y="189000"/>
            <a:ext cx="5257800" cy="75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b2d1f"/>
                </a:solidFill>
                <a:uFillTx/>
                <a:latin typeface="Monotype Corsiva"/>
              </a:rPr>
              <a:t>Вторичная структура</a:t>
            </a:r>
            <a:r>
              <a:rPr b="0" lang="ru-RU" sz="3600" spc="-1" strike="noStrike">
                <a:solidFill>
                  <a:srgbClr val="9b2d1f"/>
                </a:solidFill>
                <a:latin typeface="Monotype Corsiva"/>
              </a:rPr>
              <a:t> – пространственная конфигурация полипептидной цепи, то есть ее возможное расположение в простран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2d1f"/>
                </a:solidFill>
                <a:latin typeface="Monotype Corsiva"/>
              </a:rPr>
              <a:t>Для белков наиболее часто встречающимся вариантом вторичной структуры  является </a:t>
            </a:r>
            <a:r>
              <a:rPr b="1" lang="ru-RU" sz="3600" spc="-1" strike="noStrike">
                <a:solidFill>
                  <a:srgbClr val="9b2d1f"/>
                </a:solidFill>
                <a:latin typeface="Monotype Corsiva"/>
              </a:rPr>
              <a:t>спираль</a:t>
            </a:r>
            <a:r>
              <a:rPr b="0" lang="ru-RU" sz="3600" spc="-1" strike="noStrike">
                <a:solidFill>
                  <a:srgbClr val="9b2d1f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888000" cy="590400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302" name="Text Box 6"/>
          <p:cNvSpPr/>
          <p:nvPr/>
        </p:nvSpPr>
        <p:spPr>
          <a:xfrm>
            <a:off x="0" y="404640"/>
            <a:ext cx="5003640" cy="86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b2d1f"/>
                </a:solidFill>
                <a:uFillTx/>
                <a:latin typeface="Monotype Corsiva"/>
              </a:rPr>
              <a:t>Третичная структура</a:t>
            </a:r>
            <a:r>
              <a:rPr b="0" lang="ru-RU" sz="3600" spc="-1" strike="noStrike">
                <a:solidFill>
                  <a:srgbClr val="9b2d1f"/>
                </a:solidFill>
                <a:latin typeface="Monotype Corsiva"/>
              </a:rPr>
              <a:t> – трехмерная  конфигурация, которую принимает в пространстве закрученная спира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2d1f"/>
                </a:solidFill>
                <a:latin typeface="Monotype Corsiva"/>
              </a:rPr>
              <a:t>Третичной структурой объясняется специфичность белковой молекулы и ее биологическая актив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i?id=29060926&amp;tov=7"/>
          <p:cNvPicPr/>
          <p:nvPr/>
        </p:nvPicPr>
        <p:blipFill>
          <a:blip r:embed="rId2"/>
          <a:stretch/>
        </p:blipFill>
        <p:spPr>
          <a:xfrm>
            <a:off x="250920" y="765000"/>
            <a:ext cx="3816360" cy="4896000"/>
          </a:xfrm>
          <a:prstGeom prst="rect">
            <a:avLst/>
          </a:prstGeom>
          <a:ln w="19080">
            <a:solidFill>
              <a:srgbClr val="9b2d1f"/>
            </a:solidFill>
            <a:miter/>
          </a:ln>
        </p:spPr>
      </p:pic>
      <p:sp>
        <p:nvSpPr>
          <p:cNvPr id="305" name="Text Box 7"/>
          <p:cNvSpPr/>
          <p:nvPr/>
        </p:nvSpPr>
        <p:spPr>
          <a:xfrm>
            <a:off x="4284720" y="770040"/>
            <a:ext cx="485928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b2d1f"/>
                </a:solidFill>
                <a:uFillTx/>
                <a:latin typeface="Monotype Corsiva"/>
              </a:rPr>
              <a:t>Четвертичная структура</a:t>
            </a:r>
            <a:r>
              <a:rPr b="0" lang="ru-RU" sz="3600" spc="-1" strike="noStrike">
                <a:solidFill>
                  <a:srgbClr val="9b2d1f"/>
                </a:solidFill>
                <a:latin typeface="Monotype Corsiva"/>
              </a:rPr>
              <a:t> – расположение в пространстве нескольких полипептидных цепей, каждая из которых имеет свою первичную, вторичную и третичную структуру и называется </a:t>
            </a:r>
            <a:r>
              <a:rPr b="1" lang="ru-RU" sz="3600" spc="-1" strike="noStrike">
                <a:solidFill>
                  <a:srgbClr val="9b2d1f"/>
                </a:solidFill>
                <a:latin typeface="Monotype Corsiva"/>
              </a:rPr>
              <a:t>субъединицей</a:t>
            </a:r>
            <a:r>
              <a:rPr b="0" lang="ru-RU" sz="3600" spc="-1" strike="noStrike">
                <a:solidFill>
                  <a:srgbClr val="9b2d1f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05:29:24Z</dcterms:created>
  <dc:creator/>
  <dc:description/>
  <dc:language>en-US</dc:language>
  <cp:lastModifiedBy>Кабинет химии</cp:lastModifiedBy>
  <dcterms:modified xsi:type="dcterms:W3CDTF">2014-05-12T06:11:32Z</dcterms:modified>
  <cp:revision>10</cp:revision>
  <dc:subject/>
  <dc:title>Презентация PowerPoint</dc:title>
</cp:coreProperties>
</file>