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A3E-E941-442B-BB97-40804489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93B-2120-45F5-9473-506591D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7F8-9B53-4536-A526-9F9F5891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1AB-2B8E-41ED-A59E-8D2744C8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1AD1-1EE8-4538-90E4-B3CAA660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E6BF-93C4-419D-848D-CA2D403D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828-57BD-4E35-86A9-4E923799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9BB9-8252-481D-810B-0450692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C5D5-FC70-4F01-8E6A-54025B94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F450-6708-418C-AFEF-C05BFC6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0D0A-D656-4EAE-ABE6-C252F317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B16-0636-461E-874F-A330606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62E-953B-42DC-BA93-8C8C406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B5A-222E-46B1-A0D5-63E3C1D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737-9A0A-4D2D-A384-7B3643C9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4362-9896-4CB5-A941-9429FC12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215B-44E1-4D28-9B32-274488E5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45E2-979D-4C64-843A-C3FBCAFF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66D3-DD42-43D3-AA09-BCA1EB66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4458-C769-470B-AE28-5E60DD74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0A95-3DFF-4D3F-A360-515997B9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DD10-EBFF-4CF9-9775-C7AE1AEE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7E5-9AAE-4605-B910-BD7FBE0A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AAA4-3993-40A0-AAC1-C57E739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C563-8299-4204-AA46-125699C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A2D4-CA7B-4B72-9B44-93BB1CB4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66A3-E146-4A0D-A357-DA05591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4B1C-FD14-48F4-8409-A2672F4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AE77-B852-498F-85FF-225C045E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2096-D975-484F-BBE7-C6D14A1E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2024-2503-47BF-9FBC-89705A9C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662F-A8A2-4FE9-84FC-C6F7248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217E-CC26-46BF-B262-27FD0F6B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D1B-B055-4027-83A1-4CDB7432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8741-82C7-41B7-A2E4-C7447232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F626-8794-4912-AA4A-31F36DB8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BC006-67D1-4F27-A8CA-40C0FAB6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BD38-12D3-45D2-9C00-44C390B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854A-4C28-41D3-B60A-A4FC8D8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4D17-E7D3-4DDA-8CF8-FCA4C81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F5FE-AAF3-4D3E-8090-E9BCAE8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C64B-3C07-411F-8220-D8E4771A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89C5-F4CD-4BDD-A80E-6F3D5713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7D3C-042C-4DCD-8F3B-388164A4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F3C-6B92-4FE4-BB09-FF6E2F1D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B664-3A6D-4057-97D3-57B01F9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AEF31-C92F-4725-8922-E8F1454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79C6-E17B-4861-9C05-A3CD382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7B48-72EF-4AEB-BA95-2A957FD5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9FFAF-FDC3-4B86-B518-3DF624C8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4ADA9-41B3-41B1-BA81-BD9BA72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341E-8CB2-4FA1-9DC7-AF88666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74C6-D446-4801-BAB3-288B18D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2B86-CCA0-44C9-8066-F77EC1E0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9A14-26D1-41BF-B2B6-3099655F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DEB-FC19-462B-90EB-4B30ADC3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31893-B4E5-43D0-B8C1-ADE73F27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F5836-6A50-4B3E-94A8-49403A19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DAD0-35A7-4B6C-8712-C9CB1AF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19C1-6BCB-4FEA-BCFC-218686C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5C8DD-805B-4580-9276-AA070FB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4CEF-A423-4049-96AA-87A5384D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A169-532D-4ABE-9A59-07BC4516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0E206-03FF-4F9C-AABA-79BC14E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BE4B-8D4A-427F-B488-A083F0FC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ED5C-DF7B-40D7-A0AB-DA6B799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760-4BED-4F07-896A-FDDA1A5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5C78-1B03-4A64-943A-1AA295F5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AE5CA-E19C-4456-9624-A067DC53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53D1-16B0-4B4E-A156-76C12D6F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03AD-6041-497B-A71C-EED0720A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084F3-F78F-4448-AEDB-D5FD47B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BDCD1-9C4E-4417-8E6E-6F378BC7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7171A-BF51-45B3-89CE-BF03CA1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B6A6-54CF-488A-9502-7C8A043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36A13-C82C-4494-AA6A-4162937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05C2-0BDB-4509-8A63-6806A2D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771-3E58-4020-92E0-288347BD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F71C-5420-4C1A-BDE6-10626F6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C209-77B2-4586-A927-D039FA2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0CBA-9B77-4945-8404-8E2B8B46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B981-8ED3-45E7-9427-6FA9EB32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D681-7B0B-4BE1-9290-D3622C07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7C4-79D6-400F-874B-236F266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707C-7EC4-497C-B0E1-24C075D64C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05F4-1A24-4F1B-80FF-DE795B915C6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D378-1AE3-44D8-9F39-A67EE2B41C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02A-754D-4A86-950E-4DD0B284AE0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9F1F-6FC2-447F-975B-17E787A67D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A162-89E8-4EF3-98B7-00571A9DE9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758A-0209-4507-9BEA-46FDA0B3C53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Мой питомец-попугай Симбад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ыполнил ученик 6а класс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ратеев Кирил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ndara"/>
              </a:rPr>
              <a:t>Мой питомец.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0520" y="1904760"/>
            <a:ext cx="363564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 меня есть попугай породы нимфа корелла, кличка Симбад ему 7 лет. Родиной попугаев-нимф - Австралия. На этом большом континенте они встречаются почти повсюду, за исключением влажной приморской полосы. Симбад размером с изящного голубя, издает приятный на слух крик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9" name="Picture 9" descr="DSC01535"/>
          <p:cNvPicPr/>
          <p:nvPr/>
        </p:nvPicPr>
        <p:blipFill>
          <a:blip r:embed="rId1"/>
          <a:stretch/>
        </p:blipFill>
        <p:spPr>
          <a:xfrm>
            <a:off x="4645080" y="3038400"/>
            <a:ext cx="382248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Красота моего попуг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508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У Симбада серый тон оперения,  желтый хохолок на лбу и светлые красновато-оранжевые пятна на щеках в области ушей. Длина кореллы от головы до кончика перьев составляет 30 см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Picture 27" descr="Фото0860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ndara"/>
              </a:rPr>
              <a:t>Забавная гимнастика.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7" descr="Фото0861"/>
          <p:cNvPicPr/>
          <p:nvPr/>
        </p:nvPicPr>
        <p:blipFill>
          <a:blip r:embed="rId1"/>
          <a:stretch/>
        </p:blipFill>
        <p:spPr>
          <a:xfrm>
            <a:off x="152280" y="2133720"/>
            <a:ext cx="3633840" cy="3446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038120" y="160020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По утрам, когда встает солнце, Симбад начинает петь песенки очень звонкие и забавные. А еще по утрам он делает гимнастику, сидя на жердочке, опускается в низ головой и расправляет крылышки.</a:t>
            </a:r>
            <a:r>
              <a:rPr b="0" i="1" lang="ru-RU" sz="2800" spc="-1" strike="noStrike">
                <a:solidFill>
                  <a:srgbClr val="3399ff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Я очень люблю своего попуга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9" descr="DSC01535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9-30T17:21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