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BA52-AAA2-4929-BED9-CEA15784C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6A00-8FE4-4972-92A9-FD77F6A14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DBA2-E569-4C69-A3C3-78C610797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874C-7360-46F8-9B99-7916136D0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C1865-9A77-455E-B406-CAB55EFF5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0771A-36C3-49C4-858A-93AF99070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6623B-3442-45ED-ABBA-C2DD2AF56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790E2-B449-4265-92A9-93FCF7454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5F6DE-25B2-4AF8-85E2-B575B0F4E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71A71-E688-4254-97BD-74FA086F9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36925-4D60-44DE-9052-11AAB6BD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73F8-5159-4667-8BD6-FC585C1B4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00032-2BC1-4A66-9155-57F4F9EE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2B532-2056-45BE-A930-9AF336FA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B4D08-45E8-4781-920F-08D40E7EB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730E1-A852-4F78-83A2-BC75966BE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1E6C8-84CD-4A31-A48E-4812A6310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E2183-60CF-440E-8D02-7512BC4AD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29E86-2D7F-45A4-88A8-24C01DF78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EA15F-F9B0-4F84-B22E-247444FFE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67C66-7940-481D-8D29-9C4669196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5DD0A-E1FE-4F05-A1ED-6EDD7511C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2C0F-21A5-4DF0-A88F-8328EB9AA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DA71B-AE59-459B-85CD-DB7CFF2CB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C3619-DCBA-4E05-B17C-147EA953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6FA43-7BAE-43CB-9B74-7BAF01EF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046AA-A14C-4B8D-A5A2-52AC033D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89146-9397-418D-A071-EE68ECC0A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87BBC-42F4-4E65-A93F-D119FE3F4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5D3FC-9993-434D-852B-B0E8C8F05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3FA0E-46F9-4A36-BF19-E916EDB9C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DEBB4-EAC4-4480-A816-8E07792B3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BE7CF-E079-4217-9BCA-98325577B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57A5-35C7-4578-BAA0-41228EDEB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1B955-F1DA-4CD3-BCBF-2A3F8B466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17B13-3D56-4F76-AADC-BD63B6B51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48D58-2CB0-4B0C-B6F3-15D5AB3C7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16B62-BDEE-4A77-BE42-B707F147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23D30-EFC3-4482-83A5-59F52976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465F2-F86B-4E2B-9758-43842871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0D159-7638-4591-A11E-86CBDC92E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DC657-1BDA-4DDB-9ADF-F9D3D845A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658B8-A2FF-4255-BA15-468896645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87C93-0CE5-42D7-83AF-0724087FD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8E36-A768-4EA3-816C-76D6861E4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60ECE-6328-42B0-A7AE-4A589AEE2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C06CF-6D74-42DB-BFBE-C112A3679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509DE-0B12-4653-ADC9-60FEE26C7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D7F64-4ED3-4BAA-8C5B-52DC70A8B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C9994B-EA7D-475E-8EC3-F5BE2FDC9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528FE-15AB-4EC3-A841-40FDA509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A2170-E6EE-48FA-9709-2A704B08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4A592-95BA-4B81-9320-7CBD2BFC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BB875-FA08-442D-8296-E10C3A893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34561-63DD-42D9-A293-5A76BFF2E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BFC8-20C7-4E25-A15F-BF6B6B866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9DCF5-C73B-4CDE-A3E6-372EF8B95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BD6C7-F440-41AF-A902-327388DCA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31903-D43B-40F4-BD8D-5ED1A0FBF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0B93E-5A4A-46E6-A012-0F09700FC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4EB71-F8A9-4866-A7B7-633208CFF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72DCC-0312-4161-97FB-9FD573AC7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31493-7DDC-4EAB-8142-EFA122A76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FF566-BE75-4504-B49F-2BFD2242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66263-331D-4481-BB82-E81F4C25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62BAB-1FD3-4D3D-AAB5-5B913B39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FB95-8624-42EF-B723-F8642BB3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5F7AE-55A2-4C24-BFCD-6868A392A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15745-4568-4154-BE00-1B379C4B2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820E6-AAD2-43A0-92CC-359F8F00F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E79FE-37E4-4752-BF93-0C74F03B4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72D35-89C9-4C5A-8F22-4F0BF67DD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57A02-A580-4A20-AD7F-0013EE0E2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F68FA-D427-4F0B-B1F2-7902846D3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CD8154-29CA-4D93-B6BF-8E4CF2AE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2A58BF-52E3-4225-A2DC-295F20DC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522D06-AD0C-44F7-B981-60F5D22B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FE72-9747-48D9-AC37-CF695860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339194-0092-46BC-AB8C-C934CD38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B89FC6-2150-45BF-90EE-A24AC9B9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C4965-D762-40F4-A0F6-2E10576D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F0E679-3154-4C8D-966F-3EFAE1BC9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0F917F-B13B-4DB6-A5E7-ADDDE2BAC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48CC-8307-4F8A-AE5D-9F67AA6D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D0829-2397-4CA9-94CA-48DF6B3E9C6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3104A-60D4-4A16-98A9-1E7FBCB4241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D5682-10B5-416F-8BDB-1DF734318FA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1C8B4-87F2-4246-966E-5D8D002427A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31E68-0C93-4AAD-B2AC-9CCF9D138F7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67B1B-CF89-4B85-8332-70F11BE6751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57967-C798-4113-9ECA-1458C6AC20A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16765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ndara"/>
              </a:rPr>
              <a:t>Мой питомец-попугай Симбад</a:t>
            </a: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         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Выполнил ученик 6а класса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Каратеев Кирилл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ndara"/>
              </a:rPr>
              <a:t>Мой питомец.</a:t>
            </a:r>
            <a:endParaRPr b="0" lang="en-US" sz="6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80520" y="1904760"/>
            <a:ext cx="3635640" cy="41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У меня есть попугай породы нимфа корелла, кличка Симбад ему 7 лет. Родиной попугаев-нимф - Австралия. На этом большом континенте они встречаются почти повсюду, за исключением влажной приморской полосы. Симбад размером с изящного голубя, издает приятный на слух крик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andara"/>
              </a:rPr>
              <a:t>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39" name="Picture 9" descr="DSC01535"/>
          <p:cNvPicPr/>
          <p:nvPr/>
        </p:nvPicPr>
        <p:blipFill>
          <a:blip r:embed="rId1"/>
          <a:stretch/>
        </p:blipFill>
        <p:spPr>
          <a:xfrm>
            <a:off x="4645080" y="3038400"/>
            <a:ext cx="3822480" cy="27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ndara"/>
              </a:rPr>
              <a:t>Красота моего попуга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64508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andara"/>
              </a:rPr>
              <a:t>У Симбада серый тон оперения,  желтый хохолок на лбу и светлые красновато-оранжевые пятна на щеках в области ушей. Длина кореллы от головы до кончика перьев составляет 30 см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43" name="Picture 27" descr="Фото0860"/>
          <p:cNvPicPr/>
          <p:nvPr/>
        </p:nvPicPr>
        <p:blipFill>
          <a:blip r:embed="rId1"/>
          <a:stretch/>
        </p:blipFill>
        <p:spPr>
          <a:xfrm>
            <a:off x="685800" y="1905120"/>
            <a:ext cx="380988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00"/>
                </a:solidFill>
                <a:latin typeface="Candara"/>
              </a:rPr>
              <a:t>Забавная гимнастика.</a:t>
            </a:r>
            <a:endParaRPr b="0" lang="en-US" sz="6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5" name="Picture 7" descr="Фото0861"/>
          <p:cNvPicPr/>
          <p:nvPr/>
        </p:nvPicPr>
        <p:blipFill>
          <a:blip r:embed="rId1"/>
          <a:stretch/>
        </p:blipFill>
        <p:spPr>
          <a:xfrm>
            <a:off x="152280" y="2133720"/>
            <a:ext cx="3633840" cy="344628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 txBox="1"/>
          <p:nvPr/>
        </p:nvSpPr>
        <p:spPr>
          <a:xfrm>
            <a:off x="4038120" y="1600200"/>
            <a:ext cx="48769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ndara"/>
              </a:rPr>
              <a:t>По утрам, когда встает солнце, Симбад начинает петь песенки очень звонкие и забавные. А еще по утрам он делает гимнастику, сидя на жердочке, опускается в низ головой и расправляет крылышки.</a:t>
            </a:r>
            <a:r>
              <a:rPr b="0" i="1" lang="ru-RU" sz="2800" spc="-1" strike="noStrike">
                <a:solidFill>
                  <a:srgbClr val="3399ff"/>
                </a:solidFill>
                <a:latin typeface="Candara"/>
              </a:rPr>
              <a:t>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ndara"/>
              </a:rPr>
              <a:t>Я очень люблю своего попугая.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8" name="Picture 9" descr="DSC01535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6-09-30T17:21:23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