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458-A487-401A-853F-0C55FC42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561-9B02-4706-9559-C8F3F7E1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D8C-E995-4ACB-959F-981B5709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81E-2617-4797-AECD-F57330F9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12E-7FFE-4B13-B21F-2B5800DD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C29-1E0F-4844-89BB-F4462E83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D16-2417-499D-81B5-E83A055F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54D-9930-481F-B52F-E77FC4D2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982-F6EA-4D83-AF27-B96D7650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D54-B0FE-41D2-A470-56585E04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2EC-C4B8-4D57-AA5B-686BF9A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961-4ABA-4560-ADE3-1A8D9825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215E-1AFC-4028-B047-FF16118B1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7" descr=""/>
          <p:cNvPicPr/>
          <p:nvPr/>
        </p:nvPicPr>
        <p:blipFill>
          <a:blip r:embed="rId1"/>
          <a:stretch/>
        </p:blipFill>
        <p:spPr>
          <a:xfrm>
            <a:off x="0" y="49320"/>
            <a:ext cx="9644040" cy="4894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7640" y="5084640"/>
            <a:ext cx="655164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4061"/>
                </a:solidFill>
                <a:latin typeface="Arial Black"/>
              </a:rPr>
              <a:t>МКОУ Чайковская СОШ</a:t>
            </a:r>
            <a:br>
              <a:rPr sz="3600"/>
            </a:br>
            <a:r>
              <a:rPr b="0" lang="ru-RU" sz="3600" spc="-1" strike="noStrike">
                <a:solidFill>
                  <a:srgbClr val="254061"/>
                </a:solidFill>
                <a:latin typeface="Arial Black"/>
              </a:rPr>
              <a:t>ученика 10 класса </a:t>
            </a:r>
            <a:br>
              <a:rPr sz="3600"/>
            </a:br>
            <a:r>
              <a:rPr b="0" lang="ru-RU" sz="3600" spc="-1" strike="noStrike">
                <a:solidFill>
                  <a:srgbClr val="254061"/>
                </a:solidFill>
                <a:latin typeface="Arial Black"/>
              </a:rPr>
              <a:t>Жалимова Руста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зык-это саморазвивающийся механ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мецких текстах присутствуют интернационализ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ационализмы играют положительную роль в развитии языка, взаимовлиянии культур и расширении словарного запа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2205000"/>
            <a:ext cx="80643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 наличие  интернационализм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текстах     различного         характера, исследовать   частотность  употребления  лиц   немецких   глаголов  на   примерах текстов  различных  жан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cd5b5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0" y="13831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одобрать тексты разных жанров: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художественный, публицистический, научно -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опулярный.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Обработать текстовые материалы с целью выявления интернационализмов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Составить частотную таблицу употребления интернационализмов в разных текстах соответственно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Выяснить информированность об интернациона-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лизмах среди жителей д. Шулдат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Проанализировать полученные результаты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т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ов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ого отбора необходимого лексическ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истического наблю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тизации результатов иссле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тиче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1643040"/>
          </a:xfrm>
          <a:prstGeom prst="rect">
            <a:avLst/>
          </a:prstGeom>
          <a:solidFill>
            <a:srgbClr val="fcd5b5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такое интернационализмы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429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национали́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слово, возникшее первоначально в одном языке и затем из него заимствованное в большинство других языков мира для обозначения этого понятия. Слово считается интернационализмом если оно присутствует хотя бы в 3 языках ми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Medium"/>
              </a:rPr>
              <a:t>СКОЛЬКО  ИНТЕРНАЦИОНАЛИЗМОВ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Franklin Gothic Medium"/>
              </a:rPr>
              <a:t>В  ТЕКСТАХ?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995720"/>
        </p:xfrm>
        <a:graphic>
          <a:graphicData uri="http://schemas.openxmlformats.org/drawingml/2006/table">
            <a:tbl>
              <a:tblPr/>
              <a:tblGrid>
                <a:gridCol w="2459160"/>
                <a:gridCol w="1584360"/>
                <a:gridCol w="2376360"/>
                <a:gridCol w="1809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 интернацио-нализ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интернацио-нализ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тическая 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цистическая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78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17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ranklin Gothic Medium"/>
              </a:rPr>
              <a:t>Какие части речи бывают интернационализм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557360"/>
          <a:ext cx="8362800" cy="5040360"/>
        </p:xfrm>
        <a:graphic>
          <a:graphicData uri="http://schemas.openxmlformats.org/drawingml/2006/table">
            <a:tbl>
              <a:tblPr/>
              <a:tblGrid>
                <a:gridCol w="2314440"/>
                <a:gridCol w="1944720"/>
                <a:gridCol w="1295640"/>
                <a:gridCol w="1512720"/>
                <a:gridCol w="1295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а сущест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а прила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г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части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тическая 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цистическая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1626=95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=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=1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=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ВОЙ ИЛИ ЧУЖОЙ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сика считается самой изменчивой частью языка. Но именно она осуществляет "связь времен", в ней можно обнаружить информацию о прежней материальной и духовной культуре общества - недавней или более отдаленной и даже древн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оязычная лексика, в основном, проникала в другие языки путем непосредственного общения народов. Общение возникало при разных обстоятельствах: когда люди переселялись из одной страны в другую, когда торговали друг с другом и когда вели войны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имствование слов из других языков – явление нередкое. Так происходило и происходит в языках всех народов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Рус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Немец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Англий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Француз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оль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Латин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атар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140360" y="1341360"/>
            <a:ext cx="72720" cy="73080"/>
          </a:xfrm>
          <a:custGeom>
            <a:avLst/>
            <a:gdLst>
              <a:gd name="textAreaLeft" fmla="*/ 29880 w 72720"/>
              <a:gd name="textAreaRight" fmla="*/ 42840 w 7272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Как мы воспринимаем интернационализмы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125360"/>
          <a:ext cx="8229600" cy="5307120"/>
        </p:xfrm>
        <a:graphic>
          <a:graphicData uri="http://schemas.openxmlformats.org/drawingml/2006/table">
            <a:tbl>
              <a:tblPr/>
              <a:tblGrid>
                <a:gridCol w="1450800"/>
                <a:gridCol w="576360"/>
                <a:gridCol w="647640"/>
                <a:gridCol w="576360"/>
                <a:gridCol w="719280"/>
                <a:gridCol w="720720"/>
                <a:gridCol w="718920"/>
                <a:gridCol w="720720"/>
                <a:gridCol w="720720"/>
                <a:gridCol w="863640"/>
                <a:gridCol w="514440"/>
              </a:tblGrid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ем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у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францу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нгли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аль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ах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ноп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т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лст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ур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уршл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Ярма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старбайт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9:03:04Z</dcterms:created>
  <dc:creator>1</dc:creator>
  <dc:description/>
  <dc:language>en-US</dc:language>
  <cp:lastModifiedBy>Бактяева</cp:lastModifiedBy>
  <dcterms:modified xsi:type="dcterms:W3CDTF">2016-09-30T15:22:05Z</dcterms:modified>
  <cp:revision>14</cp:revision>
  <dc:subject/>
  <dc:title>Частота употребления интернационализмов в немецких текстах</dc:title>
</cp:coreProperties>
</file>