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CB7-D0E0-4CE2-9D0D-04B67D71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E49-3801-4A5C-B024-36C06718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2316-E797-47E1-AEFE-9D5CD33F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732B-428D-45AE-A975-1B185CF0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C2B-667F-4A60-9F33-542ECF43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75D-B00C-4E4B-8C76-77159ED0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896-BECC-45FC-93EC-2F02B51A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FD71-39DF-4073-A66A-359E9455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572-FCBB-4444-9037-52B9A9FC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0351-4DAD-4731-8190-438F9ECD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19D-8B63-47EA-BF1C-303E7A1E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9DF-8722-4727-8E0D-E6DFA294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A336-ADC8-4ACD-8474-2D723988D8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7" descr=""/>
          <p:cNvPicPr/>
          <p:nvPr/>
        </p:nvPicPr>
        <p:blipFill>
          <a:blip r:embed="rId1"/>
          <a:stretch/>
        </p:blipFill>
        <p:spPr>
          <a:xfrm>
            <a:off x="0" y="49320"/>
            <a:ext cx="9644040" cy="4894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7640" y="5084640"/>
            <a:ext cx="655164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54061"/>
                </a:solidFill>
                <a:latin typeface="Arial Black"/>
              </a:rPr>
              <a:t>МКОУ Чайковская СОШ</a:t>
            </a:r>
            <a:br>
              <a:rPr sz="3600"/>
            </a:br>
            <a:r>
              <a:rPr b="0" lang="ru-RU" sz="3600" spc="-1" strike="noStrike">
                <a:solidFill>
                  <a:srgbClr val="254061"/>
                </a:solidFill>
                <a:latin typeface="Arial Black"/>
              </a:rPr>
              <a:t>ученика 10 класса </a:t>
            </a:r>
            <a:br>
              <a:rPr sz="3600"/>
            </a:br>
            <a:r>
              <a:rPr b="0" lang="ru-RU" sz="3600" spc="-1" strike="noStrike">
                <a:solidFill>
                  <a:srgbClr val="254061"/>
                </a:solidFill>
                <a:latin typeface="Arial Black"/>
              </a:rPr>
              <a:t>Жалимова Руста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зык-это саморазвивающийся механиз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мецких текстах присутствуют интернационализ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национализмы играют положительную роль в развитии языка, взаимовлиянии культур и расширении словарного запа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10920" y="2205000"/>
            <a:ext cx="80643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 наличие  интернационализм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  текстах     различного         характера, исследовать   частотность  употребления  лиц   немецких   глаголов  на   примерах текстов  различных  жан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cd5b5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дач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0" y="138312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*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одобрать тексты разных жанров: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художественный, публицистический, научно - 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опулярный.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* Обработать текстовые материалы с целью выявления интернационализмов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* Составить частотную таблицу употребления интернационализмов в разных текстах соответственно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* Выяснить информированность об интернациона-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лизмах среди жителей д. Шулдат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* Проанализировать полученные результаты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т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исков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ого отбора необходимого лексического матери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тистического наблюд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тизации результатов исслед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о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тиче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1643040"/>
          </a:xfrm>
          <a:prstGeom prst="rect">
            <a:avLst/>
          </a:prstGeom>
          <a:solidFill>
            <a:srgbClr val="fcd5b5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Что такое интернационализмы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429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тернационали́з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слово, возникшее первоначально в одном языке и затем из него заимствованное в большинство других языков мира для обозначения этого понятия. Слово считается интернационализмом если оно присутствует хотя бы в 3 языках ми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Medium"/>
              </a:rPr>
              <a:t>СКОЛЬКО  ИНТЕРНАЦИОНАЛИЗМОВ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Franklin Gothic Medium"/>
              </a:rPr>
              <a:t>В  ТЕКСТАХ?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995720"/>
        </p:xfrm>
        <a:graphic>
          <a:graphicData uri="http://schemas.openxmlformats.org/drawingml/2006/table">
            <a:tbl>
              <a:tblPr/>
              <a:tblGrid>
                <a:gridCol w="2459160"/>
                <a:gridCol w="1584360"/>
                <a:gridCol w="2376360"/>
                <a:gridCol w="18097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с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 интернацио-нализм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% интернацио-нализм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итическая  ста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ента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блицистическая ста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м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78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2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17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Franklin Gothic Medium"/>
              </a:rPr>
              <a:t>Какие части речи бывают интернационализм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1557360"/>
          <a:ext cx="8362800" cy="5040360"/>
        </p:xfrm>
        <a:graphic>
          <a:graphicData uri="http://schemas.openxmlformats.org/drawingml/2006/table">
            <a:tbl>
              <a:tblPr/>
              <a:tblGrid>
                <a:gridCol w="2314440"/>
                <a:gridCol w="1944720"/>
                <a:gridCol w="1295640"/>
                <a:gridCol w="1512720"/>
                <a:gridCol w="12952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на сущест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на прила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г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части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итическая  ста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ента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блицистическая ста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м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80"/>
                          </a:solidFill>
                          <a:latin typeface="Calibri"/>
                        </a:rPr>
                        <a:t>1626=95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=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=1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=0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ВОЙ ИЛИ ЧУЖОЙ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ксика считается самой изменчивой частью языка. Но именно она осуществляет "связь времен", в ней можно обнаружить информацию о прежней материальной и духовной культуре общества - недавней или более отдаленной и даже древн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оязычная лексика, в основном, проникала в другие языки путем непосредственного общения народов. Общение возникало при разных обстоятельствах: когда люди переселялись из одной страны в другую, когда торговали друг с другом и когда вели войны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имствование слов из других языков – явление нередкое. Так происходило и происходит в языках всех народов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Русский?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Немецкий?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               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Английский?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Французский?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      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Польский?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Латинский?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Татарский?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4140360" y="1341360"/>
            <a:ext cx="72720" cy="73080"/>
          </a:xfrm>
          <a:custGeom>
            <a:avLst/>
            <a:gdLst>
              <a:gd name="textAreaLeft" fmla="*/ 29880 w 72720"/>
              <a:gd name="textAreaRight" fmla="*/ 42840 w 7272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Как мы воспринимаем интернационализмы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125360"/>
          <a:ext cx="8229600" cy="5307120"/>
        </p:xfrm>
        <a:graphic>
          <a:graphicData uri="http://schemas.openxmlformats.org/drawingml/2006/table">
            <a:tbl>
              <a:tblPr/>
              <a:tblGrid>
                <a:gridCol w="1450800"/>
                <a:gridCol w="576360"/>
                <a:gridCol w="647640"/>
                <a:gridCol w="576360"/>
                <a:gridCol w="719280"/>
                <a:gridCol w="720720"/>
                <a:gridCol w="718920"/>
                <a:gridCol w="720720"/>
                <a:gridCol w="720720"/>
                <a:gridCol w="863640"/>
                <a:gridCol w="514440"/>
              </a:tblGrid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ЯЗЫ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еме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ус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француз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нгли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800080"/>
                          </a:solidFill>
                          <a:uFillTx/>
                          <a:latin typeface="Calibri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аль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800080"/>
                          </a:solidFill>
                          <a:uFillTx/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ах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800080"/>
                          </a:solidFill>
                          <a:uFillTx/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ноп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800080"/>
                          </a:solidFill>
                          <a:uFillTx/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т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800080"/>
                          </a:solidFill>
                          <a:uFillTx/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алсту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800080"/>
                          </a:solidFill>
                          <a:uFillTx/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ур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800080"/>
                          </a:solidFill>
                          <a:uFillTx/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и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800080"/>
                          </a:solidFill>
                          <a:uFillTx/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уршл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800080"/>
                          </a:solidFill>
                          <a:uFillTx/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Ярма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800080"/>
                          </a:solidFill>
                          <a:uFillTx/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астарбайте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800080"/>
                          </a:solidFill>
                          <a:uFillTx/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9:03:04Z</dcterms:created>
  <dc:creator>1</dc:creator>
  <dc:description/>
  <dc:language>en-US</dc:language>
  <cp:lastModifiedBy>Бактяева</cp:lastModifiedBy>
  <dcterms:modified xsi:type="dcterms:W3CDTF">2016-09-30T15:22:05Z</dcterms:modified>
  <cp:revision>14</cp:revision>
  <dc:subject/>
  <dc:title>Частота употребления интернационализмов в немецких текстах</dc:title>
</cp:coreProperties>
</file>