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2.jpeg" ContentType="image/jpeg"/>
  <Override PartName="/ppt/media/image17.jpeg" ContentType="image/jpeg"/>
  <Override PartName="/ppt/media/image14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.png" ContentType="image/png"/>
  <Override PartName="/ppt/media/image3.jpeg" ContentType="image/jpeg"/>
  <Override PartName="/ppt/media/image24.jpeg" ContentType="image/jpeg"/>
  <Override PartName="/ppt/media/image23.jpeg" ContentType="image/jpeg"/>
  <Override PartName="/ppt/media/image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412B-8357-4AC9-886E-2E7D35627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F430-D3D0-40E6-82CC-8DF34DBB8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292C-A49D-4873-BBDD-8AD747DA9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0B9E-02C7-4CA1-B41F-292D74934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D864-0085-4A14-AA2F-E4ECF7F24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A3DF9-08C8-424D-A8F7-E2A199E50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49BB2-3268-4DD8-A598-0BCB4F1E0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EEA0A-89A5-430B-9828-DC4AAD86E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42BC2-4546-45D4-84FC-80DD25BD7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89292-F3BF-4434-8F37-CE9C0DE9B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BCE3-C317-436B-B206-0910B2289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84C6E-3E62-4FFD-8679-02BDC95E1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289CB-BCA8-409A-AE01-EA04784C4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2ACEF-AC76-49E7-842D-2F090814C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E1631-489D-4D67-991C-599593D0F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EAE05-6A02-4B90-9155-2398A96C9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F6464-D3EB-4B98-9E02-95F5D5138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473F3-1461-4DB8-9605-2FAC4EE08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128C-59FE-4595-AAA4-50D4BADE6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B2FF-FB0F-40F7-86C4-3039E1AE4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2254-66AF-4AE6-BE8F-0BF5EA450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437F-B8FE-457C-9A8A-239CA6CF4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BA06-F552-45FF-8E31-AC73C4269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46CF-118E-47D8-98ED-14E4146FD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5337C-1A84-4582-BC65-CEB5DF588A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-1584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4C16C-EFCB-4236-8816-ED85FF76AE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755640" y="189000"/>
            <a:ext cx="7561440" cy="179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езон английского пудинг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258920" y="1916280"/>
            <a:ext cx="6718320" cy="44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900000" y="836640"/>
            <a:ext cx="6939000" cy="4626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250920" y="5445000"/>
            <a:ext cx="87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Нормандский пудинг обливается нормандским сидр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971640" y="333360"/>
            <a:ext cx="6624720" cy="49687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395280" y="580536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Знакомство Алисы с пудинг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908000" y="404640"/>
            <a:ext cx="5410440" cy="538812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250920" y="6021360"/>
            <a:ext cx="83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ключение рождественского пудин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5616720" cy="55166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12000" y="2637000"/>
            <a:ext cx="313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«Волшебный пудинг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3924360" y="115920"/>
            <a:ext cx="4648320" cy="655308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250920" y="1700280"/>
            <a:ext cx="3457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ри королеве Виктории пудинг появился в современном вид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4392720" cy="34941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3635280" y="3968640"/>
            <a:ext cx="5356440" cy="26784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5867280" y="260280"/>
            <a:ext cx="2940120" cy="196056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4"/>
          <a:stretch/>
        </p:blipFill>
        <p:spPr>
          <a:xfrm>
            <a:off x="395280" y="4005360"/>
            <a:ext cx="2952720" cy="26874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5003640" y="2637000"/>
            <a:ext cx="352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Вещи-оракулы в пудинг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826920" y="1700280"/>
            <a:ext cx="7345440" cy="489276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684360" y="189000"/>
            <a:ext cx="712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Узнать вкус пудинга можно, только попробовав его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826920" y="476280"/>
            <a:ext cx="7777440" cy="51847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1547640" y="580536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Клубничный пудин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826920" y="404640"/>
            <a:ext cx="7488360" cy="561024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1042920" y="6093000"/>
            <a:ext cx="69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Шоколадный пудин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11280" y="981000"/>
            <a:ext cx="7632720" cy="50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258920" y="836640"/>
            <a:ext cx="6337440" cy="42210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755640" y="566100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ождественский плам-пудин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55640" y="981000"/>
            <a:ext cx="7761240" cy="41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55640" y="1125360"/>
            <a:ext cx="7651800" cy="480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684360" y="1139760"/>
            <a:ext cx="7559640" cy="44593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1187280" y="6021360"/>
            <a:ext cx="705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Малиновый пудин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684360" y="620640"/>
            <a:ext cx="7559640" cy="50310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1476360" y="5805360"/>
            <a:ext cx="619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Молочный пудин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755640" y="476280"/>
            <a:ext cx="7129440" cy="50706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1042920" y="595008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Карамельный пудин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692280"/>
            <a:ext cx="8388360" cy="415908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763640" y="5589720"/>
            <a:ext cx="56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Манный пудин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4897440" cy="61930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5292720" y="2565360"/>
            <a:ext cx="338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емецкий торт «Айершекке» - в его составе пудин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611280" y="620640"/>
            <a:ext cx="7619760" cy="40766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900000" y="5373720"/>
            <a:ext cx="69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Торт «Дунайские волны» - в его составе пудин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611280" y="620640"/>
            <a:ext cx="7488000" cy="499104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0" y="58053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Йоркширский пудинг – кляр с бараньим жир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00000" y="476280"/>
            <a:ext cx="6624720" cy="49672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108000" y="5516640"/>
            <a:ext cx="856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Чёрный пудинг –                                 начинка кровяной колбас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5327640" cy="53276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12000" y="2492280"/>
            <a:ext cx="280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Белый пудин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755640" y="549360"/>
            <a:ext cx="6769080" cy="50767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0" y="5667480"/>
            <a:ext cx="85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Красный пудинг – смесь разных сортов мяса в кляр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476360" y="476280"/>
            <a:ext cx="6264360" cy="48625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619280" y="580536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Рождественский пудин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06T14:56:48Z</dcterms:created>
  <dc:creator>Танюшка</dc:creator>
  <dc:description/>
  <dc:language>en-US</dc:language>
  <cp:lastModifiedBy>Tatyana</cp:lastModifiedBy>
  <dcterms:modified xsi:type="dcterms:W3CDTF">2016-09-30T15:17:58Z</dcterms:modified>
  <cp:revision>5</cp:revision>
  <dc:subject/>
  <dc:title>Слайд 1</dc:title>
</cp:coreProperties>
</file>