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6C8-8D0E-41CF-884C-A0F4DB6B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0D6-0840-4733-96AC-5B6E982D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114-4159-4417-A482-56D41E4A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A80-3EE2-4CAD-98BA-1C887E97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D6A-956D-4AC9-B851-93A4FFF3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2B7E-A334-43F3-B823-615A6FE4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F347-8932-4E1B-B31D-59F518A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5F6-4F2A-416D-A30E-BCE9B0F4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40A-F82C-4F2C-B963-A11B316F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5EF-1724-4934-A4D9-81BCCAF4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A02-9555-4AC3-A154-B371BD43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BEE-F32B-421A-BE64-2A3EB45F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F75-5312-4841-9279-BC5B29B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222A-9E97-4FF8-8D2F-8A193BE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6BAF-A21A-41A4-A86D-91DD3D8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F37-41BE-4933-A4BC-073E5BAD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F8D0-4620-4AC5-AE43-E455F39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566E-AF87-4379-B3A5-F1140E2A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BED-9217-46DE-8619-81A65919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CB5-47D2-490D-8CD1-1DC982F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858-A2E6-4145-A0B3-E8E74C88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BA8-5BC7-4905-9F57-53BA7CA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760-B8EA-495C-85DC-D00813B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174-C90E-4A4B-AA42-FFA8060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452-1E00-4707-916D-494B7F8A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0BD-913F-424B-B1FC-4BD2CDDA0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55640" y="189000"/>
            <a:ext cx="7561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зон английского пудинг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1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939000" cy="462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рмандский пудинг обливается нормандским си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58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комство Алисы с пудин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410440" cy="538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602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ключение рождественского пуд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616720" cy="5516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263700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олшебный пудин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4648320" cy="655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70028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 королеве Виктории пудинг появился в современном в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92720" cy="3494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635280" y="3968640"/>
            <a:ext cx="5356440" cy="2678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940120" cy="1960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2952720" cy="268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637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щи-оракулы в пудин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45440" cy="489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189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знать вкус пудинга можно, только попробовав ег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7440" cy="518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47640" y="58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убнич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5610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42920" y="6093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околад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327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337440" cy="4221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566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ждественский плам-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612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518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139760"/>
            <a:ext cx="7559640" cy="4459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87280" y="6021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линов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559640" cy="5031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76360" y="5805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ч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129440" cy="5070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42920" y="5950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рамель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88360" cy="415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3640" y="558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нн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897440" cy="6193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92720" y="256536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мецкий торт «Айершекке» - в его составе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619760" cy="4076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3737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рт «Дунайские волны» - в его составе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48800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58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Йоркширский пудинг – кляр с бараньим ж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8000" y="551664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ёрный пудинг –                                 начинка кровяной колба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27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2492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елы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566748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расный пудинг – смесь разных сортов мяса в кля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264360" cy="4862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19280" y="58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ждественский пуд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14:56:48Z</dcterms:created>
  <dc:creator>Танюшка</dc:creator>
  <dc:description/>
  <dc:language>en-US</dc:language>
  <cp:lastModifiedBy>Tatyana</cp:lastModifiedBy>
  <dcterms:modified xsi:type="dcterms:W3CDTF">2016-09-30T15:17:58Z</dcterms:modified>
  <cp:revision>5</cp:revision>
  <dc:subject/>
  <dc:title>Слайд 1</dc:title>
</cp:coreProperties>
</file>