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526-A3C8-49AF-A000-8F880249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491-CB59-4D56-B191-C8EC62C9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179-FB60-49C7-8C8D-8E978D0E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E9B-45AD-4E03-A9EC-22AED82C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74E2-5BFE-4B01-A1BB-8463361A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9AFC-B5C1-4D40-916F-C21E7C2B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4A27-F645-40C2-BB85-6A0147C9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E39F-B937-4B07-A2E2-BCA1D0EF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7646-4CD7-4257-8483-1DC91074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2788-E3F0-4B42-B2BD-3F263DD2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4267-5E00-471A-9566-E84FCF37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B66-ECC0-4F1D-8997-4266F66E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9EE0-5A78-4C53-902D-78D64218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DE60-8F31-412C-BF4F-9073C08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A7BE-6FE9-4BCF-BF26-AFC940EA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B7DE-4487-4304-8EE9-AF8D37B9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1E72-7FF9-4D02-A257-FD01636F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B7C-2C52-4B1E-8700-599E7490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D3F-3777-4952-B453-CEEEA1EE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6A7-AB48-48E6-B451-464B4C07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CFC-0C9A-43F3-9272-258936CA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1BA-622A-4E1D-89E1-1D9DC20E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A61-BB7A-498A-A164-E5F2D0B5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083-70B1-442E-9806-F1727543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FC5A-1285-4D67-A17F-445FF5F07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593D-6A0F-4C94-B1CF-A6F802AE3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 rot="21309600">
            <a:off x="539640" y="980640"/>
            <a:ext cx="8136000" cy="315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начение корней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х разнообраз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ХОДУЛЬНЫЕ КОР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9840" y="5392800"/>
            <a:ext cx="41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ющий панданус во флоридс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ду тропических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382920" cy="396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859280" y="522936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данус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andanus tectori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трове Гавай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ульные корни помог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у выдерживать навод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топляемых низи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048120" cy="4608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340000" y="1268280"/>
            <a:ext cx="3600360" cy="4662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227640" y="2205000"/>
            <a:ext cx="2409840" cy="4281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68920" y="27936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одульные корни панданус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КОНТРФОРСЫ И ЗМЕЕВИДНЫЕ КОРН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190680" cy="3887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3171960" cy="3816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6000" y="177336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78000" y="640080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форсы и змеевидные корни сей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ЫХАТЕЛЬНЫЕ КОР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010040" cy="3089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9800" y="5667480"/>
            <a:ext cx="31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ыхательные корни ди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скатного орех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959280" cy="3371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12480" y="5667480"/>
            <a:ext cx="43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ые корни флорид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гров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hizophora mang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ют густую и труднопроходим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щ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ипы корневых сист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6244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тержневая корне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Мочковатая корне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58760" y="3063960"/>
            <a:ext cx="3573720" cy="2730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24440" y="3505320"/>
            <a:ext cx="23097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42920" y="476280"/>
            <a:ext cx="505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ункции корне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720" y="171936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Всасы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1080" y="36450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Укрепление в поч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62160" y="4292640"/>
            <a:ext cx="233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Вегетатив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размн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7800" y="1700280"/>
            <a:ext cx="21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Запа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пит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68360" y="981000"/>
            <a:ext cx="719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98100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7280" y="981000"/>
            <a:ext cx="1009440" cy="33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981000"/>
            <a:ext cx="576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 Black"/>
              </a:rPr>
              <a:t>Видоизменения корн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50720" y="1576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непл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5080" y="206064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невые клуб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635280" y="3056760"/>
            <a:ext cx="4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9960" y="2565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невые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9440" y="2997360"/>
            <a:ext cx="29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ктериальные клубень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5440" y="34290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дульные кор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2160" y="37893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здушные кор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2360" y="42210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тягивающие кор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60360" y="46530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лбовидные кор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3800" y="508464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ни-подпо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5960" y="558972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трфо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981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836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836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981000"/>
            <a:ext cx="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90792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981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98100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981000"/>
            <a:ext cx="71640" cy="37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1052640"/>
            <a:ext cx="73080" cy="40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12000" y="981000"/>
            <a:ext cx="144720" cy="460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335640" cy="4248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Видоизменения корн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413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епл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1341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евые клуб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501336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евые 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501336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убеньки на корн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857320" cy="4674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60720" y="558972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и-подпорки у бадья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394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717640" cy="419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76360" y="515772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 ствол, а сплетение  огромных лиан рат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х  множеством мочковатых корней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исающих вн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08360" y="765000"/>
            <a:ext cx="50767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336840" cy="467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71640" y="476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ПИФИТНЫЕ КОРН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9480" y="1360440"/>
            <a:ext cx="441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оридский фикус-душ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Ficus aure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начинает жизнь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и где-нибудь в трещ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го дерева и, развивая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бивает его. Здесь «хозяин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евиллея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Grevillea robus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КОРНИ-ПАРАЗ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61880" y="1820880"/>
            <a:ext cx="4684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ропические раст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адлежат к  семейств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мнецветниковы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ут за счет ближн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крадут питательные веще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репляя свои корни к корн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едних растений, причем жертв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-видимому, нисколько не страд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того, что им приходится корм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лебни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95480" y="60404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йтсия обильноцвету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0:55:40Z</dcterms:created>
  <dc:creator>Слюсарь Т.Д.</dc:creator>
  <dc:description/>
  <dc:language>en-US</dc:language>
  <cp:lastModifiedBy>uchitel</cp:lastModifiedBy>
  <dcterms:modified xsi:type="dcterms:W3CDTF">2007-09-10T05:28:51Z</dcterms:modified>
  <cp:revision>7</cp:revision>
  <dc:subject>Строение организма</dc:subject>
  <dc:title>Значение корней и их разнообразие</dc:title>
</cp:coreProperties>
</file>