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184-E9F8-438F-81E5-34275B9E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7D8-1055-417B-88EB-56AFB7A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43E-8299-4182-B37F-49E5EE92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01-3546-4612-B0D2-4321B956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634-6C68-40E9-B2D5-60B72250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D68-8AF3-4FF0-B741-0C0FAE0E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71E-2313-4BD2-90B5-76C07F6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DC9-C341-48FD-910C-1F91B71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670A-E847-4067-8AF4-8530E91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FE3-AC75-4C67-BCE9-B070CFC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FFF-363E-46B5-9814-08D5A296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036-3890-4349-986A-4F89091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CE28-AEE9-4D96-94D4-09B0F01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C40-C040-46E1-A496-399871F3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C34B-D8FF-45D3-9EB8-BC13780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AA86-C184-47C0-99A9-2C49FF20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4457-5163-4F7E-9B97-D12A7708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25C-3FF1-48B2-87D8-9D550BB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012-0B23-427B-9DAA-956B823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959-3D0D-4851-9017-28829AB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A5D-FB6A-4B2E-8FBA-70166C1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A50-95F9-4B16-AE83-C699D70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CFF-8B47-44FF-B2D5-3E583A7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231-A378-47F5-8F27-9ECAE5E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576-7C04-4679-AA00-BA9C82575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6D2-54D4-42FA-948A-BBEA215B0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309600">
            <a:off x="539640" y="980640"/>
            <a:ext cx="8136000" cy="315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чение корней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х разнообраз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ХОДУ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9840" y="539280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ющий панданус во флорид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у тропических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82920" cy="396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5928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данус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andanus tectori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трове Гавай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ульные корни помо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 выдерживать 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топляемых низ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048120" cy="4608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3600360" cy="466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409840" cy="4281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68920" y="27936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одульные корни пандану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КОНТРФОРСЫ И ЗМЕЕВИДНЫЕ КОРН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190680" cy="388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3171960" cy="381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6000" y="1773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78000" y="640080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форсы и змеевидные корни сей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ЫХАТЕ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010040" cy="3089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9800" y="566748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хательные корни ди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скатного оре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371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12480" y="5667480"/>
            <a:ext cx="43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ые корни флорид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гров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hizophora mang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т густую и труднопроходим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ипы корневых сист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624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ержнев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очковат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58760" y="3063960"/>
            <a:ext cx="3573720" cy="273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24440" y="3505320"/>
            <a:ext cx="2309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42920" y="476280"/>
            <a:ext cx="50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и кор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171936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сасы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080" y="36450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Укрепление 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62160" y="4292640"/>
            <a:ext cx="23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егетатив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размн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7800" y="1700280"/>
            <a:ext cx="21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Запа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ит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68360" y="981000"/>
            <a:ext cx="719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981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981000"/>
            <a:ext cx="100944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981000"/>
            <a:ext cx="57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Видоизменения корн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50720" y="157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5080" y="20606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35280" y="3056760"/>
            <a:ext cx="4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9960" y="2565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9440" y="299736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ктериальные клубен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5440" y="34290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дуль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2160" y="37893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душ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2360" y="42210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ягивающи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60360" y="4653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бовид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3800" y="50846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и-подпо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5960" y="55897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фо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98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836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83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981000"/>
            <a:ext cx="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90792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981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98100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981000"/>
            <a:ext cx="71640" cy="37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052640"/>
            <a:ext cx="73080" cy="40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981000"/>
            <a:ext cx="144720" cy="460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335640" cy="4248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Видоизменения кор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413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1341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вые 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беньки на кор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857320" cy="467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60720" y="558972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и-подпорки у бадья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394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17640" cy="419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515772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 ствол, а сплетение  огромных лиан рат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х  множеством мочковатых корней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сающих вн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765000"/>
            <a:ext cx="5076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336840" cy="467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1640" y="476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ПИФИТНЫЕ КОРН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9480" y="1360440"/>
            <a:ext cx="441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оридский фикус-душ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icus aure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чинает жизнь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и где-нибудь в трещ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го дерева и, развивая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бивает его. Здесь «хозяин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виллея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Grevillea robus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КОРНИ-ПАРАЗ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61880" y="1820880"/>
            <a:ext cx="468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ропические раст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адлежат к  семейст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мнецветников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ут за счет ближ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крадут питательные веще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репляя свои корни к корн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них растений, причем жертв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-видимому, нисколько не стра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того, что им приходится корм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лебн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95480" y="60404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йтсия обильноцвету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0:55:40Z</dcterms:created>
  <dc:creator>Слюсарь Т.Д.</dc:creator>
  <dc:description/>
  <dc:language>en-US</dc:language>
  <cp:lastModifiedBy>uchitel</cp:lastModifiedBy>
  <dcterms:modified xsi:type="dcterms:W3CDTF">2007-09-10T05:28:51Z</dcterms:modified>
  <cp:revision>7</cp:revision>
  <dc:subject>Строение организма</dc:subject>
  <dc:title>Значение корней и их разнообразие</dc:title>
</cp:coreProperties>
</file>