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3F1-C6B2-4174-A613-DDC5AFEB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AA7-496C-4C84-A69A-6F2289BD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5A4-6165-40CF-AC64-56873039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7A0-4CF1-425C-8478-5D66A546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A0E2-5FE3-4546-B2B5-0938A8AD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C34A-AF8C-4672-9893-BF25486E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A4A6-919A-4B77-9F1E-83F2483B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6CF1-3763-47C6-B7D0-7B29EA59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363E-D553-4EA8-A059-2CE3B743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A577-4032-4425-A32C-B49BDB59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90D2-C5FD-4704-B5B5-CB2A819B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385-C663-4A9F-84B9-E48B1DD5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732A-8F33-4AB7-84FE-19CA38E3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6802-26AB-4AFB-876F-C79816E6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A02B-49C5-4D96-8BD9-7C413F3F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3A66-6ED8-4A3A-A142-B328C89E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6C60-D95D-4B88-AA46-705E9E5B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C4A-597B-4A8B-9006-E742836E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A9D-7609-4CC7-A412-C7F8EC61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89C-9875-44EF-9440-A79B528A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A13-ED38-492B-A233-B06D5791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245-9F1D-443C-BEB7-5E962C6E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A5E-E92B-4E58-8AB4-EC314CAA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9FC-5B36-4418-8583-96FD3DD6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3B81-299A-4E94-868C-451A4B5802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8615-710D-4DA1-98C6-3118908A98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Тема классного часа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11280" y="1989000"/>
            <a:ext cx="79214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« С чем человек рождается, чего он добивается 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ётр Ильич Чайковск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16000" y="1413000"/>
          <a:ext cx="71280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13000"/>
                    <a:ext cx="7128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руг Айзен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Разговор с богом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Эпиграф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Человек - хоть будь он трижды гением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таётся мыслящим раст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ним в родстве деревья и тра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стыдитесь этого род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м даны до вашего рожд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ла, стойкость, жизненность растения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.Я.Марш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реди индивидуальных особенностей личности, которые ярко характеризуют её в общении с другими людьми, особое место принадлежит темперамент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ипы темперамент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ангвиник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Холерик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Флегматик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Меланхолик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экстравертов наибольшее значение имеют внешние предметы и события. Это люди обычно активные, шумные, хорошие организаторы, отличные бизнесмены, для них важно внешняя оценка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троверты более углублены в свою внутреннюю жизнь, их не столько интересуют внешние события, сколько собственные переживания и собственная жизнь. Интроверты хорошо справляются с монотонной работой, они могут быть хорошими начальниками, если не требуется постоянное общение с люд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оих друзей и знакомых мы легко можем отнести к тому или иному темпераменту, определить свой темперамент гораздо сложнее. И не случайно, так как в «чистом виде» тип темперамента встречается редко, и большинство людей соединяют в себе черты разных темпера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реди великих людей и в том числе среди великих музыкантов встречаются все 4 типа темперамента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юдвиг Ван Бетхове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332000" y="1341360"/>
          <a:ext cx="691200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9120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льфганг Амадей Моцар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71640" y="1268280"/>
          <a:ext cx="734544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734544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7:26:15Z</dcterms:created>
  <dc:creator>USERDEF</dc:creator>
  <dc:description/>
  <dc:language>en-US</dc:language>
  <cp:lastModifiedBy>USERDEF</cp:lastModifiedBy>
  <dcterms:modified xsi:type="dcterms:W3CDTF">2009-06-09T15:26:58Z</dcterms:modified>
  <cp:revision>3</cp:revision>
  <dc:subject/>
  <dc:title>Тема классного часа:</dc:title>
</cp:coreProperties>
</file>