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8F3-5066-464F-B84E-8052E47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646-15DF-4520-A4A1-D4F254E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E4D-36A4-4734-A476-20C3DD69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C9E-A36C-4FC6-9BA5-8E0AA046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DBC-2C93-4D14-9532-31F55AA9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BEEF-755C-412A-BF2D-AC90016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3B74-69D3-4F77-BB63-7AF9ACFD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ED46-A2A2-4A55-B6F4-E285D501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FA5-F869-471A-BE7D-5E9E8F22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AE0E-F046-4721-B063-F571949F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D04-A89A-41A2-AB03-8003135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B41-6CBA-48E2-8105-C170DF3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30E-95C0-44F5-9893-0AF6CC9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7B0-2983-4F13-9606-6EDBD7B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1141-DA30-499D-92EF-7C883FB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AA1-9433-4E5A-A2FA-E8B746B9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5710-555E-4F33-BB93-50AA0F84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C77-1448-4F46-8FB0-4217CEA2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F1A-A822-43DB-881D-A67FFB8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6BA-5D26-491F-B5CA-FD87A7BE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C6E-D14E-4157-BA3A-48F3897D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213-C065-4CF4-A0C5-7E5FE51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995-EF9E-431C-9125-DABA031F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30C-7374-4ADC-B943-E7462821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821-662E-4FE2-9BF7-D32686C3B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160-C9C0-48B6-8787-8E4FCF6BD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классного час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1280" y="1989000"/>
            <a:ext cx="79214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« С чем человек рождается, чего он добивается 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ётр Ильич Чайков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1413000"/>
          <a:ext cx="71280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28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уг Айзе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Разговор с бог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пиграф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Человек - хоть будь он трижды гением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ётся мыслящим раст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ним в родстве деревья и т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тыдитесь этого р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м даны до вашего ро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стойкость, жизненность растения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.Я.Марш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еди индивидуальных особенностей личности, которые ярко характеризуют её в общении с другими людьми, особое место принадлежит темперамент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ипы темпера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ангвин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Холер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Флегмат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еланхоли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экстравертов наибольшее значение имеют внешние предметы и события. Это люди обычно активные, шумные, хорошие организаторы, отличные бизнесмены, для них важно внешняя оценк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троверты более углублены в свою внутреннюю жизнь, их не столько интересуют внешние события, сколько собственные переживания и собственная жизнь. Интроверты хорошо справляются с монотонной работой, они могут быть хорошими начальниками, если не требуется постоянное общение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их друзей и знакомых мы легко можем отнести к тому или иному темпераменту, определить свой темперамент гораздо сложнее. И не случайно, так как в «чистом виде» тип темперамента встречается редко, и большинство людей соединяют в себе черты разных темпера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реди великих людей и в том числе среди великих музыкантов встречаются все 4 типа темперамента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юдвиг Ван Бетхов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32000" y="1341360"/>
          <a:ext cx="69120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12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льфганг Амадей Моца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1268280"/>
          <a:ext cx="734544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345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6:15Z</dcterms:created>
  <dc:creator>USERDEF</dc:creator>
  <dc:description/>
  <dc:language>en-US</dc:language>
  <cp:lastModifiedBy>USERDEF</cp:lastModifiedBy>
  <dcterms:modified xsi:type="dcterms:W3CDTF">2009-06-09T15:26:58Z</dcterms:modified>
  <cp:revision>3</cp:revision>
  <dc:subject/>
  <dc:title>Тема классного часа:</dc:title>
</cp:coreProperties>
</file>