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06C-040A-45D1-9B64-D1682FFA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F20-EBC8-4347-81C3-4190F67A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A1A2F-B4A5-48B4-8311-5B37950C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50265-7F4A-44BE-AF41-D7CF6329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8C5C5-1EDB-4351-840A-1633709F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3ADF1-F534-46F3-809C-D96B70F1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8804E-3B9A-4AC4-93F4-F593FA07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E75CE-74D2-43D0-B49C-5E91D29C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BA7AC-1B93-4DCC-ADE4-DB2164A8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4F4B6-C749-4EE8-A756-C6DE50CA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F2B0C-A016-4BCF-8613-FBAE15BD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AA9F0-AC95-4556-92A4-368A9085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353-2902-4B23-AC83-21968AD7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068AD-49DC-4A76-8710-2B2C461A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6EE85-A279-458F-AFAA-A4AECB12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A0508-CC61-435F-969F-FAE37DC8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63838-1EBA-4689-931F-14D02985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81B58-6991-4405-9250-5C7F39DC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B6921-5AD9-4269-8160-959409B8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435A6-4CF7-4FBF-9137-1A50804C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8A613-13E7-439A-A482-C5F4856A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89DB9-627A-4314-913E-BAD40A5E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54EE7-5AE5-407F-A870-5EBDCE05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398-0039-441E-A8D3-090FE243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3147E-ACDA-4D31-870D-BFB1184B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FEF915-24D5-4EEE-8483-8A6C8378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6F0B9F-6388-4883-AF04-767D715F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E68CD1-649C-481D-A85D-6A7C04E3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8F9FB6-1BC9-4FC9-8C0E-9673FEB0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90BD8B-12DC-47E2-BF47-441B2CB0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797D01-5C9C-4AAF-9FA7-893CE1E8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A38C1A-42B5-41C8-A8DF-30DB61B1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C60D1A-D775-4FA2-A866-8BF404C1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B2818F-F097-48CA-BA2A-1BDD3D7A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5118E-CDFD-44F9-9031-B6AC2A55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00388F-46EB-4409-BB79-2E978163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64D13C-E215-4E0B-B6F9-9C282772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8BCD6A-7E6E-424F-A5B9-2E3D4D55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BCDAB-8709-454E-9859-F9D68780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69500-0D59-4E67-8DE6-7F259B5D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F52F2-322E-42CA-8476-B804F731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13A89-3A7E-4811-BA7F-703D75D8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E9078-EF4F-420B-A294-348344A2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49EF0-0F00-409C-A967-F672AE83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DB492-3289-4166-A83D-CDA76F2A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86B32-B963-4F0D-B107-4B36DA32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2EC86-E42C-4B94-B017-5D29414E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4E136-44B1-47B6-9CB9-1F1800F2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7BBAB-B165-4B57-8677-F5AC1F68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E2A96-8231-4F71-9B75-20DDC178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F5D17-7249-44F4-81E5-119CE03D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A085B-33BF-4E98-AA4E-14C5CD47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E8A0D-0233-42F2-A23E-88F5ECD1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B0AB4-5985-42BE-8353-F7EAAF0D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E834A-66ED-4B58-8056-8B210C36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C5BC5-F6A0-4B37-AE7D-59CC9F95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D4B54-BC2F-4F08-A0A6-54F3A3F1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E87A8-8721-47B2-96EF-E3C9D9AB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1E26F-4031-4169-820B-69A71F8E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A9BAD-3DDE-4596-9FA3-8396227F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D25B0-0997-45FB-A3BB-52FCC2ED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8CC954-D0CB-493A-84FA-18A6FC07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938218-D92A-43CE-8319-96CCA1D7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DB0DD-EC86-4D2D-8CB6-657482A9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63034-5EAD-4FC1-B6DE-CC14E058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D7ACBE-5C52-49A5-8E95-CE296A0F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69BA5-DB89-46B6-BC2A-D3A0DB40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68C8F-AFD1-4967-BE26-14AFAE1C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3EAB2-64EC-4CF1-A44E-5BE5546B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66B2D-E1E1-47B4-9EBF-971B3A6E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E5A34-3DC1-4889-8810-2749E919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9DA24-4DB4-46B6-AC7F-255E8C6E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FDECC-8E8F-4EA4-B7E2-4B4E7447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78DD7A-BC27-4E3B-98AE-7FA137D2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257C3-471D-4D96-B0ED-3387E01D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456D0-6409-478E-A246-3738A81D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6BC72-2E4D-4E39-B743-4D61E320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F7B4CD-BEA0-451A-A836-3476C37B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A773A-1C53-4A75-AF35-6703D718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E8E18-56FC-4E1E-AF3A-688D2E2B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9C14C-C4F8-4AF5-ACFE-A8F2EAF3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86A1EC-FF22-46B2-9F59-90EA8796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4F172A-0B0B-48E6-B960-B54039BF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9C9CF-5D23-4DBB-9C48-D0734F2A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BECD6-9436-4F36-A321-FC5F17B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F106D-95FF-4B4C-A29D-04C01794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BAB876-B998-4448-99A8-9A420CD7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379B0-6322-456F-B8FC-3A51B50A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151681-DEEF-45E1-9633-52975E57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6FAB5-2CE9-4F42-AA5F-197B0567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DEEC9F-05DC-4D85-A910-C394F381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7D8AF-3DBB-40D5-9CBF-6A4B9385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6E927B-14B5-4E2D-AAA6-D9E7CFB1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5A9BE-1013-4E8E-A172-5A65BD52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792942-91CF-4A39-BB0E-84A0CD8E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BABEE4-8ECE-487F-9C8D-382A4039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8F594-0C6B-4A28-9117-AB56B8BA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51793-B5A7-4EC8-B378-BD59364E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2A748-91F3-43CF-81AC-28DE735E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A8D03A-D4CE-4D76-9B97-C4878D74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877A9-F132-4B4E-9BE7-45950687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5D2DC-5395-4298-9F8B-AF79BDD9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3EE115-BDB8-4D5F-80A7-271AD594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DF3B5C-CA94-4E52-B495-4AC40DE6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BFA6A4-2250-40F9-93B4-1309B871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1B5D72-77B5-4F74-A66D-F9CB11B8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67200-3FC9-471E-9DC6-4D2CA230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6EB0B8-0601-42B4-B162-22D35997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DE840F-C468-46E5-A276-040CC8F8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437323-BEEE-4FC2-B5BB-76479EBE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7D93BD-9B4A-463B-A56A-8F00A1C4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172-2004-44BB-8BF8-FDB799E5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E2F52-3A70-41B7-9C13-1A8537A8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81DF0F-033B-4876-9241-E477BFDF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5D322C-75F0-44A4-86E2-5D77E42A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5BE60-A0F1-408A-B00C-FBF9FDC3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42FE6E-B580-4530-A0D5-1766F2B8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0D20A-547A-4DAD-84A1-4C618161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950210-B812-46A5-A5FD-606C5FBA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5849B3-C478-4E2F-A484-7C0289F2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C554D-95E1-4E66-80AE-E764FDFB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A11955-4B1B-4800-9FE8-53750A60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56F30-3755-4443-8103-3FCF065C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DB0DD-BE19-4D60-9479-82EA611C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433CED-7956-4B06-9B49-89310363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DD4548-0AB4-45F2-AAA3-71ECE8D7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F83559-ED8A-4318-B4C4-12B943CE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00EA2C-F2E8-4864-9F55-35160AB0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B436E1-7EC8-4215-82E7-BB8FA021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832E38-1F76-45A9-B0B0-4D2A74C9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A2E606-9688-4340-BC17-AF70E4EC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BF49D0-4970-4DB0-BEFD-4CB1D81E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1486E3-CA9D-47E8-A5C4-9918D358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55D7A7-32F6-4DCE-AA4F-C4C47BCE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A4CC9-6B40-4A7F-A521-7E9BC989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BC98AC-B147-47D7-8C6D-3EFD2F82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566CC6-F79C-4087-AACE-BFF75C4C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CC0559-49E5-407F-9C74-0EEF9060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008090-6B74-48A4-B466-73C93CB5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5AE81C-FD04-4F76-A749-B886CFA0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788FD-7E92-4632-A40B-F3C40BA3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DEDADF-2CE3-47CA-8115-4D1C0378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E94A34-1E05-462D-BCEE-5D81B14C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464D3F-7046-45A0-9F44-981F0AFF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287B91-E7FD-4947-9477-4C0ECB0E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972C3-2062-478D-A415-C587653D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C9C79B-2AA9-4025-A102-0AA72C10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CFCE6-804E-4A90-826B-3FB39F69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20BE55-E169-4DC0-A85E-CE67A305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A46501-DA61-4550-B11F-0F8E534A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9FD446-4B06-40BC-A0F8-562D915F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5A7D5C-33EF-4B3B-813A-A0A52C07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3C245F-8A48-4854-A834-F22CA875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3661FC-9770-4825-8FE8-0765591D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8752D0-DA81-4C18-B793-85C9CCD9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8D58A5-241C-4997-ADAD-BDDAB161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3B5BC-AA64-42F6-AFB3-4DAA0CA7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121496-3AE4-48A4-B273-1FC73AC0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63CFF9-91D2-402A-8222-0F468FA7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CAACEA-D10E-4FE0-8B64-F6521C2E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93DF53-FEB7-4087-BB53-2CD3B408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C01D14-00AC-4EB2-996B-5A31AC63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404AF0-06FD-402D-8ABD-D5C6540E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C1F049-EA67-481C-9797-758CD1F0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921DD2-6558-490D-9CE0-73C6E2FC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5212BD-D49C-4696-B2CF-67ADF7D9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D72595-33D3-4F16-8ED5-5AB7CC41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D5E5-EBE8-4859-BC34-A6FD0987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5B6299-F92D-4CD6-863B-6BB3354A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0E7A6F-6EFE-43C4-A302-C106A123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9102FA-836A-4C68-A449-849F0D2E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1B42AC-BA31-441C-AAFD-DF341738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C8627A-BC34-4CB0-82ED-E1ACF6A3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B30E8B-8F94-4FC3-A70F-E2A5B675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7C4BCA-6ECA-4097-841F-2003F15F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3D5C86-893E-4D7E-820D-BA1C7D9D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0825CD-B2C0-431C-A751-5036EE23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4CAC9B-F46C-454D-B817-13E63A06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1C0E5-E04F-4E64-8F3B-18146510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242660-C163-450B-BA1C-1C342F99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5D3DAA-5F77-4E2D-8507-A0F642C2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1D5D81-601F-43CD-AA46-38E942ED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51881E-A6DB-44C3-8AAB-A2337360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BAC579-35E1-4248-AA60-7595808A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FA73D0-62D1-45BD-9AC7-2BB8EBD0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C07EB1-D0BC-491A-B43D-656EBC86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D742C9-D703-443B-A5CC-F3274B38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984871-3E2F-4D2E-8E22-B5AB33DE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C03EFF-126A-43BE-8FDC-024ECFA8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B1184-BBD0-4C42-82D8-14E5311F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5F96BD-2CF5-4453-8916-C061BFCF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E87372-DA54-459C-8D3D-D8E6FCE9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B22F3C-3393-4E06-8D9F-8A0F1FBE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186E8C-F0B7-4B3E-A10E-9DF30110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7BAD46-E65F-485C-BA89-91D82949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2846B4-1D57-470E-A3E8-C4F5ABB5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386C14-3956-4106-86EF-8D783842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3AF049-598F-475D-AC1E-CF69284D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74AAA4-F1D3-48D8-A7B0-B9500D32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DB9A77-65D6-4F47-A0F4-09BDB377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67F4-8721-4298-B8D4-CF9F3DAE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131060-B41A-4D73-8F5B-E3C978DC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A22EB2-34B4-4A06-8139-62D93CF0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8B0083-748B-4AF1-A592-2F1771CA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5E9B96-E3AC-4BCA-BCF6-ECF07F1C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4E8234-5762-4FEC-B0CF-1D52E3AB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598F1E-B7B9-425E-826C-519C977B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2EEEDB-0234-4AB1-9F90-CCE4FC02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7E968E-9B1F-49D2-97E6-FB95AA52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18C3AE-03DA-4EAF-9B09-51662EF7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E93B4-9A23-498B-8D0E-0B68660E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D6E-18AB-40C0-A258-D4F2DC78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9E771-01E0-46C8-86A3-23D2033B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1CB48-0AD1-42BE-A3BA-DE3677C2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DE2FE-F8F1-4818-AA4F-4A3AB698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569F-1EAD-4B42-B71F-1551E137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19F7-EF49-4332-A0CB-FE2AFD09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1344-7D39-406C-B6BD-DB2D40F7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F326F-3DFB-4A92-9184-C4F0EB89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0C85F7-FB02-4BC7-BFAD-1469ABE4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593A14-A04C-4532-9DEB-EC8F99AB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47B1A3-3B4F-4363-A4C9-170ACCFA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A6B-3061-4A99-BAD1-C3C94076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55D5CF-AC37-4691-ABB6-92D7EDC9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23ECEB-1126-42EE-ADD6-57B0869E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766F57-747F-46EC-9B94-BDA98B74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CC6929-27EA-4DAD-8F6F-2D13E52F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27C85-0A38-4FF0-AF9B-6A831945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46A25C-04CC-48DB-A0B8-35E41DA8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62F355-3AB0-472C-B210-D3175F27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8491D-2197-4C26-A2D0-B0AE6884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C5AF8-FF8F-4FD4-B7D7-5BC0DD0B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4E986-AD4E-4A7F-9D78-208574BB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616-3728-48D6-A794-3A3AE05B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113F4-FB5A-4E59-B5C5-9C0B1D78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76C7C-8981-4DA4-82E9-53D94EE3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E9150-0C57-4600-B567-90981418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2EAE4-1D69-4007-B531-DBF8BC21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CB97C-4258-437D-B60C-29D2E6A7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A6BC7-5ED3-46C4-9BC5-28256D7F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4141C-F2DD-4E0B-ABFC-826BC85D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3C951-7763-4099-9E5A-79F65B75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3A919-553E-4AE9-B1A3-5B500656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561A3-8C9A-48B4-BFB4-D6160653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092-BA62-4FE3-A4B6-9D673130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E0C99-F292-45A4-90D1-B2FAB6B8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9C390-210A-433C-BFDD-7736B440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E864D-F4C2-44BF-AC2C-286A5225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16EF7-C99D-4A2A-9268-EFB05462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0CE5E-BAC9-43C6-82F5-0A87D5FA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57D75-4528-417F-BAFC-D3E0379A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4464F-E03E-40F8-A6E7-6FD3E66F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5D91E-C523-4BEE-B510-7960D8F7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977EA-CB8D-4CA0-A476-EE04B79F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48BCA-A91A-487A-B091-C298DDDE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3BF-0666-4644-9011-6BF06125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2A43E-096E-4350-B384-8F5D2343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86EBF-EB65-4B16-B0B3-EA76F759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41C6E-C5FB-4496-B34A-69C607A0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953E5-DBB4-423A-9262-22B678CD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7A7A9-97F3-4688-B7AA-1F9C7E59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89C53-AF04-44D6-A236-726D9E51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772DE-6EAF-4E64-A10D-EB90FAE9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468E6-A0E2-4291-8288-E2E50179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C7757-A5CE-4344-8DC5-30A0FB9C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643FD-D2D6-4229-9F37-6CA1CB0D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B00-AEF0-4D20-AC3D-863F0713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91044-584D-4BF9-92CE-E7F09210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C1336-5707-41E1-BCCF-9E2F99B1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D7F1D-D289-4261-9FE6-7EB52D2F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2CBB0-F624-41A3-9139-C9888DBE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86B1D-B49B-478C-A95D-88D49345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E4D50-63C1-46BF-97E7-3C7CD2EC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33E49-56F8-4A80-9985-4DB337D2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9F8CD-32A1-48E4-BB14-527AE5B7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BE3ED-D84A-45F7-A8AA-505039D5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CEBFE-1CD7-4C0A-84FA-68624C9B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EB1-DB30-48F3-91B2-3342CC9A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90421-8851-4808-A0AB-5CB1B1A4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FF60D-91F7-4A04-9DB4-138ECA03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2AD3D-0F29-448F-8924-95685AC6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FB40B-82E2-4CB9-8620-FC5EFCE8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9D1D5-88FE-45C8-BB7C-6E740A0A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22781-6F42-4C5F-AD09-21707C58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B0043-F0CD-47F5-AECD-17DB3A7A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1117B-0D58-4EE6-A03F-1F62DD74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D32DC-2AE1-49E8-96D6-66552F94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7294D-FC30-43BC-946D-2E1B3FF7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78E3-AFBA-409C-B8D7-BA7B119EF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DCED-5ECA-4BA9-B5AA-51306C5D11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8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6191-847B-4E8E-A167-8A81966D9F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4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31EC-D66C-4D81-8A33-8413760ECF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3980-94F2-4A80-86B8-5223977ED66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1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4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4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4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4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4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1074-40DA-4BA1-B6A7-0B83DDF7116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9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0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0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1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5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6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8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2F18-F7FB-4D5E-ACFF-4325A8D20DC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3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86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717A-064A-4693-A297-A27C634E05F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A9D9-BDA2-407D-8426-A994299B0AD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ftr" idx="5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107F-4A1A-4C93-B417-5528FF46851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7702-CFA2-4F25-8975-70C734D24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395E-F92F-47D8-8C77-8DAEA7697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8FD9-7992-4D86-9E6A-562257919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7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7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8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8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8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09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9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9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0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0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1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12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13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13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14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14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4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5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5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16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16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17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17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18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8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9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932C-FD82-4D2A-8205-10C40B05C5B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25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25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25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26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26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26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26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27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27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27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27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28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28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28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29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29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29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30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30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30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30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31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31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31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32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32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2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32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33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33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33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34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34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34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35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35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35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35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6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36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36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37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D76B-3D25-427B-BEAB-EC09AB35F25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2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DD6B-947C-4A6E-A01E-F616F0386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8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E681-516C-48C8-A1EB-E12C45079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D3E0-4E69-40C6-A683-37AC9D986B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B75F-811E-4EE9-9DDF-B08E89E505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BAC0-93CB-43A7-ADBD-080C995F8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5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3354-A678-4C92-8D7D-D6E9577BE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0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4AB1-9140-4483-A3B1-2E1A2C5360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5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414E-C666-4F80-BAEF-B159271385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06DA-165B-4E8C-B85B-216CE3F284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1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евиз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Здоровье – это красота , светлые мысли и доброт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5" name=""/>
          <p:cNvGraphicFramePr/>
          <p:nvPr/>
        </p:nvGraphicFramePr>
        <p:xfrm>
          <a:off x="1752480" y="533520"/>
          <a:ext cx="563904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33520"/>
                    <a:ext cx="563904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7" name=""/>
          <p:cNvGraphicFramePr/>
          <p:nvPr/>
        </p:nvGraphicFramePr>
        <p:xfrm>
          <a:off x="2116080" y="419040"/>
          <a:ext cx="49118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6080" y="419040"/>
                    <a:ext cx="49118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609480" y="352440"/>
            <a:ext cx="7772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ценка курения как фактора риска развития заболева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водиться по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индексу курения (ИК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):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6062f"/>
                </a:solidFill>
                <a:latin typeface="Times New Roman"/>
              </a:rPr>
              <a:t>ИК = число сигарет, выкуриваемых в день х 1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6062f"/>
                </a:solidFill>
                <a:latin typeface="Times New Roman"/>
              </a:rPr>
              <a:t>Запомни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 ИК &gt; 140 риск развития хронических обструктивных болезней легких крайне высо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8610480" y="2971800"/>
            <a:ext cx="152640" cy="228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8610480" y="5410080"/>
            <a:ext cx="228600" cy="3049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3" name=""/>
          <p:cNvGraphicFramePr/>
          <p:nvPr/>
        </p:nvGraphicFramePr>
        <p:xfrm>
          <a:off x="1865160" y="722160"/>
          <a:ext cx="5411880" cy="54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722160"/>
                    <a:ext cx="541188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редний возраст закуривания молодеж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6" name=""/>
          <p:cNvGraphicFramePr/>
          <p:nvPr/>
        </p:nvGraphicFramePr>
        <p:xfrm>
          <a:off x="776160" y="1930320"/>
          <a:ext cx="77565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930320"/>
                    <a:ext cx="77565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оля курящих среди различных возрастных групп молоде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9" name=""/>
          <p:cNvGraphicFramePr/>
          <p:nvPr/>
        </p:nvGraphicFramePr>
        <p:xfrm>
          <a:off x="649440" y="1930320"/>
          <a:ext cx="813744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930320"/>
                    <a:ext cx="813744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Выкуривают сигарет, в среднем за д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2" name=""/>
          <p:cNvGraphicFramePr/>
          <p:nvPr/>
        </p:nvGraphicFramePr>
        <p:xfrm>
          <a:off x="387360" y="1930320"/>
          <a:ext cx="8407440" cy="41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930320"/>
                    <a:ext cx="8407440" cy="41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Arial"/>
              </a:rPr>
              <a:t>Причины закуривания подростк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0% - воспринимают курение как развлечени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% - хотят выглядеть взрослыми и привлекательным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0% - девушек хотят покрасоватьс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0% - девушек хотят похудет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70% - юношей и девушек курят когда испытывают чувство тревоги и раздражитель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6" name=""/>
          <p:cNvGraphicFramePr/>
          <p:nvPr/>
        </p:nvGraphicFramePr>
        <p:xfrm>
          <a:off x="2095560" y="419040"/>
          <a:ext cx="49528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419040"/>
                    <a:ext cx="49528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Факторы, предрасполагающие молодых людей к курению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окие уровни социальной приемлемости табачных издел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верженность действию рекла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ступность табачных издел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мер родителей (в семьях, где нет курящих пробовали закурить 50,4% мальчиков, 48,1% девочек; где курят 3 и более родственников – 85% мальчиков и 37,5% девочек продолжают курить в дальнейшем; в некурящих семьях – 18,2% - мальчиков, 6% девочек, в курящих – 57,4% мальчиков, 32,5% девочек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потребление табака в группе сверст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Открытый классный час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ма: «Мы за здоровый образ жизн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539640" y="620640"/>
            <a:ext cx="80708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рограммированнос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потреб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ривыч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станов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ровень знаний о возможных последствиях курения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зникновение психической и физической зависимости - 59,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еждевременная смерть - 42,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нижение интеллектуальных способностей - 31,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редное воздействие на потомство - 65,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пасность окружающих членов семьи - 59,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нижение спортивных результатов - 7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сутствие риска при умеренном потреблении - 27,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3" name=""/>
          <p:cNvGraphicFramePr/>
          <p:nvPr/>
        </p:nvGraphicFramePr>
        <p:xfrm>
          <a:off x="1219320" y="609480"/>
          <a:ext cx="63244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09480"/>
                    <a:ext cx="6324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5" name=""/>
          <p:cNvSpPr/>
          <p:nvPr/>
        </p:nvSpPr>
        <p:spPr>
          <a:xfrm>
            <a:off x="1818720" y="586728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Arial"/>
              </a:rPr>
              <a:t>Удачи, желающим бросить кури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Пьянство – есть упражнение в безумии» - Пифаго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пространение пьянства на Руси связано с политикой господствующих классов. Ведь в Древней Руси пили очень мало, и пьянство считалось величайшим грехом и позором. Но с 16 столетия начался ввоз из-за границы водки и вина. При Иване 4 и Борисе Годунове появляются царевы кабаки, дававшие массу денег в казну государства. С 1894 года продажа водки стала царской монополией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8" name=""/>
          <p:cNvGraphicFramePr/>
          <p:nvPr/>
        </p:nvGraphicFramePr>
        <p:xfrm>
          <a:off x="457200" y="293760"/>
          <a:ext cx="8229600" cy="57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3760"/>
                    <a:ext cx="8229600" cy="57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ичи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ьянство муж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еря близки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пад семь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лияние компании друз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родная мудрост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Муж пьет – полдома горит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ена пьет – весь дом гори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оследствия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ождение неполноценных де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рушение семь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ннее увядание женщи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теря внешней привлека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равственное опуще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5 раз увеличивается риск заболеваний пече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3 раза развитие гипертонической боле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мственная деграда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енская фригид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изнак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ное неприятие правды о себ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рытие пьян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теричность, импульсив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ндаль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живость и неискрен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прессивное состоя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тепени риск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болевания, передаваемые половым путе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нняя беремен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ход из школ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илие и преступ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убий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оздание условий для формирования нравственного отношения учащихся к самим себе и окружающи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лкогол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че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елудок                             Голов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з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гкие              Серд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1692000" y="1341360"/>
            <a:ext cx="2663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356000" y="1341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1908000" y="1341360"/>
            <a:ext cx="244800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4356000" y="1341360"/>
            <a:ext cx="252108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4356000" y="1341360"/>
            <a:ext cx="1008000" cy="302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 наркотикам относятся вещества, которы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зывают приподнятое настроение или приятные субъективные пережи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зывают зависим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носят существенный вред здоровь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сут опасность широкого распространения среди нас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ризнаки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ызывание постепенного привыкания когда доза постоянно увеличивается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ри отсутствии наркотика состояние наркомана резко ухудшается, появляется боль, тошнота и т.д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аркоман готов пойти на все, лишь бы снова получить наркотик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опросы по рефлекс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то мы узнали сегодн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лично вы к этому относите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се знаем о вреде алкоголя, курения, наркотиков, но как реагируе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 А С И Б О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 НОВЫХ ВСТРЕЧ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крытый классный ча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Тема: «Мы за здоровый образ жизн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крытый классный ча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Тема: «Мы за здоровый образ жизн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азать учащимся отрицательные стороны курения, пьянства, употребления наркотик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ь стойкое неприятие нездорового образа жиз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ать ценностное отношение к своему здоровью и здоровью окружающ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пределению Всемирной организации здравоохранения здоровье- это не только отсутствие болезней, но и состояние полного физического, душевного и социального благополучия. Один из главных показателей здоровья – продолжительность жиз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Мужчины – 57 ле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Женщины – 71 г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ывод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возрастом детей увеличивается заболеваемость органов дыхания, зрения, пищевар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мечен рост поражения паразитарными инвазиями, в основном за счет низкого уровня жизни, вредных привычек, низкого уровня питания, безработицы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 Лучше знаться с дураком, чем с табаком» - так говорили когда-то на Рус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/>
          <p:nvPr/>
        </p:nvSpPr>
        <p:spPr>
          <a:xfrm>
            <a:off x="685800" y="148608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1"/>
          <a:stretch/>
        </p:blipFill>
        <p:spPr>
          <a:xfrm>
            <a:off x="6227640" y="2349360"/>
            <a:ext cx="2514600" cy="190512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062f"/>
                </a:solidFill>
                <a:latin typeface="Arial"/>
              </a:rPr>
              <a:t>Курение и здоровь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422100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шкинадзе Н. М.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ердловский областной центр медицинской профилак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3:22:07Z</dcterms:created>
  <dc:creator>Хозяин</dc:creator>
  <dc:description/>
  <dc:language>en-US</dc:language>
  <cp:lastModifiedBy>Хозяин</cp:lastModifiedBy>
  <dcterms:modified xsi:type="dcterms:W3CDTF">2007-11-18T09:59:07Z</dcterms:modified>
  <cp:revision>5</cp:revision>
  <dc:subject/>
  <dc:title>Открытый классный час</dc:title>
</cp:coreProperties>
</file>