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338-8C65-45BE-B6A3-EF6A0DAE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F0B-1B41-49B8-A1B1-A7A9E8AF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D5310-F307-450A-820C-F365D6A3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73B42-0A35-4B67-85A2-2F96C045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553D2-C467-419F-A7DB-B5DF509C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1DA3D-F4BE-45D9-8543-6CBAD4CF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EAEB3-682A-44E5-8769-5AF729C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E6840-DDC4-4C21-B33D-369D64C8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E522F-CBDF-44C9-8354-56C7784A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F92DA-A1B9-4A9C-B080-B005EE2C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B556F-3601-4F45-9520-251E75F8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8ED0D-649E-468D-923E-D5D057C7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594-CF59-4549-925B-BC666E9C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0911C-C861-4C48-BE51-28497B05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FB302-EE4A-4B42-AD61-BA288A47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018D1-0DE6-429D-8C0C-66258E93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34DF8-8E31-4910-A3AD-855BE726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5F77E-6053-4E03-AB85-D936D614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A67BA-84D1-4B9B-B49A-98271793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6AFD1-D069-4055-8872-5ADC8012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AD1E2-63EC-44FF-8500-3D6675E8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9C0FA-046B-4A39-AD22-2976539A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05C79-E0F0-4018-8B37-5F24C46E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297-3EA2-460B-8884-5AC7175D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E6F64-E051-48DF-AFA9-FAE44B6D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003D28-7712-40DD-948A-83646EE8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4DAE11-661B-4FC3-8C77-C57E70CB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109B48-F5A7-4DC0-94C9-A0FB532B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B6AEAD-F2CF-421E-AAB1-E353CEC0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F256DF-5208-4F2F-99F1-84128986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D45C16-090E-4119-B80A-E7B4693E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F421CE-2572-42A2-8573-7935375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82792F-F752-4D35-8954-5F7B95D2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E9EE77-496D-4A82-8472-5F4BD74D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9DAFA-4108-45A6-B9A2-7ABDCCA6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B15AF5-BF66-451E-AD19-E4256FAB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5495EC-CFB3-4939-85E1-81E55BD7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B55823-C13A-4C7F-9195-9E4F6337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9D24B-BDB3-4B77-B641-C38A21BE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9E229-43C4-4391-A31C-867D561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94A8A-F84A-4E82-B433-E932DDE9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225DF-7346-4F50-BB7F-51BF7833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95D55-F7DE-43F3-B2A7-AECBFA68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33C26-A59A-4475-A29B-2D59F865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55E0C-8951-4853-8C17-C6B1C531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A0272-8DB0-402B-AF5B-3DCB675F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5AD33-EBC1-45A9-8759-579BF2C6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4669C-E9B4-4BD4-B9A1-DA0D8156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CA314-FF64-4D3C-8CA4-6C27C42D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88A0F-CBBA-4201-B18C-1B48754E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624B4-7DD0-4091-8063-A0A00C81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93125-34BD-41D8-AF77-ABFEAF0A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F4688-40EC-4963-9A05-3F9445B7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E4C00-44BD-4F52-A22B-095E0723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4C243-2C7A-4BB9-92DA-4D6016A9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A41FF-9D33-4DD1-975F-BA1E6FD5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10EC9-BF37-45E2-A387-2A2AE90C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9FA61-7942-47BD-8100-9F834B79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62B1D-E1B7-48BA-B562-1857785A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A92A1-D656-492C-ACDC-0BC7B887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751D3-2E5C-4C1D-AE40-ACE1383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F729A-19BA-4563-8566-06D64271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EACC8-9722-48E5-9FB4-F978F41C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EC3DE-6D3F-449F-9774-81413BD9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67D2B-651E-4D03-87DB-38E25F42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0C9D0-1595-4D49-BA70-5F742ED6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029F0-E749-409E-AC25-58735A27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D7A33-FC33-4AA4-9919-3E889FAC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ABE70-00AE-4759-94E9-6A5DD2D7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1021D-04D8-42DC-AF44-C8F169F0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2529A-14C7-42FD-A4FC-0A62A559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38090-62DE-4FDF-A2A6-8983990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51FFF-CC49-43DB-89BA-5FA0ABA8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4A2EB-1F8F-4CA9-A4F4-5149FEB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F22A0-D9F7-4E7B-98EC-E76D5238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A45EF-86AE-401E-9916-7E86F6B7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50132-E642-4E4F-9414-3A68BBFA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54F65-377C-4DFC-A5EA-B62CFF8F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718A7-9DED-4CE0-997D-9ECF526B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C08C8-876C-4D2A-8C91-04D003E4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768850-600D-4F52-BAFC-E8B7F02F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946C0C-1ECB-4D0B-9BDD-917DAA96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A056C-5A85-4029-AFF4-EEB1768A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4D059-1128-4D35-B2DA-4BF617CF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B9A1F-D583-4095-9079-99B839B2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D7753-F134-445E-8A2F-F6AA88BA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1DDC5-B89C-486F-A3C1-C10152A2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6D552-972B-44A2-9FC4-D542B018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ED8DE-F3B0-4174-921C-9CB5E472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98756-2D45-46E9-86C1-FF7D1883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75282-8993-4448-BDF9-083CEE34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6CFCB-96FE-4CBD-A7F4-68906F92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BD4CF-7597-4EDA-B3A5-27E3C4EC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27367-816D-4E0D-B61B-C98196A6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DCBAD-197B-4C1A-8726-11CB11B6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E0155-9DD6-4750-82E5-B86F6684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91E76-23E0-419E-81EA-314B61B0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58F51-4166-4DD2-B17D-F41ED97D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5EA2B-449D-4D8A-BA51-6FEF6683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4942F-3C09-45C2-B550-F6E6B594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AA8E4-CCD3-4E3B-BB20-AB386960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BAB17-E3A6-45E9-8551-A8211BB9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9220DA-8B85-4369-B9F0-E18A76EE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0CD52-ACB9-4BAA-A677-824A9C64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6769A-8583-463C-A583-35F668E8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57DEA-384A-4841-A859-039B68BF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6BB7A-78FD-44F5-A80F-A72C9F07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F48BCE-FF84-4912-8DAB-365CCB9F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01781-05AF-4E5A-AED7-D05D7D04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D80D3-8234-4CDD-B925-2A5D752A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FFA74A-2D94-4BAD-9C11-B9C95C04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6CD-99D7-49A6-960E-047AB055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484CC-7AF9-4035-AD37-68ABB615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57D83-6C77-4DB5-8EDB-3559325B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C1ED42-3AB8-49F7-A80C-E87E306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521B3-487E-4A9F-BC4E-D46F750E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DA689-752A-4327-AA0C-C474AE6F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56AC4-8466-4CFA-B50D-65182CFB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DF226-759E-4459-90D2-4FE9CD02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35D9E7-637C-407A-9E17-A540A99B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F19D4F-A350-49DB-970B-37BECB19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B080B-5E00-42DD-979D-CB7DC999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03AC4-49A8-4E75-BA8E-E72DAB1B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F8F30-7431-4EAA-9A57-52324802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EE6A01-99EE-4561-9EBA-8D571726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4558E-FC2C-4AE1-A044-0F0A6123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E62103-EF7C-4D8E-9B5F-ECA0F0A2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923B3-9A84-4847-898E-A887A737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BF88E1-E736-4451-8372-2FB892EB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5DDE3D-33F3-495B-ADF2-B1098D67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DF586-2D66-4C8D-9B42-13F5FFD9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F95DC-EB30-41DD-AE6B-11B9B8DB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8752FC-4B42-4D17-8AFB-4A793EDE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7C4889-9AAE-4D7D-A97E-048C6C06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0E622-B790-40DA-BCF6-FC9DC97B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65921D-372E-4E90-ACF4-5CD40BD5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12BF64-9795-4CB6-A516-EA364680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7DBBB-8ECE-4C95-8E7D-F2250862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E11D02-E9FF-4ADD-9058-A629E1EE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2EC4B-38C5-4364-A983-617F8E84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259C0-0DD6-41FC-9175-AD987052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105806-6528-4D97-AEC7-1456FFE3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6DF815-AE72-4FDD-94FD-350B76FE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D34C8-4174-499B-A1F6-F199A960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01398-D077-4A17-B99F-86A02E09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1F5DE-5CFF-4CE9-AE2F-4B4FF866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911C53-ED67-4A41-B8DE-05142A6D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C6D0D6-73A4-4119-AF76-9A53A960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1A2594-41CF-44B4-B38A-D38E9FC8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E3527C-3AD8-40F1-A44D-3105C827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12B40-3463-4FAB-A40F-633D8167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22578-09BE-432B-95D9-7CFD1CF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CF5DEE-2D0D-456C-A669-66B5CAF2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19870-2209-44CE-9455-68D6D840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B30436-29C3-48ED-9854-5870DC29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D9D967-0CAA-45B7-8F00-29848C5B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8A880-FE06-4837-830A-AAEF8B9C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415704-735D-4831-96CE-017EEB51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0A046C-8BAD-4623-9EEB-5A0B72FD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29900-73B1-4011-9656-6C37937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FCD1F-6C4E-4B14-AD9F-F37C3BD9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A10055-1ED3-4E03-9628-F3A80E6B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D52E9F-0A4C-410C-AFF5-AF43C9FF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F68E64-0A3A-45E4-943C-04CB78F7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0B89E2-B40C-4021-A52B-2D4C5AE7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1652B-B9D2-4E61-9F7D-4EE8730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B39933-800C-43F4-896A-7DA9CAF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DFAE-723C-490B-B7F6-EF3FBF1D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C82A03-CAC9-467B-9895-5946AD65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5818D8-F1DF-4B31-969A-7D59961F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2FF839-FDA2-4186-AEA0-CB24BAC4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A66BBB-4F62-4ED4-AD75-9FF8CF33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C16C2A-FA46-46C7-BCA6-7A3CFA23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C88FD-A4A8-44C0-8F27-3ABF759C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60B936-1496-4A6F-836D-E0BBA563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12FE8E-4DB4-421B-A27D-81E9B77A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21DB82-7F3B-44A5-89DA-22F66FBA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A75EB7-C279-44C4-9CBC-8DAAAC9A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E949-9B36-4E66-B318-E347718E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7A4E8E-9C03-4855-BA6B-8B2C35EF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60D903-4371-4FA5-B360-11FF84D8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67F32D-2933-4768-BE24-183DCBAA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A303EC-6875-4CBD-ADB5-2663488B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619D4C-1DD4-47DC-AA6E-1852A19F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54B301-8C61-4FEE-9247-12A15E3A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E32389-C360-4866-BEAF-A0A7ACEF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B05CB9-7A87-4AA1-BEF9-82262668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5A7975-6BE3-4329-A674-BB764A47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54ED04-B1E5-46B8-A018-DF667B67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9D714-E4B5-4A84-BE19-492D9F49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3D8B63-E9C0-4DA4-BC3E-1A1262D2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7FD1DE-8A76-4C25-883D-6215A01F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7B717F-B0D2-4C9F-83C8-CECCF179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E076EB-B83E-4013-BEE2-8011CB36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24D07B-F111-4FAC-8FE8-0630E024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7E16FF-EA97-4F01-A347-A9417D68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1A1C3F-17E0-4E5E-8E84-C22787EA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013859-D092-4B5E-8055-0DA06F6B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0FF62A-1D4C-401F-BA6B-A11D3B63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5AF1B6-CA1C-4FB0-9489-F8164174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3532-60DD-4A87-B2FB-1C36168C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CDD6CF-7588-420C-82C9-7B4524E6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2A5C11-C865-4652-9833-1D3543AC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4F6F73-0494-4BAF-A454-96B2A2EC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D76055-CEA9-4368-B2A0-ED4CEEAD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268305-8AAA-401D-8FF2-4447A25B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989261-9686-421B-9014-E0F9BDFC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32CEBD-0618-44F0-8F0D-81A16ED6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FF2CBA-1FB7-4B7B-AE30-B4ECAE4D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EBC2DC-D55F-4BC0-AFB4-E8834346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8079-1E27-4498-81F0-0C4919EF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3B3-6F72-4160-9CD6-2E9BD64A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E6E1-8D8F-4D14-AE61-C6D16635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ECB1-9818-41E6-AA26-9AFF7A3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FA89-D817-4E42-8285-8946FE4F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2346-B1DF-443E-AD32-16AF8644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E3C0-E752-49D1-BA1B-DDCBD35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F7E3B-8581-4150-9ADB-6604B05B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0EED-8397-4229-99B9-2FF07FE4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B81CC-ACFA-4020-80E7-CDB63811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526CC-84D4-4560-A157-4F636D77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FADC4-9BA6-4A2D-BE09-376B571F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60A-3E86-4936-A13F-CBD3D4BA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90BDC-996A-439F-8672-62AC9E52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B7BCA-A722-4843-817E-3218CD2B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0FC14-3761-4E59-B7AD-564504AD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7705B-69F6-4A69-B934-470A9D4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A4922-AEE1-4C16-B98B-2EEB3D48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16625-6FE5-4730-BFEE-E8C247B5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3DAFBE-8202-45B7-BE88-E6479FF9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9AACE-B6EF-4D6A-B8CA-7F4D6D0D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95848-0175-4511-8AB2-93C88B0F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04022-53F3-46C5-BC4E-76C48F98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8E0-1E6D-4E34-9AB8-AC4BF482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1482-5E86-4AAB-9241-8E43B9F2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95C23-D785-4CF6-B6EF-511556F1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2D8AF-2332-418C-B981-28FD3AEE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6F44D-74F3-4BD6-829F-7900AC5A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EB953-797B-4D59-8E18-9AA9111D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4B35D-D85D-4B30-A374-75394EA2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524DF-5F12-4C6D-BCFA-764B04DD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FC7C8-62A8-41A5-8383-97A39C20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C247-C45C-4B33-95FB-AC54AEC8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57D76-073A-4FA7-8325-1F9459A0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DF9-7C11-47EB-92E6-13DCEA02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CED36-685B-41C5-91EE-2ADB6A74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10B40-A137-44A6-A81D-AACD00C1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8B8A3-3EC1-4173-86D3-5EAF3BA5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682EE-19D2-4C6B-9A7A-42DD814D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DD15E-259A-4F81-A33D-EC5F62F5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0C019-26E9-49B4-AA99-E3B4E283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22357-99E9-478C-AE82-622A6E2F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F0B85-1731-47DC-B32B-8732CC5F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A2DC1-1A0C-4F32-A387-24E1462F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E74C-596D-4268-9BB7-5CEB00A3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644-5A59-4CE7-84C7-F9B42A72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032AA-9683-4403-B5F9-31626CE7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B56FE-42AA-45E6-A7A0-FBC5EE2F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C147-EF2E-4BEE-B8FE-3CBC8B71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00114-9BE3-449A-A589-6DE79FF0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B4AEE-F3F6-4163-82C6-F8B72725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02619-28EB-4D7F-81AC-FE4CDED0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1E616-DC03-422A-9A88-91DA08AD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BE6BC-DFC8-42BB-B5B6-3D1913A6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1436B-AD47-4AC6-BBC7-8B833996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0A97B-6BED-471D-BA2D-7691CFD2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C74-BDC6-4C41-8A26-1D0B65B6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F96FC-29F9-4A6D-9BF9-118FF5E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92DAA-7CFF-441D-8BC0-7869FFC1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1FDE8-702D-4DC5-B6C1-20BE49DC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4A104-10FA-46C7-A2C6-1931F24E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810FC-67A3-4D41-9531-DBB10F49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98B3A-5C8D-4624-B648-DCDE170A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54C6A-702E-4986-84AE-B4678A9A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3ED46-C7C8-4F49-B180-F6B827C0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4C859-9611-49D0-BC49-BD4F8C81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DF0CA-0D21-4F10-AA98-BECB0D80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061-1F38-4645-9BEB-2834F534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3F696-4837-42FF-9C41-C716CD4D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CC149-FA7C-4EDD-93AF-68C9A034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0A078-CF36-4938-8DC7-CE04E6FF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7BF87-F3C1-44D0-9284-5B11325D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7227B-F75C-4BB5-8A2D-1D574028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3B363-BC4A-4292-8A18-7C6D6671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C318F-63EB-47C4-BAD0-64230A70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DDFBB-F6EC-435A-AD0C-6D34539D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5EE6A-01B1-4018-8D1E-0547DC3B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9DC4E-21B3-4D1A-809D-816012F9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038D-09B3-4FBB-A3EF-27B5D0BDD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265C-C422-4112-AEAA-D56F26B051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8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6DA7-4E79-4FF2-A180-50F7A687A2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4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4655-7B0D-4257-B1CF-C030BCB3FB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E082-2CBF-4566-84B4-009D4DD972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1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4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4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4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4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9BE1-1D22-42C0-86A1-302D5A5BA3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9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0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0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1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5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6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8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622D-28DD-4D33-92BD-DEF98D2F7D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99E4-5B01-4D17-92B9-649CB69E82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AEEB-F9B4-4B22-A665-A9AE04BF26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ftr" idx="5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2E46-953A-4ABE-B36E-90E52B5E500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4BEA-85D3-4FA2-9318-ED15356B6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8A0-E59B-47B0-9566-E61F7EBC9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AB3D-A976-4451-85F9-8CB5C2E65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7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7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8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8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9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1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3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4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16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18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9F53-7C67-46D2-890F-20D353C6E58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25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25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25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26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26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26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27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7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7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7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28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28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29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29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29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0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0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0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0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1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31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31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32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32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2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32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33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33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33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34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34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34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35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35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35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35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36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36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37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F486-DA2A-4490-A6A9-96297AAA8C0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2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D05A-B4DD-436D-B6E6-8753F8C3F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8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584C-2A37-4C2F-BA2C-7F8A86AB4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A28-C9A4-44F7-A9AF-6783F4E7D1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04AB-FFC8-4DC7-A2FF-107F43B05E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44F8-12CE-4A47-AD13-9F2E2F265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5C5E-1E40-4F7F-946E-8B69A8352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0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C2B9-84E4-4439-88D1-711C9D348E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5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F9A1-5E86-4EC3-A92C-7DC83BC751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FA5B-4D76-4B43-9634-D0E92907B3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1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виз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Здоровье – это красота , светлые мысли и доброт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5" name=""/>
          <p:cNvGraphicFramePr/>
          <p:nvPr/>
        </p:nvGraphicFramePr>
        <p:xfrm>
          <a:off x="1752480" y="533520"/>
          <a:ext cx="563904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33520"/>
                    <a:ext cx="56390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7" name=""/>
          <p:cNvGraphicFramePr/>
          <p:nvPr/>
        </p:nvGraphicFramePr>
        <p:xfrm>
          <a:off x="2116080" y="419040"/>
          <a:ext cx="49118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6080" y="419040"/>
                    <a:ext cx="49118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609480" y="352440"/>
            <a:ext cx="7772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ценка курения как фактора риска развития заболев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водиться по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индексу курения (ИК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):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6062f"/>
                </a:solidFill>
                <a:latin typeface="Times New Roman"/>
              </a:rPr>
              <a:t>ИК = число сигарет, выкуриваемых в день х 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6062f"/>
                </a:solidFill>
                <a:latin typeface="Times New Roman"/>
              </a:rPr>
              <a:t>За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 ИК &gt; 140 риск развития хронических обструктивных болезней легких крайне высо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8610480" y="2971800"/>
            <a:ext cx="152640" cy="228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8610480" y="5410080"/>
            <a:ext cx="228600" cy="3049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3" name=""/>
          <p:cNvGraphicFramePr/>
          <p:nvPr/>
        </p:nvGraphicFramePr>
        <p:xfrm>
          <a:off x="1865160" y="722160"/>
          <a:ext cx="5411880" cy="54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722160"/>
                    <a:ext cx="541188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ий возраст закуривания молодеж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6" name=""/>
          <p:cNvGraphicFramePr/>
          <p:nvPr/>
        </p:nvGraphicFramePr>
        <p:xfrm>
          <a:off x="776160" y="1930320"/>
          <a:ext cx="77565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930320"/>
                    <a:ext cx="77565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ля курящих среди различных возрастных групп молоде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649440" y="1930320"/>
          <a:ext cx="813744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930320"/>
                    <a:ext cx="813744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Выкуривают сигарет, в среднем за д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2" name=""/>
          <p:cNvGraphicFramePr/>
          <p:nvPr/>
        </p:nvGraphicFramePr>
        <p:xfrm>
          <a:off x="387360" y="1930320"/>
          <a:ext cx="840744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930320"/>
                    <a:ext cx="840744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Arial"/>
              </a:rPr>
              <a:t>Причины закуривания подростк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0% - воспринимают курение как развлечени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% - хотят выглядеть взрослыми и привлекательным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0% - девушек хотят покрасоватьс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0% - девушек хотят похуде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0% - юношей и девушек курят когда испытывают чувство тревоги и раздражитель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6" name=""/>
          <p:cNvGraphicFramePr/>
          <p:nvPr/>
        </p:nvGraphicFramePr>
        <p:xfrm>
          <a:off x="2095560" y="419040"/>
          <a:ext cx="49528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419040"/>
                    <a:ext cx="49528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Факторы, предрасполагающие молодых людей к курению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ие уровни социальной приемлемости табачных издел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верженность действию рекла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ступность табачных издел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р родителей (в семьях, где нет курящих пробовали закурить 50,4% мальчиков, 48,1% девочек; где курят 3 и более родственников – 85% мальчиков и 37,5% девочек продолжают курить в дальнейшем; в некурящих семьях – 18,2% - мальчиков, 6% девочек, в курящих – 57,4% мальчиков, 32,5% девоче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3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потребление табака в группе сверс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Открытый классный час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ма: «Мы за здоровый образ жизн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539640" y="620640"/>
            <a:ext cx="80708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рограммированнос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потреб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ивы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станов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ровень знаний о возможных последствиях курения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зникновение психической и физической зависимости - 59,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ждевременная смерть - 42,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ение интеллектуальных способностей - 31,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редное воздействие на потомство - 65,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пасность окружающих членов семьи - 59,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ение спортивных результатов - 7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сутствие риска при умеренном потреблении - 27,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3" name=""/>
          <p:cNvGraphicFramePr/>
          <p:nvPr/>
        </p:nvGraphicFramePr>
        <p:xfrm>
          <a:off x="1219320" y="609480"/>
          <a:ext cx="63244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6324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5" name=""/>
          <p:cNvSpPr/>
          <p:nvPr/>
        </p:nvSpPr>
        <p:spPr>
          <a:xfrm>
            <a:off x="1818720" y="586728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Arial"/>
              </a:rPr>
              <a:t>Удачи, желающим бросить кури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Пьянство – есть упражнение в безумии» - Пифаг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пространение пьянства на Руси связано с политикой господствующих классов. Ведь в Древней Руси пили очень мало, и пьянство считалось величайшим грехом и позором. Но с 16 столетия начался ввоз из-за границы водки и вина. При Иване 4 и Борисе Годунове появляются царевы кабаки, дававшие массу денег в казну государства. С 1894 года продажа водки стала царской монополией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8" name=""/>
          <p:cNvGraphicFramePr/>
          <p:nvPr/>
        </p:nvGraphicFramePr>
        <p:xfrm>
          <a:off x="457200" y="293760"/>
          <a:ext cx="8229600" cy="57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3760"/>
                    <a:ext cx="8229600" cy="57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чи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ьянство муж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еря близки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пад семь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лияние компании друз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родная мудрост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Муж пьет – полдома горит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на пьет – весь дом горит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следствия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ждение неполноценных д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рушение семь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ннее увядание женщи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еря внешней привлека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равственное опущ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5 раз увеличивается риск заболеваний пече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3 раза развитие гипертонической боле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мственная деград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нская фригид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зна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ное неприятие правды о себ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ытие пьян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теричность, импульсив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нда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живость и неискрен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прессивное состоя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тепени риск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болевания, передаваемые половым путе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нняя беремен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ход из школ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илие и преступ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убий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здание условий для формирования нравственного отношения учащихся к самим себе и окружающи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лкого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ч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лудок                             Голов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з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гкие              Серд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1692000" y="1341360"/>
            <a:ext cx="2663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356000" y="1341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1908000" y="1341360"/>
            <a:ext cx="244800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356000" y="1341360"/>
            <a:ext cx="2521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356000" y="1341360"/>
            <a:ext cx="1008000" cy="30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 наркотикам относятся вещества, которы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зывают приподнятое настроение или приятные субъективные пережи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зывают зависим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носят существенный вред здоров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ут опасность широкого распространения среди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изнаки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ызывание постепенного привыкания когда доза постоянно увеличивается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ри отсутствии наркотика состояние наркомана резко ухудшается, появляется боль, тошнота и т.д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аркоман готов пойти на все, лишь бы снова получить наркоти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опросы по рефлекс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мы узнали сегодн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лично вы к этому относите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е знаем о вреде алкоголя, курения, наркотиков, но как реагируе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 А С И Б О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НОВЫХ ВСТРЕЧ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крытый классный ч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ема: «Мы за здоровый образ жи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крытый классный ч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1403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ема: «Мы за здоровый образ жи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ать учащимся отрицательные стороны курения, пьянства, употребления наркот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ь стойкое неприятие нездорового образа жиз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ть ценностное отношение к своему здоровью и здоровью окружающ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пределению Всемирной организации здравоохранения здоровье- это не только отсутствие болезней, но и состояние полного физического, душевного и социального благополучия. Один из главных показателей здоровья – продолжительность жиз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Мужчины – 57 ле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Женщины – 71 г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ывод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возрастом детей увеличивается заболеваемость органов дыхания, зрения, пищевар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мечен рост поражения паразитарными инвазиями, в основном за счет низкого уровня жизни, вредных привычек, низкого уровня питания, безработицы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 Лучше знаться с дураком, чем с табаком» - так говорили когда-то на Рус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>
            <a:off x="685800" y="148608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>
            <a:off x="6227640" y="234936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062f"/>
                </a:solidFill>
                <a:latin typeface="Arial"/>
              </a:rPr>
              <a:t>Курение и здоров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42210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шкинадзе Н. М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ердловский областной центр медицинской профилак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3:22:07Z</dcterms:created>
  <dc:creator>Хозяин</dc:creator>
  <dc:description/>
  <dc:language>en-US</dc:language>
  <cp:lastModifiedBy>Хозяин</cp:lastModifiedBy>
  <dcterms:modified xsi:type="dcterms:W3CDTF">2007-11-18T09:59:07Z</dcterms:modified>
  <cp:revision>5</cp:revision>
  <dc:subject/>
  <dc:title>Открытый классный час</dc:title>
</cp:coreProperties>
</file>