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9680" y="288720"/>
            <a:ext cx="8423280" cy="12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a452a"/>
                </a:solidFill>
                <a:latin typeface="Arial"/>
                <a:ea typeface="Arial Unicode MS"/>
              </a:rPr>
              <a:t>ФГАОУ ВПО «Казанский (Приволжский) Федеральный университет»</a:t>
            </a:r>
            <a:br>
              <a:rPr sz="1400"/>
            </a:br>
            <a:r>
              <a:rPr b="1" lang="ru-RU" sz="1400" spc="-1" strike="noStrike">
                <a:solidFill>
                  <a:srgbClr val="4a452a"/>
                </a:solidFill>
                <a:latin typeface="Arial"/>
                <a:ea typeface="Arial Unicode MS"/>
              </a:rPr>
              <a:t>Институт психологии и образования</a:t>
            </a:r>
            <a:br>
              <a:rPr sz="1400"/>
            </a:br>
            <a:r>
              <a:rPr b="1" lang="ru-RU" sz="1400" spc="-1" strike="noStrike">
                <a:solidFill>
                  <a:srgbClr val="4a452a"/>
                </a:solidFill>
                <a:latin typeface="Arial"/>
                <a:ea typeface="Arial Unicode MS"/>
              </a:rPr>
              <a:t>Приволжский межрегиональный центр повышения квалификации и профессиональной переподготовки работников образования</a:t>
            </a:r>
            <a:br>
              <a:rPr sz="1400"/>
            </a:br>
            <a:r>
              <a:rPr b="1" lang="ru-RU" sz="1400" spc="-1" strike="noStrike">
                <a:solidFill>
                  <a:srgbClr val="4a452a"/>
                </a:solidFill>
                <a:latin typeface="Arial"/>
                <a:ea typeface="Arial Unicode MS"/>
              </a:rPr>
              <a:t>Отделение общего образования</a:t>
            </a:r>
            <a:endParaRPr b="0" lang="en-US" sz="1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29960" y="2369880"/>
            <a:ext cx="7265880" cy="20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a452a"/>
                </a:solidFill>
                <a:latin typeface="Trebuchet MS"/>
              </a:rPr>
              <a:t>ПРОЕКТНАЯ РАБОТА</a:t>
            </a:r>
            <a:endParaRPr b="0" lang="en-US" sz="2800" spc="-1" strike="noStrike">
              <a:solidFill>
                <a:srgbClr val="4a452a"/>
              </a:solidFill>
              <a:latin typeface="Trebuchet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a452a"/>
                </a:solidFill>
                <a:latin typeface="Trebuchet MS"/>
              </a:rPr>
              <a:t>слушателей курсов</a:t>
            </a:r>
            <a:endParaRPr b="0" lang="en-US" sz="2000" spc="-1" strike="noStrike">
              <a:solidFill>
                <a:srgbClr val="4a452a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a452a"/>
                </a:solidFill>
                <a:latin typeface="Trebuchet MS"/>
              </a:rPr>
              <a:t>«ФГОС ООО – основа достижения нового качества гуманитарного образования».</a:t>
            </a:r>
            <a:endParaRPr b="0" lang="en-US" sz="2400" spc="-1" strike="noStrike">
              <a:solidFill>
                <a:srgbClr val="4a452a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52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3720" y="216000"/>
            <a:ext cx="865332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8000"/>
            </a:br>
            <a:endParaRPr b="0" lang="en-US" sz="12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90440" y="252360"/>
            <a:ext cx="8726400" cy="13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Тема проекта: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Разработка контрольно-диагностических материалов  для формирования и оценки учебных достижений учащихся 6 классов по разделу «Лексика. Культура речи »</a:t>
            </a:r>
            <a:endParaRPr b="0" lang="en-US" sz="20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154080" y="4086360"/>
            <a:ext cx="861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заева Наталья Валентиновн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итель русского языка и литературы 1 кв.к. МБОУ «Киртелинская СОШ» Тетюшского муниципального района 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2198520" y="4853160"/>
            <a:ext cx="6799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олкова О.В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цент ПМЦ ПК и ПП РО КФУ, к.п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199800" y="178596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ы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154080" y="2151000"/>
            <a:ext cx="869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гафонова Марина Алексеевн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в.кв.к МБОУ «Лицей №159 Советского района г.Каза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154080" y="2589120"/>
            <a:ext cx="872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умерова  Мяйсяря Айсовн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в.кв.к. МБОУ «Камскоустинская СОШ» Камско - Устинского  муниципального района  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0"/>
          <p:cNvSpPr/>
          <p:nvPr/>
        </p:nvSpPr>
        <p:spPr>
          <a:xfrm>
            <a:off x="154080" y="3100320"/>
            <a:ext cx="872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ксина Ирина Васильевн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 1 кв.к. МБОУ «Раифская СОШ» Зеленодольского муниципального  района  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154080" y="3575160"/>
            <a:ext cx="861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фиуллина Нурия Ахматовн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 в.кв.к.  МБОУ «Осиновская гимназия им. С.К.Гиматдинова» Зеленодольского муниципального района 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5448240" y="448776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6600" y="142560"/>
            <a:ext cx="240984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Цель  проекта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:  </a:t>
            </a:r>
            <a:br>
              <a:rPr sz="1400"/>
            </a:br>
            <a:endParaRPr b="0" lang="en-US" sz="16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6800" y="2917440"/>
            <a:ext cx="854388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rebuchet MS"/>
              </a:rPr>
              <a:t>1.Изучить требования ФГОС ООО к организации и проведению контроля результатов обучения.</a:t>
            </a:r>
            <a:endParaRPr b="0" lang="en-US" sz="2000" spc="-1" strike="noStrike">
              <a:solidFill>
                <a:srgbClr val="4a452a"/>
              </a:solidFill>
              <a:latin typeface="Trebuchet MS"/>
            </a:endParaRPr>
          </a:p>
          <a:p>
            <a:pPr marL="3412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rebuchet MS"/>
              </a:rPr>
              <a:t>2.Определить структуру и содержание контрольно- диагностических материалов в соответствии ФГОС ООО.</a:t>
            </a:r>
            <a:endParaRPr b="0" lang="en-US" sz="2000" spc="-1" strike="noStrike">
              <a:solidFill>
                <a:srgbClr val="4a452a"/>
              </a:solidFill>
              <a:latin typeface="Trebuchet MS"/>
            </a:endParaRPr>
          </a:p>
          <a:p>
            <a:pPr marL="3412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rebuchet MS"/>
              </a:rPr>
              <a:t>3.Разработать дидактический материал согласно требованиям ФГОС ООО по теме: «Лексика. Культура речи» 6 класс.</a:t>
            </a:r>
            <a:endParaRPr b="0" lang="en-US" sz="2000" spc="-1" strike="noStrike">
              <a:solidFill>
                <a:srgbClr val="4a452a"/>
              </a:solidFill>
              <a:latin typeface="Trebuchet MS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90440" y="507960"/>
            <a:ext cx="8690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70c0"/>
                </a:solidFill>
                <a:latin typeface="Georgia"/>
              </a:rPr>
              <a:t>Разработать комплекс контрольно-диагностических материалов для  учащихся 6 класса по теме: «Лексика. Культура речи», направленных на оценку  и диагностику результатов обучения в структуре ФГОС ОО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154080" y="2406600"/>
            <a:ext cx="27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1640" y="14292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Georgia"/>
              </a:rPr>
              <a:t>Контрольно-диагностические</a:t>
            </a:r>
            <a:br>
              <a:rPr sz="2400"/>
            </a:br>
            <a:r>
              <a:rPr b="1" lang="ru-RU" sz="2400" spc="-1" strike="noStrike">
                <a:solidFill>
                  <a:srgbClr val="4a452a"/>
                </a:solidFill>
                <a:latin typeface="Georgia"/>
              </a:rPr>
              <a:t>материалы</a:t>
            </a:r>
            <a:br>
              <a:rPr sz="2400"/>
            </a:br>
            <a:endParaRPr b="0" lang="en-US" sz="2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2960" y="726840"/>
            <a:ext cx="2665440" cy="5476680"/>
          </a:xfrm>
          <a:prstGeom prst="rect">
            <a:avLst/>
          </a:prstGeom>
          <a:gradFill rotWithShape="0">
            <a:gsLst>
              <a:gs pos="0">
                <a:srgbClr val="fac090"/>
              </a:gs>
              <a:gs pos="100000">
                <a:srgbClr val="e1e8f5"/>
              </a:gs>
            </a:gsLst>
            <a:lin ang="5400000"/>
          </a:gradFill>
          <a:ln w="38160">
            <a:solidFill>
              <a:srgbClr val="ccc1da"/>
            </a:solidFill>
            <a:miter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Georgia"/>
              </a:rPr>
              <a:t>Регулятивные:</a:t>
            </a:r>
            <a:endParaRPr b="0" lang="en-US" sz="1600" spc="-1" strike="noStrike">
              <a:solidFill>
                <a:srgbClr val="4a452a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Georgia"/>
              </a:rPr>
              <a:t>-</a:t>
            </a:r>
            <a:r>
              <a:rPr b="0" lang="ru-RU" sz="1600" spc="-1" strike="noStrike">
                <a:solidFill>
                  <a:srgbClr val="4a452a"/>
                </a:solidFill>
                <a:latin typeface="Georgia"/>
              </a:rPr>
              <a:t>«преднамеренные ошибки»;</a:t>
            </a:r>
            <a:endParaRPr b="0" lang="en-US" sz="1600" spc="-1" strike="noStrike">
              <a:solidFill>
                <a:srgbClr val="4a452a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Georgia"/>
              </a:rPr>
              <a:t>-составление диктантов;</a:t>
            </a:r>
            <a:endParaRPr b="0" lang="en-US" sz="1600" spc="-1" strike="noStrike">
              <a:solidFill>
                <a:srgbClr val="4a452a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4a452a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Georgia"/>
              </a:rPr>
              <a:t>Составление инструкций,</a:t>
            </a:r>
            <a:endParaRPr b="0" lang="en-US" sz="1600" spc="-1" strike="noStrike">
              <a:solidFill>
                <a:srgbClr val="4a452a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4a452a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4a452a"/>
                </a:solidFill>
                <a:latin typeface="Georgia"/>
              </a:rPr>
              <a:t>программ, схем, алгоритмов;</a:t>
            </a:r>
            <a:endParaRPr b="0" lang="en-US" sz="1600" spc="-1" strike="noStrike">
              <a:solidFill>
                <a:srgbClr val="4a452a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Georgia"/>
              </a:rPr>
              <a:t>-взаимный диктант;</a:t>
            </a:r>
            <a:endParaRPr b="0" lang="en-US" sz="1600" spc="-1" strike="noStrike">
              <a:solidFill>
                <a:srgbClr val="4a452a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4a452a"/>
                </a:solidFill>
                <a:latin typeface="Georgia"/>
              </a:rPr>
              <a:t>-восстановление деформированного текста;</a:t>
            </a:r>
            <a:endParaRPr b="0" lang="en-US" sz="1600" spc="-1" strike="noStrike">
              <a:solidFill>
                <a:srgbClr val="4a452a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4a452a"/>
                </a:solidFill>
                <a:latin typeface="Georgia"/>
              </a:rPr>
              <a:t>- «ищу ошибки»;</a:t>
            </a:r>
            <a:endParaRPr b="0" lang="en-US" sz="1600" spc="-1" strike="noStrike">
              <a:solidFill>
                <a:srgbClr val="4a452a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4a452a"/>
                </a:solidFill>
                <a:latin typeface="Georgia"/>
              </a:rPr>
              <a:t>- контрольный опрос на определенную тему</a:t>
            </a:r>
            <a:endParaRPr b="0" lang="en-US" sz="1600" spc="-1" strike="noStrike">
              <a:solidFill>
                <a:srgbClr val="4a452a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Georgia"/>
              </a:rPr>
              <a:t>-составление ассоциативного ряда слов</a:t>
            </a:r>
            <a:endParaRPr b="0" lang="en-US" sz="1600" spc="-1" strike="noStrike">
              <a:solidFill>
                <a:srgbClr val="4a452a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Georgia"/>
              </a:rPr>
              <a:t>- редактирование текста- найди ошибку в выборе слова и т.д.</a:t>
            </a:r>
            <a:endParaRPr b="0" lang="en-US" sz="1600" spc="-1" strike="noStrike">
              <a:solidFill>
                <a:srgbClr val="4a452a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a452a"/>
              </a:solidFill>
              <a:latin typeface="Trebuchet M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57640" y="1128600"/>
          <a:ext cx="2628720" cy="5184720"/>
        </p:xfrm>
        <a:graphic>
          <a:graphicData uri="http://schemas.openxmlformats.org/drawingml/2006/table">
            <a:tbl>
              <a:tblPr/>
              <a:tblGrid>
                <a:gridCol w="2628720"/>
              </a:tblGrid>
              <a:tr h="5184720"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Познаватель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- сравни; – найди отличия (можно задать их количество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-работа с разного вида таблицам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-работа со словарям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диспут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-упорядочивани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-«цепочки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-хитроумные реше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составление текстов с использованием различных источников информации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9969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141960" y="617400"/>
          <a:ext cx="2629080" cy="5426280"/>
        </p:xfrm>
        <a:graphic>
          <a:graphicData uri="http://schemas.openxmlformats.org/drawingml/2006/table">
            <a:tbl>
              <a:tblPr/>
              <a:tblGrid>
                <a:gridCol w="2629080"/>
              </a:tblGrid>
              <a:tr h="5864760"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Коммуникатив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-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работа с  анализом текс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-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составь задание партнер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-представь себя в роли учителя и составь задание для класса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- составь рассказ от имени героя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-составь рассказ от имени неодушевленного предме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- отзыв на работу товарищ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-групповая работа по составлению кроссворд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-отгадай, о ком говорим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- подготовь рассказ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-опиши устно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ac090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2600" y="252000"/>
            <a:ext cx="85186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Регулятивные УУД</a:t>
            </a:r>
            <a:br>
              <a:rPr sz="2800"/>
            </a:br>
            <a:endParaRPr b="0" lang="en-US" sz="28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6600" y="617040"/>
            <a:ext cx="8361360" cy="47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452a"/>
                </a:solidFill>
                <a:latin typeface="Trebuchet MS"/>
              </a:rPr>
              <a:t>Внимательно посмотрите на карточки, на которых представлены пословицы в «разобранном виде». «Соберите» пословицы, объединив первую и вторую части. Выполните задание, обсудив в группе. </a:t>
            </a:r>
            <a:endParaRPr b="0" lang="en-US" sz="1800" spc="-1" strike="noStrike">
              <a:solidFill>
                <a:srgbClr val="4a452a"/>
              </a:solidFill>
              <a:latin typeface="Trebuchet MS"/>
            </a:endParaRPr>
          </a:p>
          <a:p>
            <a:pPr indent="0" algn="just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a452a"/>
              </a:solidFill>
              <a:latin typeface="Trebuchet MS"/>
            </a:endParaRPr>
          </a:p>
          <a:p>
            <a:pPr indent="0" algn="just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a452a"/>
              </a:solidFill>
              <a:latin typeface="Trebuchet MS"/>
            </a:endParaRPr>
          </a:p>
          <a:p>
            <a:pPr indent="0" algn="just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a452a"/>
              </a:solidFill>
              <a:latin typeface="Trebuchet MS"/>
            </a:endParaRPr>
          </a:p>
          <a:p>
            <a:pPr indent="0" algn="just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a452a"/>
              </a:solidFill>
              <a:latin typeface="Trebuchet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74720" y="2187720"/>
          <a:ext cx="3213000" cy="2738160"/>
        </p:xfrm>
        <a:graphic>
          <a:graphicData uri="http://schemas.openxmlformats.org/drawingml/2006/table">
            <a:tbl>
              <a:tblPr/>
              <a:tblGrid>
                <a:gridCol w="321300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луп совсем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Есть что слушат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учен день до вечер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то умеет беситьс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олчанкой ни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чего про то говорит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усский аппет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827600" y="2187720"/>
          <a:ext cx="3505320" cy="270648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ому ни с кем не ужиться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его в горшке не вари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то не знается ни с к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а нечего куша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ичему не прети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гда делать нечег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 обидиш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00" name="Прямоугольник 29"/>
          <p:cNvSpPr/>
          <p:nvPr/>
        </p:nvSpPr>
        <p:spPr>
          <a:xfrm>
            <a:off x="446040" y="61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Игра «Корректор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63520" y="1432800"/>
            <a:ext cx="814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дите  ошибку в выборе сл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Times New Roman"/>
              </a:rPr>
              <a:t>1) После теплых атмосферных осадков на листьях сверкали яркие кап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Times New Roman"/>
              </a:rPr>
              <a:t>2) В конструкции есть отрицательные и положительные дефе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Times New Roman"/>
              </a:rPr>
              <a:t>3) Из передовой бригады он перешел в отсталую.</a:t>
            </a:r>
            <a:r>
              <a:rPr b="1" i="1" lang="ru-RU" sz="2400" spc="-1" strike="noStrike">
                <a:solidFill>
                  <a:srgbClr val="953735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Times New Roman"/>
              </a:rPr>
              <a:t>4) В центре города построен памятник гер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0880" y="25236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Познавательные УУД.</a:t>
            </a:r>
            <a:br>
              <a:rPr sz="2800"/>
            </a:br>
            <a:endParaRPr b="0" lang="en-US" sz="28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55120" y="982440"/>
            <a:ext cx="3907080" cy="5111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04a7b"/>
                </a:solidFill>
                <a:latin typeface="Trebuchet MS"/>
              </a:rPr>
              <a:t>Обратитесь к словарю и определите неверное значение жаргонизма.</a:t>
            </a:r>
            <a:endParaRPr b="0" lang="en-US" sz="2000" spc="-1" strike="noStrike">
              <a:solidFill>
                <a:srgbClr val="4a452a"/>
              </a:solidFill>
              <a:latin typeface="Trebuchet M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Trebuchet MS"/>
              </a:rPr>
              <a:t>Тачка – </a:t>
            </a:r>
            <a:r>
              <a:rPr b="0" i="1" lang="ru-RU" sz="2400" spc="-1" strike="noStrike">
                <a:solidFill>
                  <a:srgbClr val="4a452a"/>
                </a:solidFill>
                <a:latin typeface="Trebuchet MS"/>
              </a:rPr>
              <a:t>машина</a:t>
            </a:r>
            <a:endParaRPr b="0" lang="en-US" sz="2400" spc="-1" strike="noStrike">
              <a:solidFill>
                <a:srgbClr val="4a452a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Trebuchet MS"/>
              </a:rPr>
              <a:t>Кайф – </a:t>
            </a:r>
            <a:r>
              <a:rPr b="0" i="1" lang="ru-RU" sz="2400" spc="-1" strike="noStrike">
                <a:solidFill>
                  <a:srgbClr val="4a452a"/>
                </a:solidFill>
                <a:latin typeface="Trebuchet MS"/>
              </a:rPr>
              <a:t>удовольствие</a:t>
            </a:r>
            <a:endParaRPr b="0" lang="en-US" sz="2400" spc="-1" strike="noStrike">
              <a:solidFill>
                <a:srgbClr val="4a452a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Trebuchet MS"/>
              </a:rPr>
              <a:t>Водила – </a:t>
            </a:r>
            <a:r>
              <a:rPr b="0" i="1" lang="ru-RU" sz="2400" spc="-1" strike="noStrike">
                <a:solidFill>
                  <a:srgbClr val="4a452a"/>
                </a:solidFill>
                <a:latin typeface="Trebuchet MS"/>
              </a:rPr>
              <a:t>водитель</a:t>
            </a:r>
            <a:endParaRPr b="0" lang="en-US" sz="2400" spc="-1" strike="noStrike">
              <a:solidFill>
                <a:srgbClr val="4a452a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Trebuchet MS"/>
              </a:rPr>
              <a:t>Наколоть – </a:t>
            </a:r>
            <a:r>
              <a:rPr b="0" i="1" lang="ru-RU" sz="2400" spc="-1" strike="noStrike">
                <a:solidFill>
                  <a:srgbClr val="4a452a"/>
                </a:solidFill>
                <a:latin typeface="Trebuchet MS"/>
              </a:rPr>
              <a:t>сделать наколку</a:t>
            </a:r>
            <a:endParaRPr b="0" lang="en-US" sz="2400" spc="-1" strike="noStrike">
              <a:solidFill>
                <a:srgbClr val="4a452a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718160" y="982440"/>
            <a:ext cx="3906720" cy="5111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Trebuchet MS"/>
              </a:rPr>
              <a:t> </a:t>
            </a:r>
            <a:r>
              <a:rPr b="1" i="1" lang="ru-RU" sz="2000" spc="-1" strike="noStrike">
                <a:solidFill>
                  <a:srgbClr val="953735"/>
                </a:solidFill>
                <a:latin typeface="Trebuchet MS"/>
              </a:rPr>
              <a:t>“</a:t>
            </a:r>
            <a:r>
              <a:rPr b="1" i="1" lang="ru-RU" sz="2000" spc="-1" strike="noStrike">
                <a:solidFill>
                  <a:srgbClr val="953735"/>
                </a:solidFill>
                <a:latin typeface="Trebuchet MS"/>
              </a:rPr>
              <a:t>Развиваем логику”. </a:t>
            </a:r>
            <a:endParaRPr b="0" lang="en-US" sz="2000" spc="-1" strike="noStrike">
              <a:solidFill>
                <a:srgbClr val="4a452a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04a7b"/>
                </a:solidFill>
                <a:latin typeface="Georgia"/>
              </a:rPr>
              <a:t>По определению назовите  слово:</a:t>
            </a:r>
            <a:endParaRPr b="0" lang="en-US" sz="2000" spc="-1" strike="noStrike">
              <a:solidFill>
                <a:srgbClr val="4a452a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452a"/>
                </a:solidFill>
                <a:latin typeface="Trebuchet MS"/>
              </a:rPr>
              <a:t>хрустящий, зелёный, пупырчатый;</a:t>
            </a:r>
            <a:endParaRPr b="0" lang="en-US" sz="2400" spc="-1" strike="noStrike">
              <a:solidFill>
                <a:srgbClr val="4a452a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452a"/>
                </a:solidFill>
                <a:latin typeface="Trebuchet MS"/>
              </a:rPr>
              <a:t>маленькая, пугливая, компьютерная;</a:t>
            </a:r>
            <a:endParaRPr b="0" lang="en-US" sz="2400" spc="-1" strike="noStrike">
              <a:solidFill>
                <a:srgbClr val="4a452a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452a"/>
                </a:solidFill>
                <a:latin typeface="Trebuchet MS"/>
              </a:rPr>
              <a:t>интересная, толстая, библиотечная.</a:t>
            </a:r>
            <a:endParaRPr b="0" lang="en-US" sz="2400" spc="-1" strike="noStrike">
              <a:solidFill>
                <a:srgbClr val="4a452a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a452a"/>
              </a:solidFill>
              <a:latin typeface="Trebuchet M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Trebuchet MS"/>
              </a:rPr>
              <a:t>Придумайте два аналогичных примера.</a:t>
            </a:r>
            <a:endParaRPr b="0" lang="en-US" sz="2000" spc="-1" strike="noStrike">
              <a:solidFill>
                <a:srgbClr val="4a452a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Trebuchet MS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3600" y="0"/>
            <a:ext cx="23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mbria"/>
                <a:ea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227160" y="795960"/>
            <a:ext cx="8470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mbria"/>
              </a:rPr>
              <a:t>Прочитайте и озаглавьте тек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mbria"/>
              </a:rPr>
              <a:t>Озаглавьте каждую часть словами из текста, выражающими его основную мысл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mbria"/>
              </a:rPr>
              <a:t>Определите стиль и тип речи тек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mbria"/>
              </a:rPr>
              <a:t>Выпишите из текста 2 – 3 слова, употребленные в переносном смыс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mbria"/>
              </a:rPr>
              <a:t>Напишите  продолжение текс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mbria"/>
              </a:rPr>
              <a:t>Поделись своим продолжением с одноклассни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09680" y="3002760"/>
            <a:ext cx="8324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сенью, когда стукнул первый мороз, мы с Мишей и Костей решили, что сейчас самое время начинать делать ка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рганизовали ребят и сказали, что, кто не будет работать, не пустим кататься. Поэтому все рьяно взялись за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здней ночью мы кончил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поливать каток. За ночь вода замёрзла крепко-накрепко. На следующий день состоялось открытие катка. Все ребята собрались вокруг. Лед блестел как зеркало. Мишка первый выехал на середину ль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Каток объявляю открытым!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закричал он и тут же шлёпну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2016000" y="289080"/>
            <a:ext cx="49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Коммуникативные УУ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888720" y="258912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ш  ка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227160" y="169560"/>
            <a:ext cx="8726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 algn="just">
              <a:lnSpc>
                <a:spcPct val="100000"/>
              </a:lnSpc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04a7b"/>
                </a:solidFill>
                <a:latin typeface="Cambria"/>
              </a:rPr>
              <a:t>У писательницы Л. Петрушевской есть лингвистическая сказка под названием «ПУСЬКИ БЯТЫЕ», написанная на несуществующем язы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04a7b"/>
                </a:solidFill>
                <a:latin typeface="Cambria"/>
              </a:rPr>
              <a:t>Прочитайте сказ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04a7b"/>
                </a:solidFill>
                <a:latin typeface="Cambria"/>
              </a:rPr>
              <a:t>Скажите, какие ассоциации возникают у вас при чтении сказк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04a7b"/>
                </a:solidFill>
                <a:latin typeface="Cambria"/>
              </a:rPr>
              <a:t>Разделитесь на 3 группы. Составьте словарик несуществующего языка и переведите сказку  на русски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04a7b"/>
                </a:solidFill>
                <a:latin typeface="Cambria"/>
              </a:rPr>
              <a:t>Что помогло вам справиться с заданием</a:t>
            </a:r>
            <a:r>
              <a:rPr b="1" i="1" lang="ru-RU" sz="1600" spc="-1" strike="noStrike">
                <a:solidFill>
                  <a:srgbClr val="604a7b"/>
                </a:solidFill>
                <a:latin typeface="Cambri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72960" y="2569320"/>
            <a:ext cx="85806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УСЬКИ БЯ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япала Калуша с Калушатами по напушке. И увазила Бутявку, и вол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лушата! Калушаточки! Бутяв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лушата присяпали и Бутявку стрямкали. И подудон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 Калуша вол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ее! Оее! Бутявка-то некузяв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лушата Бутявку вычуч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утявка вздребезнулась, сопритюкнулась и усяпала с нап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 Калуша волит калушат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лушаточки! Не трямкайте бутявок, бутявки дюбые и зюмо-зюмо некузявые. От бутявок дудон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 Бутявка волит за напушк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лушата подудонились! Зюмо некузявые! Пуськи бяты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2637000" y="0"/>
            <a:ext cx="38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Коммуникативные УУ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55480" y="1165320"/>
            <a:ext cx="799632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Georgia"/>
              </a:rPr>
              <a:t>Спасиб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Georgia"/>
              </a:rPr>
              <a:t>за внимание 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Georgia"/>
              </a:rPr>
              <a:t>До новых встреч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Админ</cp:lastModifiedBy>
  <dcterms:modified xsi:type="dcterms:W3CDTF">2015-09-24T09:41:38Z</dcterms:modified>
  <cp:revision>42</cp:revision>
  <dc:subject/>
  <dc:title>Слайд 1</dc:title>
</cp:coreProperties>
</file>