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5ED-A550-414A-8F70-58D28628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FAD-1A69-459E-B822-43306F8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97A-FFEC-4D10-BD8A-70ED7291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ABD-6EFE-4D60-BF27-ABEE73A5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C194-53DF-43F8-B717-ED4AD376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5405-EEEB-4402-8BB5-E989FEB5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82CF-8E97-45A9-9A83-DA7FD95B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7A7D-F4EE-48BB-9DEC-3635C64C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B194-CA32-4423-B64F-D1A3901F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6E00-6259-42D7-BBB7-FAC2B5A3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3C51-D36E-4020-956C-4CDE6C9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463-7EA6-47C4-8F13-2BA24D0C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CC77-7E14-4B1A-B9BE-193BBAAF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01AB-ED13-4335-ADB4-F040A08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DF56-044D-41D3-BA0A-C48A75D0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1A13-03C1-45BC-8EDA-76EADF8B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6975-01D1-43EC-90B9-B0412F43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25C8-7818-4855-A6B9-B7FF3966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A8FC-D37B-4868-8991-62AB8482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BDA4-F838-4176-BC41-BEC8D924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86D4-B555-4D32-8EB5-276666DA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1C2D-5CE8-41AA-B460-334DD85D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958-84D0-4C4B-BAD8-0AFBD921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53B0-352F-4DB1-929D-F308B74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09D4-69B4-43DD-9EEA-97472FE4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362E-ABB2-4FB6-BC7C-DA48B09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A480-DCB9-4E7F-B0E7-20B338A0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4026-6B8E-40DF-96BF-DCA7513D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882A-145C-4B68-AB57-4F9B577E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5D93-BB99-4523-B663-36188819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52CAC-23E8-4B43-8E57-C179B5F7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D2DF-0093-4786-98F6-852A8C13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9087-0275-4146-ADFF-B0F5C15E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4D2-062F-4576-8FBF-E3DCA717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C444-2E5A-4FD8-9A17-B061E736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6670-5CB6-4FB1-99F0-9FF7705D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DF35-9148-4519-965F-14D3B522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E5C2-5757-4E17-9421-4B883BC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3685-C13F-4DF9-8EDD-B30326F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1800-4513-4F77-87E6-C056CB6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9149-1754-4B78-BF10-DB58E5D1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803D-BFF3-426C-A6C8-DA337B8B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2FFEC-8849-41BB-98FA-79DEFCB0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3FB0D-5D23-4B08-9F2F-11975253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7C8-5E76-4C6D-AE0E-00DB2BF8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1DE9-CE35-4A6C-AC1F-8244CDB4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54DF-FD51-4DD6-9DF9-2A66ECD2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9B3A-FCD3-48FC-97F5-C1B11D31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B8F8-551B-48D5-84BA-A840B71C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46F3-4FFC-40D7-ACD4-52B90C32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A94B-5108-4ACB-9307-4CB2C75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B5E5-8E4B-4838-B3C1-1785CF9B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BF08-C7A1-4220-9DD2-9DED8E74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3ED3-2576-45B4-83BB-9C1EB20E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3B90-E9EA-414A-95BD-AA5C65F1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663-7BCE-4629-AEAD-905D5CE4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C2DC8-F9A5-419F-9F8D-979CD79F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12AC3-7DD8-4923-B1D8-A80A8B03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46A65-B68E-4B7C-AEAF-5F3E4033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D1F08-804C-439B-ADBE-BD2FEEE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DF80-081C-4A4F-AA87-DF8678F4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ED0B-7C85-4E68-9617-70F7ECA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E79B6-FEF4-416D-88BE-622FD3E1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B3387-5E1C-40B1-927B-FA6BAF60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D654-86F0-453B-8E45-301754E6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2AAF2-9D5D-4844-A733-3031BA92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6EE-3F9A-4551-A66F-87E62809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8C08-F842-49FA-A37D-FCAE52AA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63622-F1AF-4E13-87EC-18BA41A0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45C17-2739-4C25-AA7E-CBDEF8EF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DD2EC-AD30-447C-BFA0-14ECA13D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FB72-E6F0-40CA-B44D-9DC5ECD7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ED820-353C-45FF-9036-4E4272BF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93532-F87A-4F72-82F3-EBDBFC3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CE6EC-DA9A-45AD-B9CB-2A450E1E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164BC-30C7-4F51-8DDD-63EBC384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6BDF7-B0B5-4920-9631-33970A8B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F2A-F9EF-4546-AD7E-CDD3116C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FB7AD-6C0B-4FFC-BF0C-E11BD381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5CF42-C08E-4F48-BAC6-00068046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9B6ED-753A-48CD-8E94-548A0E91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54338-889E-4C50-A37C-3F5A6FEC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82AA9-578B-456C-9EA4-EB78D301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6AF-2EA1-4A6D-955B-2D2EAF5E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563C-70D0-4CD1-8A57-835FBB2E465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248F-77F4-4EC6-8B02-374F4E64BB41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CF16-8035-4B75-A7DC-53225343E3E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A7BB-9971-4814-87A1-9BF049EAF09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9BF-C45E-4AE6-B6AD-0C3E99A86A8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8AA7-5E59-45A7-83F8-29472E2511D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95B2-0A54-4862-86D3-437E47792D88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4" descr=""/>
          <p:cNvPicPr/>
          <p:nvPr/>
        </p:nvPicPr>
        <p:blipFill>
          <a:blip r:embed="rId1"/>
          <a:stretch/>
        </p:blipFill>
        <p:spPr>
          <a:xfrm>
            <a:off x="1219320" y="1279440"/>
            <a:ext cx="6565680" cy="14511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5" descr=""/>
          <p:cNvPicPr/>
          <p:nvPr/>
        </p:nvPicPr>
        <p:blipFill>
          <a:blip r:embed="rId2"/>
          <a:stretch/>
        </p:blipFill>
        <p:spPr>
          <a:xfrm>
            <a:off x="4803840" y="4194000"/>
            <a:ext cx="3754440" cy="9511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6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2819520" cy="270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Прямоугольник 1" descr=""/>
          <p:cNvPicPr/>
          <p:nvPr/>
        </p:nvPicPr>
        <p:blipFill>
          <a:blip r:embed="rId1"/>
          <a:stretch/>
        </p:blipFill>
        <p:spPr>
          <a:xfrm>
            <a:off x="390600" y="2719440"/>
            <a:ext cx="8070840" cy="2382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" descr="D:\Documents and Settings\я\Рабочий стол\Маша\Картинки\слайлики\3dac96de6803d637fcc72bc4d0603195.gif"/>
          <p:cNvPicPr/>
          <p:nvPr/>
        </p:nvPicPr>
        <p:blipFill>
          <a:blip r:embed="rId2"/>
          <a:stretch/>
        </p:blipFill>
        <p:spPr>
          <a:xfrm rot="20508000">
            <a:off x="1143000" y="990360"/>
            <a:ext cx="2144880" cy="1523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304920" y="457200"/>
            <a:ext cx="40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рия Китая считается одной из самых древнейших в мире, она включает пять тысяч лет исторического и культурного развития. За это время китайцы много воевали и захватывали земли, на страну тоже постоянно осуществляли набеги племена кочевников или войска соседних держав. Однако, несмотря на все это, традиции Китая продолжали формироваться и развиваться. Именно в Китае еще в древности возникла письменность, китайцы первые начали применять для написания бумагу, китайские мастера делали хорошее оружие, а искусство боя стало примером для воинов других стра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Рисунок 2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4065480" cy="5927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1295280" y="45720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Дракон – культурный символ китайского народ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Рисунок 2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73356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5715000" y="22860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славлен Древний Китай и уникальными памятниками архитектуры и искусства. Причудливые сооружения, интересные крыши домов, богатые дворцы императоров и изысканно украшенные хра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Рисунок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3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5410080" cy="31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6595920" cy="46483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3"/>
          <p:cNvSpPr/>
          <p:nvPr/>
        </p:nvSpPr>
        <p:spPr>
          <a:xfrm>
            <a:off x="2362320" y="563868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Древние канатные мо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2"/>
          <p:cNvSpPr/>
          <p:nvPr/>
        </p:nvSpPr>
        <p:spPr>
          <a:xfrm>
            <a:off x="380880" y="68580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ктивно развивалась не только архитектура, но и письменность, и литература. Особенно ценился в Китае красивый каллиграфический почерк, которым выводились многочисленные иероглиф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Рисунок 3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02632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2"/>
          <p:cNvSpPr/>
          <p:nvPr/>
        </p:nvSpPr>
        <p:spPr>
          <a:xfrm>
            <a:off x="228600" y="990720"/>
            <a:ext cx="3429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итайское искусство развивалось в самых разнообразных направлениях. Только в этой стране можно было отыскать мастеров, прекрасно изготавливающих тончайший шелк, или гончаров, славившихся производством декоративного фарфора. Китайские живописцы могли расписать не только стены храмов и дворцов, но и мелкие керамические и тканевые издел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Рисунок 3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3811680" cy="47926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4114800" y="5488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Китаянка пять лет вырезала бумажную карти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304920" y="22860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тдельным видом древнего китайского искусства считается театральное мастерство. Китайцы в своих театральных постановках умело сочетали музыку и движения тела, восточные единоборства и религ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395600" cy="5861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"/>
          <p:cNvSpPr/>
          <p:nvPr/>
        </p:nvSpPr>
        <p:spPr>
          <a:xfrm>
            <a:off x="470520" y="6022080"/>
            <a:ext cx="62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еатр теней как часть китайской драмату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152280" y="457200"/>
            <a:ext cx="55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итайцы очень почтительно относятся к своим предкам, к природным богатствам и предметам искусства. Практически каждый уголок в Китае наполнен историей и культурной ценност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3609720" y="9036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Древние канатные мост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5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6095880" cy="358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6-10-02T15:46:39Z</dcterms:modified>
  <cp:revision>8</cp:revision>
  <dc:subject/>
  <dc:title>Слайд 1</dc:title>
</cp:coreProperties>
</file>