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25D-C7C7-4960-B505-7037AFFE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307-33BC-49D6-9AE2-EBC83BBE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513-E27F-4E70-B748-07D2F70D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9CF-10F5-4B58-A450-FAE7727F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A1B3-E30A-426E-9177-680FDBD4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964D-F6C5-4FBD-B080-C85CB34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0902-ECC8-4B74-9B1A-CA0D3BB9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6131-AF09-4444-9478-0181883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615C-A25A-43C7-9474-C794E387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798-2A85-43EC-B154-B1D43EC5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2093-CD9D-4026-8394-AF76DCB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35E-7BA0-43C8-8E30-DB280AF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B69B-D36F-4A68-8272-A15A311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6BB-2F41-4225-A26A-9143443D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58E9-EC95-4D8C-92D0-1D7FBED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7D0F-9F4C-47D8-B9E8-4318AF16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F97E-7466-4AA2-B85B-FAAC5447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CBF9-EB7A-4E68-ADC9-F1FDF380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53E1-130C-4BD4-A5A9-AABC3CC2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06C1-1A50-42C9-A2D6-7E7AC2F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8CD9-FA1C-4271-8D9B-2DE7858A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5588-E0FE-4945-AAAE-4A736185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97A-BBC3-433A-834F-FFB007FA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685C-5670-4F3D-86A8-B4C7B2BC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EDAB-891C-4084-9D5F-C2CFE29D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1A9B-CFD6-45A8-85D8-C7AFBAC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D886-82A5-4232-A5FA-06EFCE6A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DBA5-6BF7-452A-AAEF-8A0CEC9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20E9-CDCC-4E5C-8B64-BA5C645A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0141-C705-4D8C-8E79-CCBD9FEC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BF2F-C072-471B-887A-8521AC3C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9350-1F6A-4EE8-9435-712C8F93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2596-C047-4B39-B239-45848082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5C4-3A9E-4F47-BC0B-80A6F98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4F79-F32F-4DD5-A6A3-4D82DB42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8BD23-239A-4E9F-958B-A18C4F5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EE84-D775-4608-BEF8-8AD31E1B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1A77-6652-4DF2-84DA-183D384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5ED1-3BCF-4457-8EDE-A75872E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1814-E4CD-4CE8-BAEB-7608988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6DB4-0BC0-42BF-A284-CE1F7C4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808A-4D13-419A-8635-6EF3B201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694E-2AAA-4F84-B0E3-47D3AC75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EB2E-E8D5-4416-988D-7C65F01E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B9A-D5DA-4813-8471-D77A2D20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71DB-441F-4764-B9CB-C2D48A6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AD8A-DEBE-4CB1-BD94-D0680B8D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A05C-5DA3-419C-B009-3CA468BB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83AFB-BEBF-4065-B3BA-793524F8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259D-1C99-4451-B734-87894A16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9DE29-4C89-4462-87EB-B7F48251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0EFCD-B920-44F1-A7F9-FBE702C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790D-A7AA-406B-BCCD-FA230BF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8ABD-3380-48E9-BF2C-8CD72B0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0B52-95D5-4E5D-A029-5E753A8F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415-69FB-4F5E-846E-8FD391AA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990F7-CCEB-4C1E-B1C7-2A521558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04F1-FF76-4C2A-9B46-1241C43F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C225-9D9E-442B-9A9A-A5B2B0D7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ED3CC-D247-4B59-A973-477D8200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85D7-4236-45C2-B9D4-0DC1D91B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0C2F-6172-4D9B-AC80-EA4ACFE6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2A3D-EFBA-48AE-BDAE-8F836CE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18D0-359A-4DEE-87ED-0710F25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30CB-1F08-486D-83A5-1857FF5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31A5B-4F68-4859-9875-9B28DE7C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AAD-13D1-4EA6-AC1A-2675F22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CC359-C637-4BAA-AC8D-4559B5C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A3C91-763F-4AA1-831E-07AF8A1F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462A-1F1B-4E88-A4D6-5BECF99F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EB3E0-845B-4E68-A08F-454CD669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0587D-98AA-4601-BA0A-83105E6F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16EF-2AFC-406D-965C-E24A79D1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280A-2FFC-4913-8885-05BB9FD4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D228A-9081-4BC1-96AF-FF732F76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D91C9-8DE8-4B60-B3EC-95BF83D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8F4D6-B645-473D-B2F4-E96EF0A5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C25-64F3-47E3-B5C1-ADD3F66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4F654-4BA0-4545-9E92-97C3A746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CB30E-33FA-4D09-83A8-AF70B91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7446F-4B45-4F46-B7C4-6DC3041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3B7B-474F-45AB-82A4-30946E74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D34D9-E9C6-43A8-BCBA-FC9859B1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B9F-712C-43BE-83CF-5C675E8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6A4-9AE9-4374-8D69-A64AFCC1C7F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FADC-E5A8-4DBE-AC11-AB97B41E7127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015-C436-46CC-8EA2-71D2830DE22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BDC-5004-4EB8-8BE6-215439DD0B3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40BE-5716-4272-9450-F1EA6346E1B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0E45-8BAF-4175-9D29-EAAF176C8AD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FCFB-F5D4-4E6B-8DB2-5AE95379DA61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4" descr=""/>
          <p:cNvPicPr/>
          <p:nvPr/>
        </p:nvPicPr>
        <p:blipFill>
          <a:blip r:embed="rId1"/>
          <a:stretch/>
        </p:blipFill>
        <p:spPr>
          <a:xfrm>
            <a:off x="1219320" y="1279440"/>
            <a:ext cx="6565680" cy="14511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5" descr=""/>
          <p:cNvPicPr/>
          <p:nvPr/>
        </p:nvPicPr>
        <p:blipFill>
          <a:blip r:embed="rId2"/>
          <a:stretch/>
        </p:blipFill>
        <p:spPr>
          <a:xfrm>
            <a:off x="4803840" y="4194000"/>
            <a:ext cx="3754440" cy="9511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6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281952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2719440"/>
            <a:ext cx="8070840" cy="2382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" descr="D:\Documents and Settings\я\Рабочий стол\Маша\Картинки\слайлики\3dac96de6803d637fcc72bc4d0603195.gif"/>
          <p:cNvPicPr/>
          <p:nvPr/>
        </p:nvPicPr>
        <p:blipFill>
          <a:blip r:embed="rId2"/>
          <a:stretch/>
        </p:blipFill>
        <p:spPr>
          <a:xfrm rot="20508000">
            <a:off x="1143000" y="990360"/>
            <a:ext cx="2144880" cy="152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304920" y="457200"/>
            <a:ext cx="40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рия Китая считается одной из самых древнейших в мире, она включает пять тысяч лет исторического и культурного развития. За это время китайцы много воевали и захватывали земли, на страну тоже постоянно осуществляли набеги племена кочевников или войска соседних держав. Однако, несмотря на все это, традиции Китая продолжали формироваться и развиваться. Именно в Китае еще в древности возникла письменность, китайцы первые начали применять для написания бумагу, китайские мастера делали хорошее оружие, а искусство боя стало примером для воинов других стр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Рисунок 2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065480" cy="5927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1295280" y="45720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Дракон – культурный символ китайского народ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73356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5715000" y="22860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славлен Древний Китай и уникальными памятниками архитектуры и искусства. Причудливые сооружения, интересные крыши домов, богатые дворцы императоров и изысканно украшенные хра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Рисунок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41008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595920" cy="46483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2362320" y="563868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Древние канатные мо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2"/>
          <p:cNvSpPr/>
          <p:nvPr/>
        </p:nvSpPr>
        <p:spPr>
          <a:xfrm>
            <a:off x="380880" y="68580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ктивно развивалась не только архитектура, но и письменность, и литература. Особенно ценился в Китае красивый каллиграфический почерк, которым выводились многочисленные иероглиф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Рисунок 3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02632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2"/>
          <p:cNvSpPr/>
          <p:nvPr/>
        </p:nvSpPr>
        <p:spPr>
          <a:xfrm>
            <a:off x="228600" y="990720"/>
            <a:ext cx="3429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итайское искусство развивалось в самых разнообразных направлениях. Только в этой стране можно было отыскать мастеров, прекрасно изготавливающих тончайший шелк, или гончаров, славившихся производством декоративного фарфора. Китайские живописцы могли расписать не только стены храмов и дворцов, но и мелкие керамические и тканевые издел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Рисунок 3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3811680" cy="47926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4114800" y="5488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итаянка пять лет вырезала бумажную карти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304920" y="22860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тдельным видом древнего китайского искусства считается театральное мастерство. Китайцы в своих театральных постановках умело сочетали музыку и движения тела, восточные единоборства и религ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395600" cy="5861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470520" y="6022080"/>
            <a:ext cx="62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атр теней как часть китайской драмату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152280" y="45720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итайцы очень почтительно относятся к своим предкам, к природным богатствам и предметам искусства. Практически каждый уголок в Китае наполнен историей и культурной ценнос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3609720" y="9036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Древние канатные мост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5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6095880" cy="358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6-10-02T15:46:39Z</dcterms:modified>
  <cp:revision>8</cp:revision>
  <dc:subject/>
  <dc:title>Слайд 1</dc:title>
</cp:coreProperties>
</file>