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4.gif" ContentType="image/gif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8416-4C64-44BE-8342-823616F1D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E7DB-8799-4C05-8437-8EEE9631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69EB-F271-4083-A923-93534BE82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E6DC-9043-4E5F-B8F1-B17CD444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100D-E89C-4F94-A47B-C7E53BD9A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53BC-FFEB-4DAC-BA87-7CE5E61C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A3AB-A75F-4948-AD25-74932B9F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FB2B-77CF-4121-AA5E-77E3D52A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A821-2153-4E15-89EA-B5BE5E7D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A0AB-D884-4D1B-9186-15511BF7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0E8A-E9EC-48AD-BDA5-27C7BA0E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A512-D365-4696-8946-BE94EA64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B2E3-6F7E-43D9-A4E2-B0770111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D760-6B1F-4F9D-B568-E8F25367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7F02-8E34-40C8-B00A-B0064BFB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8D11-49CF-4D07-8D34-31CB18188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A21C-882F-4420-8188-6DAFF254C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5EE5F-6508-49D7-B7B9-4879D5AA5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2AC0F-C4C3-4992-8811-FEC971D3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19E8E-C9FA-48C7-8A4B-B90F8E12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22949-7B09-4746-887D-F8AC42A6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9F59C-8A9C-473E-A0B3-67C32FE5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C96E-3E1E-4925-84BD-C7EE9290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94485-0E52-4782-B2B3-FE53A6C1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EF9A8-4120-4843-B686-3F3CC0B7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08886-35D0-4D2D-AF76-A10E4CD4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8B717-8BD7-4DE4-8FB4-7025632F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52643-5034-401D-8A86-C2C45013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42A00-D56A-4770-8F4F-2D35A9A9D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A77EA-F598-428D-949A-EEB3EC98E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2FDC4-9829-443E-83FE-3FDFE64B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1CA8D-F309-4A5E-81AC-3F7C3ECB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F2E8B-3947-4818-9329-EB2780C2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B7A5-539C-4263-8155-B8D8FDDE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14D80-2234-4EB6-A62B-75E9B627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127C7-1E68-4C01-9FC7-CC9FC05E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22967-60AA-4AA4-B08A-6AFCD503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28875-50B5-41FF-A280-B443FA67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7DF40-CA35-408A-AC8F-A50F02D3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7369D-6167-4DEA-A86D-B55C53C4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7B953-26B1-419E-9977-1F17D645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BD46B-0E86-4434-93EC-98E80BA5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85DE8-3EAC-4827-978E-24037E3CC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D9B93-473B-4DA0-8E98-D43BC6744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9969-45B7-4D0C-91AA-2EBF7570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8E8AD-B919-434B-A80B-54E3F136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B0705-B56D-42E9-B4B6-93E4A859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8E31D-053E-4444-8180-A1901B09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95E36-9C4A-4BC3-9EAA-B49EDC20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0EC79-5A49-454D-A9CD-934A2A54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0EE40-89B6-4058-9A14-77C97AA8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1F6DD-8D8D-47B4-B975-82553B3D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51CD3-F48E-4A50-A3A5-C42FEEF1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73AFD-1AB9-43A4-A2F7-7B09DD30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8645E-AD08-4025-8CB5-496CFBEA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AE78-1422-4F89-8FB2-6CCD3EF7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37FEF-5DE3-44DD-9E22-EDD3E070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42421-E329-464D-B453-BEC82C86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A02B4-BDC7-4426-9704-3658951B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C5CF8-EE12-4C93-9A71-D21B02A7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99B18-B9F8-4FBA-AEA8-79AAFCBB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DCFB0-C2A1-4317-9FEE-39CA7165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78F78-6462-44E0-8756-C9440B2A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79F51-24AF-49F7-8DEE-B51D7513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0F54A-EA1A-466F-8CD4-D601433D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50BFD-BFC1-4B93-ABCA-E4946BE3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359D-36E3-4820-80FA-6E4273DB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A92BD-0B7F-47A1-953C-D93C8481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37F05-93A1-4622-A948-7E8E74F5A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233C4-EB34-4C0F-ADD9-2A65B6AD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BE0C8-E54B-46ED-91FA-35F5EC66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776A2-D4B9-4ED8-89C9-A90D6DE4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3787D-D94B-45E1-9B26-68C50AE9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1F86F-D96E-4E95-AC02-E9A3074C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2704F-55B8-46A1-B4AF-2FBEBEB1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5A50F-8496-4824-8B10-51D75CE2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93354-2330-4D09-A68D-78CEF6CA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48DB-2C22-4582-8CAF-D56DC6BF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24381-1C78-43B3-82F8-B3C19173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91515-80A2-4FA4-BA7B-25EB7A61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4830E-2FBB-4154-840E-D2DBACD8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D295A-7074-4141-82A0-0DF817C4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29266-AC4C-4D90-89C1-93FCD9B3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7E05-5570-4AF2-AAE3-4A4D69CF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0534-039D-4F02-A120-BCAFE2165E6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E559-D9BE-4545-9B6F-84D74DA78281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B739-33B3-4E74-B634-2CE08A47A7F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2FB4-D45E-4243-BE54-8ECD3E022D8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39F1-E6C3-4DFA-B158-6BB7E0779CA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69A2-F34B-453A-BB22-E164A90935CB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BD0B-032A-425D-8EF9-AD2C46322EE0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Прямоугольник 4" descr=""/>
          <p:cNvPicPr/>
          <p:nvPr/>
        </p:nvPicPr>
        <p:blipFill>
          <a:blip r:embed="rId1"/>
          <a:stretch/>
        </p:blipFill>
        <p:spPr>
          <a:xfrm>
            <a:off x="1219320" y="1279440"/>
            <a:ext cx="6565680" cy="1451160"/>
          </a:xfrm>
          <a:prstGeom prst="rect">
            <a:avLst/>
          </a:prstGeom>
          <a:ln w="0">
            <a:noFill/>
          </a:ln>
        </p:spPr>
      </p:pic>
      <p:pic>
        <p:nvPicPr>
          <p:cNvPr id="302" name="Прямоугольник 5" descr=""/>
          <p:cNvPicPr/>
          <p:nvPr/>
        </p:nvPicPr>
        <p:blipFill>
          <a:blip r:embed="rId2"/>
          <a:stretch/>
        </p:blipFill>
        <p:spPr>
          <a:xfrm>
            <a:off x="4803840" y="4194000"/>
            <a:ext cx="3754440" cy="951120"/>
          </a:xfrm>
          <a:prstGeom prst="rect">
            <a:avLst/>
          </a:prstGeom>
          <a:ln w="0">
            <a:noFill/>
          </a:ln>
        </p:spPr>
      </p:pic>
      <p:pic>
        <p:nvPicPr>
          <p:cNvPr id="303" name="Рисунок 6" descr=""/>
          <p:cNvPicPr/>
          <p:nvPr/>
        </p:nvPicPr>
        <p:blipFill>
          <a:blip r:embed="rId3"/>
          <a:stretch/>
        </p:blipFill>
        <p:spPr>
          <a:xfrm>
            <a:off x="609480" y="3581280"/>
            <a:ext cx="2819520" cy="2708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Прямоугольник 1" descr=""/>
          <p:cNvPicPr/>
          <p:nvPr/>
        </p:nvPicPr>
        <p:blipFill>
          <a:blip r:embed="rId1"/>
          <a:stretch/>
        </p:blipFill>
        <p:spPr>
          <a:xfrm>
            <a:off x="390600" y="2719440"/>
            <a:ext cx="8070840" cy="23828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" descr="D:\Documents and Settings\я\Рабочий стол\Маша\Картинки\слайлики\3dac96de6803d637fcc72bc4d0603195.gif"/>
          <p:cNvPicPr/>
          <p:nvPr/>
        </p:nvPicPr>
        <p:blipFill>
          <a:blip r:embed="rId2"/>
          <a:stretch/>
        </p:blipFill>
        <p:spPr>
          <a:xfrm rot="20508000">
            <a:off x="1143000" y="990360"/>
            <a:ext cx="2144880" cy="15238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1"/>
          <p:cNvSpPr/>
          <p:nvPr/>
        </p:nvSpPr>
        <p:spPr>
          <a:xfrm>
            <a:off x="304920" y="457200"/>
            <a:ext cx="4038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История Китая считается одной из самых древнейших в мире, она включает пять тысяч лет исторического и культурного развития. За это время китайцы много воевали и захватывали земли, на страну тоже постоянно осуществляли набеги племена кочевников или войска соседних держав. Однако, несмотря на все это, традиции Китая продолжали формироваться и развиваться. Именно в Китае еще в древности возникла письменность, китайцы первые начали применять для написания бумагу, китайские мастера делали хорошее оружие, а искусство боя стало примером для воинов других стран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Рисунок 2" descr=""/>
          <p:cNvPicPr/>
          <p:nvPr/>
        </p:nvPicPr>
        <p:blipFill>
          <a:blip r:embed="rId1"/>
          <a:stretch/>
        </p:blipFill>
        <p:spPr>
          <a:xfrm>
            <a:off x="4648320" y="457200"/>
            <a:ext cx="4065480" cy="59277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1"/>
          <p:cNvSpPr/>
          <p:nvPr/>
        </p:nvSpPr>
        <p:spPr>
          <a:xfrm>
            <a:off x="1295280" y="45720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Дракон – культурный символ китайского народа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Рисунок 2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733560" cy="4648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оугольник 1"/>
          <p:cNvSpPr/>
          <p:nvPr/>
        </p:nvSpPr>
        <p:spPr>
          <a:xfrm>
            <a:off x="5715000" y="228600"/>
            <a:ext cx="304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Прославлен Древний Китай и уникальными памятниками архитектуры и искусства. Причудливые сооружения, интересные крыши домов, богатые дворцы императоров и изысканно украшенные храм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Рисунок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267080" cy="304812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3" descr=""/>
          <p:cNvPicPr/>
          <p:nvPr/>
        </p:nvPicPr>
        <p:blipFill>
          <a:blip r:embed="rId2"/>
          <a:stretch/>
        </p:blipFill>
        <p:spPr>
          <a:xfrm>
            <a:off x="1905120" y="3505320"/>
            <a:ext cx="5410080" cy="3124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Рисунок 2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6595920" cy="4648320"/>
          </a:xfrm>
          <a:prstGeom prst="rect">
            <a:avLst/>
          </a:prstGeom>
          <a:ln w="0">
            <a:noFill/>
          </a:ln>
        </p:spPr>
      </p:pic>
      <p:sp>
        <p:nvSpPr>
          <p:cNvPr id="312" name="Прямоугольник 3"/>
          <p:cNvSpPr/>
          <p:nvPr/>
        </p:nvSpPr>
        <p:spPr>
          <a:xfrm>
            <a:off x="2362320" y="563868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Древние канатные мост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Прямоугольник 2"/>
          <p:cNvSpPr/>
          <p:nvPr/>
        </p:nvSpPr>
        <p:spPr>
          <a:xfrm>
            <a:off x="380880" y="685800"/>
            <a:ext cx="3200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Активно развивалась не только архитектура, но и письменность, и литература. Особенно ценился в Китае красивый каллиграфический почерк, которым выводились многочисленные иероглиф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Рисунок 3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5026320" cy="5715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рямоугольник 2"/>
          <p:cNvSpPr/>
          <p:nvPr/>
        </p:nvSpPr>
        <p:spPr>
          <a:xfrm>
            <a:off x="228600" y="990720"/>
            <a:ext cx="3429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Китайское искусство развивалось в самых разнообразных направлениях. Только в этой стране можно было отыскать мастеров, прекрасно изготавливающих тончайший шелк, или гончаров, славившихся производством декоративного фарфора. Китайские живописцы могли расписать не только стены храмов и дворцов, но и мелкие керамические и тканевые издел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Рисунок 3" descr=""/>
          <p:cNvPicPr/>
          <p:nvPr/>
        </p:nvPicPr>
        <p:blipFill>
          <a:blip r:embed="rId1"/>
          <a:stretch/>
        </p:blipFill>
        <p:spPr>
          <a:xfrm>
            <a:off x="4343400" y="533520"/>
            <a:ext cx="3811680" cy="479268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3"/>
          <p:cNvSpPr/>
          <p:nvPr/>
        </p:nvSpPr>
        <p:spPr>
          <a:xfrm>
            <a:off x="4114800" y="54882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Китаянка пять лет вырезала бумажную картин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1"/>
          <p:cNvSpPr/>
          <p:nvPr/>
        </p:nvSpPr>
        <p:spPr>
          <a:xfrm>
            <a:off x="304920" y="228600"/>
            <a:ext cx="274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Отдельным видом древнего китайского искусства считается театральное мастерство. Китайцы в своих театральных постановках умело сочетали музыку и движения тела, восточные единоборства и религи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Рисунок 2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4395600" cy="586116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"/>
          <p:cNvSpPr/>
          <p:nvPr/>
        </p:nvSpPr>
        <p:spPr>
          <a:xfrm>
            <a:off x="470520" y="6022080"/>
            <a:ext cx="627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Театр теней как часть китайской драмату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1"/>
          <p:cNvSpPr/>
          <p:nvPr/>
        </p:nvSpPr>
        <p:spPr>
          <a:xfrm>
            <a:off x="152280" y="457200"/>
            <a:ext cx="556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Китайцы очень почтительно относятся к своим предкам, к природным богатствам и предметам искусства. Практически каждый уголок в Китае наполнен историей и культурной ценность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1"/>
          <p:cNvSpPr/>
          <p:nvPr/>
        </p:nvSpPr>
        <p:spPr>
          <a:xfrm>
            <a:off x="3609720" y="9036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Древние канатные мост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Рисунок 5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6095880" cy="3581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вгений</cp:lastModifiedBy>
  <dcterms:modified xsi:type="dcterms:W3CDTF">2016-10-02T15:46:39Z</dcterms:modified>
  <cp:revision>8</cp:revision>
  <dc:subject/>
  <dc:title>Слайд 1</dc:title>
</cp:coreProperties>
</file>