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68DC-6AC6-4792-A6D2-F708F993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502E-91A3-458A-8353-1A0475D3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6B7A-87D3-4C5F-9E03-32F850B3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AA41-6282-4C30-AC42-5A4C8BC8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1521-6904-4198-BF5E-68883834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7097-CD6A-4108-8B3E-343CE523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F0E5-5001-4A79-B7E8-69AB7FAA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DC64-C3A5-4922-BA1B-1C399AB7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F79A-3C63-4766-843A-8B73CAF3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821B-0280-4FC5-ABFE-7AF9F183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C6C4-FD2B-4DA0-A22B-812F04B0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7933-EFEF-4D4B-8850-283C1CDD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7803-A833-474D-905A-1AFB502A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4088-762A-4C65-B570-B5307654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7332-E5F7-4E9D-AD57-F2AAFECA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28CB-1C2B-494E-852C-30849297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952F-D849-4874-BF19-BF368327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086E-7443-43CD-A291-F1A4C564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CBC0-CA07-4CBE-84B7-8C18B2C2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0B36-1A97-4F16-BC11-D5A2BFBB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53F6-1C6C-4D73-8A13-5401A920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D51C-58C9-4E0E-8F36-E5DB97B5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DB06-CAA3-4E1F-9D8C-52FC1800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598-466C-4F38-8DD8-E8B01901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6066-16A4-42CE-A250-9387FE172B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7C18-B354-4329-99D1-9C021AF600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354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Гиацинты из бумаг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553080" cy="4976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602136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В итоге получится плотное и пышное соцвет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7561440" cy="55342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1280" y="58770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Далее обрабатываем нижнюю часть соцветия креповой бумаго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900000" y="333360"/>
            <a:ext cx="7488360" cy="5425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Из цветной бумаги насыщенного зеленого цвета вырезаем линейные листья гиацин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7632720" cy="5526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39640" y="580536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После чего приклеиваем их к нижней части цветоносного стебл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427640" y="2349360"/>
            <a:ext cx="4390920" cy="32324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68360" y="404640"/>
            <a:ext cx="4319640" cy="31989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68360" y="551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Всё, гиацинт из бумаги готов. Для создания букета из гиацинтов рекомендуем использовать разнообразные оттенки. Так вы создадите яркую и оригинальную цветочную композицию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416720" cy="50324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360" y="4724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Нам понадобятся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- цветная бумага зеленого и фиолетового оттенка;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- креповая бумага зеленого цвета для обработки стебля;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- клей;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- отрезок проволоки;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- ножниц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1692360" y="260280"/>
            <a:ext cx="5976720" cy="4329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9640" y="592092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сначала мы должны создать заготовку мелких цветочков гиацинта. Отрезаем полоску фиолетового оттен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042920" y="404640"/>
            <a:ext cx="7344000" cy="52628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60210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Складываем полученный отрезок в несколько раз.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71640" y="404640"/>
            <a:ext cx="7273800" cy="5227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5705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Затем делаем поперечные надрезы по всей его длине. Примерно сантиметр ленты оставьте целой, не дорезая ее до конц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187280" y="404640"/>
            <a:ext cx="6913800" cy="50533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9640" y="6093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Получится вот такая бахром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7561440" cy="55324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39640" y="609300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С помощью лезвий ножниц подкручиваем тонкие полос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464000" cy="3402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356000" y="2492280"/>
            <a:ext cx="4464000" cy="3382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4360" y="589248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Затем создаем плотный стебель гиацинта. Отрезок проволоки обматываем креповой бумагой зеленого цвета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042920" y="404640"/>
            <a:ext cx="7201080" cy="50691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54450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Теперь наносим на кончик фиолетовой ленты клей и присоединяем к проволоке. Наматываем бахрому, спускаясь ниже по стебл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392360" cy="3294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284720" y="1773360"/>
            <a:ext cx="4608360" cy="3384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0T12:50:21Z</dcterms:created>
  <dc:creator>dns</dc:creator>
  <dc:description/>
  <dc:language>en-US</dc:language>
  <cp:lastModifiedBy>dns</cp:lastModifiedBy>
  <dcterms:modified xsi:type="dcterms:W3CDTF">2016-09-10T13:43:20Z</dcterms:modified>
  <cp:revision>3</cp:revision>
  <dc:subject/>
  <dc:title>Гиацинты из бумаги</dc:title>
</cp:coreProperties>
</file>