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3B1-ADC2-4DD7-8B53-62EAF95D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59A4-D141-4309-8A49-B8F66C01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CD9-E088-4CBD-8C91-4BAD6944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F8B-40CA-4BA0-A499-C3408EF9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FD18-58F3-412C-A781-EACD0EF5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0271-B18F-4770-8F8D-799472E9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BF4F-4148-4CCA-9665-85D70709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B97B-632A-47E3-B84E-AAB40464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D189-D4D9-4996-A4CC-70E0A87D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122E-9FB0-448F-841D-27AF3835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D208-379D-4C53-8560-7A1DC3E8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BD7-0A5F-41F6-A5BD-EB3A9F95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41AA-45D6-4430-B80F-C9BF46B5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56B1-6795-45FF-9DAE-EDE2DC6E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AAAB-7CB0-4A78-A5EA-C2A54523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24EB-C111-4AB4-8713-7C11B15B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EF36-D630-4CF3-A6ED-2646AF93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237E-C6AF-4C37-861F-4F031FA1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FE7-F123-41CD-BF59-BB561205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5EF-3A69-4A4F-9616-4F462C32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9AE5-A705-4922-9432-E029167E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50F-8092-467D-A102-9B95C7CD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C96E-BFF8-4520-A413-A43C8D6C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951E-2ED5-48A8-A811-1EE37439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6F39-76D5-45E5-B191-ABD7180551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3AD6-D539-4C20-8E86-6DBCEE5DF1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354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Гиацинты из бумаг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553080" cy="4976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602136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В итоге получится плотное и пышное соцвет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7561440" cy="55342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1280" y="58770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Далее обрабатываем нижнюю часть соцветия креповой бумаг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7488360" cy="5425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Из цветной бумаги насыщенного зеленого цвета вырезаем линейные листья гиацин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632720" cy="5526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9640" y="580536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После чего приклеиваем их к нижней части цветоносного стебл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4390920" cy="3232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4319640" cy="31989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551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Всё, гиацинт из бумаги готов. Для создания букета из гиацинтов рекомендуем использовать разнообразные оттенки. Так вы создадите яркую и оригинальную цветочную композицию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416720" cy="5032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4724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Нам понадобятся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- цветная бумага зеленого и фиолетового оттенка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- креповая бумага зеленого цвета для обработки стебля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- клей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- отрезок проволоки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- ножни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692360" y="260280"/>
            <a:ext cx="5976720" cy="4329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9640" y="592092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сначала мы должны создать заготовку мелких цветочков гиацинта. Отрезаем полоску фиолетового оттен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7344000" cy="5262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6021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Складываем полученный отрезок в несколько раз.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404640"/>
            <a:ext cx="7273800" cy="5227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5705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Затем делаем поперечные надрезы по всей его длине. Примерно сантиметр ленты оставьте целой, не дорезая ее до конц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6913800" cy="5053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609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Получится вот такая бахро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561440" cy="55324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9640" y="609300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С помощью лезвий ножниц подкручиваем тонкие полос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464000" cy="340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356000" y="2492280"/>
            <a:ext cx="4464000" cy="3382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4360" y="589248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Затем создаем плотный стебель гиацинта. Отрезок проволоки обматываем креповой бумагой зеленого цвета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7201080" cy="5069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54450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Теперь наносим на кончик фиолетовой ленты клей и присоединяем к проволоке. Наматываем бахрому, спускаясь ниже по стебл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392360" cy="3294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284720" y="1773360"/>
            <a:ext cx="4608360" cy="3384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0T12:50:21Z</dcterms:created>
  <dc:creator>dns</dc:creator>
  <dc:description/>
  <dc:language>en-US</dc:language>
  <cp:lastModifiedBy>dns</cp:lastModifiedBy>
  <dcterms:modified xsi:type="dcterms:W3CDTF">2016-09-10T13:43:20Z</dcterms:modified>
  <cp:revision>3</cp:revision>
  <dc:subject/>
  <dc:title>Гиацинты из бумаги</dc:title>
</cp:coreProperties>
</file>