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E07-C497-42D5-94B8-506155CE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0E1-18F2-4DE5-8295-6B78277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045-90E5-4AB3-92E2-7AE7AB7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815-8DC5-4B46-9A8E-54426BC4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D3A-E52F-43D3-8799-EC8519CA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73E-F2A7-410F-9B69-41F3C100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E5A-AB60-4368-84FD-620A0D28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D28-E65F-41F5-8AE5-FF8457C9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6D3-28B6-4BDE-8772-99426F6C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C4B-94FA-42AF-B212-A3E8BD0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B66-CF1B-4555-8B3D-61BE5584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0A9-38B9-4178-9D66-B036F1F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FA14-633F-4A29-AFAC-56594B5CA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?id=8514809&amp;tov=2"/>
          <p:cNvPicPr/>
          <p:nvPr/>
        </p:nvPicPr>
        <p:blipFill>
          <a:blip r:embed="rId1"/>
          <a:stretch/>
        </p:blipFill>
        <p:spPr>
          <a:xfrm>
            <a:off x="457200" y="1579680"/>
            <a:ext cx="1463760" cy="2217600"/>
          </a:xfrm>
          <a:prstGeom prst="rect">
            <a:avLst/>
          </a:prstGeom>
          <a:ln w="88920">
            <a:solidFill>
              <a:srgbClr val="008000"/>
            </a:solidFill>
            <a:miter/>
          </a:ln>
          <a:effectLst>
            <a:outerShdw dist="81185" dir="3078030" blurRad="0" rotWithShape="0">
              <a:srgbClr val="33cc33"/>
            </a:outerShdw>
          </a:effectLst>
        </p:spPr>
      </p:pic>
      <p:sp>
        <p:nvSpPr>
          <p:cNvPr id="42" name="Text Box 21"/>
          <p:cNvSpPr/>
          <p:nvPr/>
        </p:nvSpPr>
        <p:spPr>
          <a:xfrm>
            <a:off x="992160" y="5302080"/>
            <a:ext cx="703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Люби живо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5" descr="0_e164_e5517f8f_XL[1]"/>
          <p:cNvPicPr/>
          <p:nvPr/>
        </p:nvPicPr>
        <p:blipFill>
          <a:blip r:embed="rId2"/>
          <a:stretch/>
        </p:blipFill>
        <p:spPr>
          <a:xfrm>
            <a:off x="3048120" y="2057400"/>
            <a:ext cx="2746080" cy="19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" name="Picture 26" descr="04541[1]"/>
          <p:cNvPicPr/>
          <p:nvPr/>
        </p:nvPicPr>
        <p:blipFill>
          <a:blip r:embed="rId3"/>
          <a:stretch/>
        </p:blipFill>
        <p:spPr>
          <a:xfrm>
            <a:off x="6248520" y="609480"/>
            <a:ext cx="2419200" cy="19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Picture 27" descr="3468579[1]"/>
          <p:cNvPicPr/>
          <p:nvPr/>
        </p:nvPicPr>
        <p:blipFill>
          <a:blip r:embed="rId4"/>
          <a:stretch/>
        </p:blipFill>
        <p:spPr>
          <a:xfrm>
            <a:off x="6324480" y="3429000"/>
            <a:ext cx="2470320" cy="20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971640" y="1125360"/>
            <a:ext cx="7200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Урок литературного чтения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.Пришвин "Моя Родина"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из воспоминаний)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winter_woods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700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Волк"/>
          <p:cNvPicPr/>
          <p:nvPr/>
        </p:nvPicPr>
        <p:blipFill>
          <a:blip r:embed="rId2"/>
          <a:stretch/>
        </p:blipFill>
        <p:spPr>
          <a:xfrm>
            <a:off x="5029200" y="4325760"/>
            <a:ext cx="4114800" cy="253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i?id=51074589&amp;tov=6"/>
          <p:cNvPicPr/>
          <p:nvPr/>
        </p:nvPicPr>
        <p:blipFill>
          <a:blip r:embed="rId3"/>
          <a:stretch/>
        </p:blipFill>
        <p:spPr>
          <a:xfrm>
            <a:off x="0" y="5099040"/>
            <a:ext cx="28195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inter_woods_2"/>
          <p:cNvPicPr/>
          <p:nvPr/>
        </p:nvPicPr>
        <p:blipFill>
          <a:blip r:embed="rId1"/>
          <a:stretch/>
        </p:blipFill>
        <p:spPr>
          <a:xfrm>
            <a:off x="0" y="-30240"/>
            <a:ext cx="9296280" cy="7040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1523880" y="2971800"/>
            <a:ext cx="7239240" cy="2057400"/>
          </a:xfrm>
          <a:prstGeom prst="wedgeEllipseCallout">
            <a:avLst>
              <a:gd name="adj1" fmla="val -34342"/>
              <a:gd name="adj2" fmla="val 11095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м-бум-бым-бом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2895480" y="304920"/>
            <a:ext cx="4572000" cy="1143000"/>
          </a:xfrm>
          <a:prstGeom prst="wedgeEllipseCallout">
            <a:avLst>
              <a:gd name="adj1" fmla="val 58749"/>
              <a:gd name="adj2" fmla="val 5680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ф-оф-а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 flipV="1">
            <a:off x="2590920" y="1523520"/>
            <a:ext cx="5181480" cy="1067040"/>
          </a:xfrm>
          <a:prstGeom prst="wedgeEllipseCallout">
            <a:avLst>
              <a:gd name="adj1" fmla="val 49263"/>
              <a:gd name="adj2" fmla="val 3392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х-ох-ах-э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Сова"/>
          <p:cNvPicPr/>
          <p:nvPr/>
        </p:nvPicPr>
        <p:blipFill>
          <a:blip r:embed="rId2"/>
          <a:stretch/>
        </p:blipFill>
        <p:spPr>
          <a:xfrm>
            <a:off x="7881840" y="304920"/>
            <a:ext cx="126216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Зайчик"/>
          <p:cNvPicPr/>
          <p:nvPr/>
        </p:nvPicPr>
        <p:blipFill>
          <a:blip r:embed="rId3"/>
          <a:srcRect l="0" t="0" r="0" b="8083"/>
          <a:stretch/>
        </p:blipFill>
        <p:spPr>
          <a:xfrm>
            <a:off x="609480" y="5486400"/>
            <a:ext cx="2133720" cy="15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i?id=51074589&amp;tov=6"/>
          <p:cNvPicPr/>
          <p:nvPr/>
        </p:nvPicPr>
        <p:blipFill>
          <a:blip r:embed="rId4"/>
          <a:stretch/>
        </p:blipFill>
        <p:spPr>
          <a:xfrm>
            <a:off x="4572000" y="5410080"/>
            <a:ext cx="2486160" cy="15512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3"/>
          <p:cNvSpPr/>
          <p:nvPr/>
        </p:nvSpPr>
        <p:spPr>
          <a:xfrm flipV="1">
            <a:off x="-151920" y="4267080"/>
            <a:ext cx="4647960" cy="1067040"/>
          </a:xfrm>
          <a:prstGeom prst="wedgeEllipseCallout">
            <a:avLst>
              <a:gd name="adj1" fmla="val 79745"/>
              <a:gd name="adj2" fmla="val -13199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а-ло-лы-л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4011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Дятел"/>
          <p:cNvPicPr/>
          <p:nvPr/>
        </p:nvPicPr>
        <p:blipFill>
          <a:blip r:embed="rId2"/>
          <a:srcRect l="36189" t="0" r="0" b="9542"/>
          <a:stretch/>
        </p:blipFill>
        <p:spPr>
          <a:xfrm rot="21024600">
            <a:off x="7378560" y="0"/>
            <a:ext cx="9921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1828800" y="3505320"/>
            <a:ext cx="4495680" cy="1600200"/>
          </a:xfrm>
          <a:prstGeom prst="wedgeEllipseCallout">
            <a:avLst>
              <a:gd name="adj1" fmla="val 72490"/>
              <a:gd name="adj2" fmla="val -15416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я-тё-тю-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828800" y="2133720"/>
            <a:ext cx="4495680" cy="1600200"/>
          </a:xfrm>
          <a:prstGeom prst="wedgeEllipseCallout">
            <a:avLst>
              <a:gd name="adj1" fmla="val 75245"/>
              <a:gd name="adj2" fmla="val -10476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-то-ту-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905120" y="762120"/>
            <a:ext cx="4800600" cy="1523880"/>
          </a:xfrm>
          <a:prstGeom prst="wedgeEllipseCallout">
            <a:avLst>
              <a:gd name="adj1" fmla="val 64782"/>
              <a:gd name="adj2" fmla="val -25833"/>
            </a:avLst>
          </a:prstGeom>
          <a:gradFill rotWithShape="0">
            <a:gsLst>
              <a:gs pos="0">
                <a:srgbClr val="bbe0e3"/>
              </a:gs>
              <a:gs pos="50000">
                <a:srgbClr val="fcfefe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-до-ду-д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0118[1]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/>
          <p:cNvSpPr/>
          <p:nvPr/>
        </p:nvSpPr>
        <p:spPr>
          <a:xfrm>
            <a:off x="152280" y="1447920"/>
            <a:ext cx="7315200" cy="2286000"/>
          </a:xfrm>
          <a:prstGeom prst="wedgeEllipseCallout">
            <a:avLst>
              <a:gd name="adj1" fmla="val 11217"/>
              <a:gd name="adj2" fmla="val 10951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ы-ра-ро-ру-ри-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р-рор-рур-ры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Волк"/>
          <p:cNvPicPr/>
          <p:nvPr/>
        </p:nvPicPr>
        <p:blipFill>
          <a:blip r:embed="rId2"/>
          <a:stretch/>
        </p:blipFill>
        <p:spPr>
          <a:xfrm>
            <a:off x="4419720" y="4179960"/>
            <a:ext cx="47242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17656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11120" y="1484280"/>
            <a:ext cx="832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о кро ви ща м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3920" y="3645000"/>
            <a:ext cx="831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про буж да ет с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154728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370800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514800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>
            <a:off x="694800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H="1">
            <a:off x="2410920" y="4005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4716000" y="393372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6084360" y="4005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7451280" y="4005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5866920" y="371628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3419640" y="1628640"/>
            <a:ext cx="14256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2420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987640" y="3333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552920" y="3333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23240" y="1773360"/>
            <a:ext cx="383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Роди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3720" y="3886200"/>
            <a:ext cx="53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Кладовая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4427280" y="386064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634920" y="184464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260680" y="3886200"/>
            <a:ext cx="37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олн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05120" y="2136600"/>
            <a:ext cx="198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05120" y="2136600"/>
            <a:ext cx="15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905120" y="2136600"/>
            <a:ext cx="15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8360" y="404640"/>
            <a:ext cx="81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59600" y="1341360"/>
            <a:ext cx="77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по кры ва лос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1979280" y="162864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4427280" y="1557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5866920" y="1557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 flipH="1">
            <a:off x="5724000" y="141300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042920" y="270828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89280" y="2997360"/>
            <a:ext cx="701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ки пя ти лос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H="1">
            <a:off x="2339640" y="321300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 flipH="1">
            <a:off x="3924000" y="321300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 flipH="1">
            <a:off x="5363640" y="321300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 flipH="1">
            <a:off x="5076360" y="306864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1060920" y="4508640"/>
            <a:ext cx="652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вста ва ни 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 flipH="1">
            <a:off x="6372000" y="472428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 flipH="1">
            <a:off x="4858920" y="472428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 flipH="1">
            <a:off x="3419280" y="472428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 flipH="1">
            <a:off x="4500720" y="4653000"/>
            <a:ext cx="14256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photoforum.ru/f/photo/000/619/619695_47.jpg"/>
          <p:cNvPicPr/>
          <p:nvPr/>
        </p:nvPicPr>
        <p:blipFill>
          <a:blip r:embed="rId2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9"/>
          <p:cNvSpPr/>
          <p:nvPr/>
        </p:nvSpPr>
        <p:spPr>
          <a:xfrm>
            <a:off x="2000160" y="6429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из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ttp://www.remontblizko.ru/pict.php?img=../portal/files/pictures/picture_107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www.remontblizko.ru/pict.php?img=../portal/files/pictures/picture_10739.jpg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и Пришвина для дет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_910218274[1]"/>
          <p:cNvPicPr/>
          <p:nvPr/>
        </p:nvPicPr>
        <p:blipFill>
          <a:blip r:embed="rId1"/>
          <a:stretch/>
        </p:blipFill>
        <p:spPr>
          <a:xfrm>
            <a:off x="304920" y="1295280"/>
            <a:ext cx="2052360" cy="327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8" name="Picture 5" descr="300324241[1]"/>
          <p:cNvPicPr/>
          <p:nvPr/>
        </p:nvPicPr>
        <p:blipFill>
          <a:blip r:embed="rId2"/>
          <a:stretch/>
        </p:blipFill>
        <p:spPr>
          <a:xfrm>
            <a:off x="2895480" y="1371600"/>
            <a:ext cx="2813040" cy="395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Picture 6" descr="1000384538[1]"/>
          <p:cNvPicPr/>
          <p:nvPr/>
        </p:nvPicPr>
        <p:blipFill>
          <a:blip r:embed="rId3"/>
          <a:stretch/>
        </p:blipFill>
        <p:spPr>
          <a:xfrm>
            <a:off x="1219320" y="2362320"/>
            <a:ext cx="2851200" cy="410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1000615369[1]"/>
          <p:cNvPicPr/>
          <p:nvPr/>
        </p:nvPicPr>
        <p:blipFill>
          <a:blip r:embed="rId4"/>
          <a:stretch/>
        </p:blipFill>
        <p:spPr>
          <a:xfrm>
            <a:off x="6338880" y="1295280"/>
            <a:ext cx="2435400" cy="36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Picture 8" descr="1000461260[1]"/>
          <p:cNvPicPr/>
          <p:nvPr/>
        </p:nvPicPr>
        <p:blipFill>
          <a:blip r:embed="rId5"/>
          <a:stretch/>
        </p:blipFill>
        <p:spPr>
          <a:xfrm>
            <a:off x="4775040" y="2362320"/>
            <a:ext cx="2849760" cy="406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cs5602.vk.me/u145608633/153109131/x_74f19b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214280" y="2857680"/>
            <a:ext cx="44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40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572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85520" y="1356840"/>
            <a:ext cx="8072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ть угостила меня …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чаем с мол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том и в город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я вставал р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сле чаю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я уходил на охо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ы хозяева нашей природы, и она для нас кладовая солнц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с великими сокровищами жи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-396720" y="189000"/>
            <a:ext cx="954072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Дунино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дом-музей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20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55640" y="1557360"/>
            <a:ext cx="3313080" cy="243216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89604" dir="2700000" blurRad="0" rotWithShape="0">
              <a:srgbClr val="ff9933"/>
            </a:outerShdw>
          </a:effectLst>
        </p:spPr>
      </p:pic>
      <p:pic>
        <p:nvPicPr>
          <p:cNvPr id="147" name="Picture 4" descr="7367"/>
          <p:cNvPicPr/>
          <p:nvPr/>
        </p:nvPicPr>
        <p:blipFill>
          <a:blip r:embed="rId2"/>
          <a:stretch/>
        </p:blipFill>
        <p:spPr>
          <a:xfrm>
            <a:off x="5580000" y="1557360"/>
            <a:ext cx="3168720" cy="23652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09184" dir="2128307" blurRad="0" rotWithShape="0">
              <a:srgbClr val="ff9933"/>
            </a:outerShdw>
          </a:effectLst>
        </p:spPr>
      </p:pic>
      <p:pic>
        <p:nvPicPr>
          <p:cNvPr id="148" name="Picture 5" descr="7370"/>
          <p:cNvPicPr/>
          <p:nvPr/>
        </p:nvPicPr>
        <p:blipFill>
          <a:blip r:embed="rId3"/>
          <a:stretch/>
        </p:blipFill>
        <p:spPr>
          <a:xfrm>
            <a:off x="3348000" y="4292640"/>
            <a:ext cx="3006720" cy="22446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99192" dir="2381944" blurRad="0" rotWithShape="0">
              <a:srgbClr val="ff99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44ru"/>
          <p:cNvPicPr/>
          <p:nvPr/>
        </p:nvPicPr>
        <p:blipFill>
          <a:blip r:embed="rId1"/>
          <a:stretch/>
        </p:blipFill>
        <p:spPr>
          <a:xfrm>
            <a:off x="4572000" y="333360"/>
            <a:ext cx="4321080" cy="623736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50" name="Text Box 3"/>
          <p:cNvSpPr/>
          <p:nvPr/>
        </p:nvSpPr>
        <p:spPr>
          <a:xfrm>
            <a:off x="4427640" y="189000"/>
            <a:ext cx="49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m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8360" y="549360"/>
            <a:ext cx="3687840" cy="576108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могила М. Пришвина, фото Двамала, вар 2006 г"/>
          <p:cNvPicPr/>
          <p:nvPr/>
        </p:nvPicPr>
        <p:blipFill>
          <a:blip r:embed="rId1"/>
          <a:stretch/>
        </p:blipFill>
        <p:spPr>
          <a:xfrm>
            <a:off x="4500720" y="765000"/>
            <a:ext cx="4394160" cy="561672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71785" dir="2700000" blurRad="0" rotWithShape="0">
              <a:srgbClr val="ff9933"/>
            </a:outerShdw>
          </a:effectLst>
        </p:spPr>
      </p:pic>
      <p:sp>
        <p:nvSpPr>
          <p:cNvPr id="153" name="Text Box 3"/>
          <p:cNvSpPr/>
          <p:nvPr/>
        </p:nvSpPr>
        <p:spPr>
          <a:xfrm>
            <a:off x="4140360" y="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ила М.М.Приш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4000" y="591192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ское кладбище 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79280" y="260280"/>
            <a:ext cx="417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дящая на уступе Птица-Сирин, таинственная птица счастья. Расправив крылья, запрокинув голову. Она поёт, сливаясь в песне с травами, цветами, животными, птицами – всем тем, что так любил в своей жизни Михаил Михайлович Приш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showpic"/>
          <p:cNvPicPr/>
          <p:nvPr/>
        </p:nvPicPr>
        <p:blipFill>
          <a:blip r:embed="rId1"/>
          <a:stretch/>
        </p:blipFill>
        <p:spPr>
          <a:xfrm>
            <a:off x="228600" y="1295280"/>
            <a:ext cx="2649600" cy="315144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57" name="Rectangle 3"/>
          <p:cNvSpPr/>
          <p:nvPr/>
        </p:nvSpPr>
        <p:spPr>
          <a:xfrm>
            <a:off x="2806560" y="-31680"/>
            <a:ext cx="6337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тари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жизнь бродил он по л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знал яз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 различал по голо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ый мне ста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он ведал на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осен и дуб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лаще ягода рас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де полно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мог так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ы полей и р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м о лесе 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т челов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. Цур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685800" y="0"/>
            <a:ext cx="95029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Михаил Михайлович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( 1873-195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33920" y="1557360"/>
            <a:ext cx="5230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Если бы природа могла чувствовать благодарность к человеку за то, что он проник в её жизнь и воспел её, то прежде всего эта благодарность выпала бы на долю Михаила Пришвин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онстантин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ауст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prishvin"/>
          <p:cNvPicPr/>
          <p:nvPr/>
        </p:nvPicPr>
        <p:blipFill>
          <a:blip r:embed="rId1"/>
          <a:stretch/>
        </p:blipFill>
        <p:spPr>
          <a:xfrm>
            <a:off x="272880" y="1600200"/>
            <a:ext cx="2988000" cy="38592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34955" dir="2472880" blurRad="0" rotWithShape="0">
              <a:srgbClr val="ff99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5796000" y="189000"/>
            <a:ext cx="3205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хаил</a:t>
            </a:r>
            <a:endParaRPr b="0" lang="en-US" sz="1800" spc="1" strike="noStrike">
              <a:ln w="1584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хайлович</a:t>
            </a:r>
            <a:endParaRPr b="0" lang="en-US" sz="1800" spc="1" strike="noStrike">
              <a:ln w="1584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вин</a:t>
            </a:r>
            <a:endParaRPr b="0" lang="en-US" sz="1800" spc="1" strike="noStrike">
              <a:ln w="1584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651640" y="3110400"/>
            <a:ext cx="34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3 января (4 февраля н.с.)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873 год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592680" y="25520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одился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643720" y="428976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имении Хрущеве Елецкого уезда Орловской губерни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prishvin"/>
          <p:cNvPicPr/>
          <p:nvPr/>
        </p:nvPicPr>
        <p:blipFill>
          <a:blip r:embed="rId1"/>
          <a:stretch/>
        </p:blipFill>
        <p:spPr>
          <a:xfrm>
            <a:off x="299880" y="243000"/>
            <a:ext cx="5040360" cy="61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179280" y="317880"/>
            <a:ext cx="41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«Село Хрущево представляло собой небольшую деревеньку с соломенными крышами и земляными полами. Рядом с деревней, разделенная невысоким валом, была усадьба помещика, рядом с усадьбой — церковь, рядом с церковью — Поповка, где жили священник, дьякон и псаломщ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rishvin2"/>
          <p:cNvPicPr/>
          <p:nvPr/>
        </p:nvPicPr>
        <p:blipFill>
          <a:blip r:embed="rId1"/>
          <a:stretch/>
        </p:blipFill>
        <p:spPr>
          <a:xfrm>
            <a:off x="4572000" y="316080"/>
            <a:ext cx="4103640" cy="57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5-4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5003640" y="1128600"/>
            <a:ext cx="392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ть М.М. Приш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ри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4932360" y="239040"/>
            <a:ext cx="421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тешеств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вать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ишви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будет очень много, он объездит почти всю страну и напишет о Дальнем Востоке, Средней Азии, Кавказе, Крыме так, словно в этих краях много лет прожил, но сердце его навсегда будет отдано Русскому Се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1pr"/>
          <p:cNvPicPr/>
          <p:nvPr/>
        </p:nvPicPr>
        <p:blipFill>
          <a:blip r:embed="rId1"/>
          <a:stretch/>
        </p:blipFill>
        <p:spPr>
          <a:xfrm>
            <a:off x="17928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1020600"/>
            <a:ext cx="37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идит Пришвин на пне, а кругом большой лес. В руках Пришвин держит записную книжечку. Сидит и слушает, что ему шепчет лес, а может быть, лес притих от уважения и внимания к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исател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торы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еще умнее и старше самого леса, все понимает и записывает в книже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6288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p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-0.112 L 0.25 0 L 0.125 0.112 L 0 0 Z">
                                      <p:cBhvr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RePack by Diakov</cp:lastModifiedBy>
  <dcterms:modified xsi:type="dcterms:W3CDTF">2016-10-02T11:31:5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