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D28-A609-4524-8E7E-E1C88097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749-6C68-4E35-ADA6-309BC19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CCA-F1C2-450E-B06D-94F510F5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CDF-2CFF-40C2-B496-13A5BEAA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2C0-F614-43E6-9176-D9CC40B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227-B224-4361-A359-1D32C16A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1EB-7C61-444C-A674-1F5EC3B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09A-6640-4A38-BCF1-09A1127C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184-D556-42E2-AD53-75C01FEF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73F-80FA-4276-B68D-5BF1EA3D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F24-EADF-4974-B342-F8F7B73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105-FF67-4551-A5C6-B1F6AFCB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C80E-2AC4-4F1D-B6AA-66ED66592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удожественная культура Древней Передней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97400" y="0"/>
            <a:ext cx="74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Изобразительное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6_01592-859.jpg"/>
          <p:cNvPicPr/>
          <p:nvPr/>
        </p:nvPicPr>
        <p:blipFill>
          <a:blip r:embed="rId1"/>
          <a:stretch/>
        </p:blipFill>
        <p:spPr>
          <a:xfrm>
            <a:off x="0" y="720720"/>
            <a:ext cx="5143680" cy="6137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76360" y="1714680"/>
            <a:ext cx="404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Штандар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из 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тыс. до н. 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оги создали человека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388520" y="214200"/>
            <a:ext cx="674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rial"/>
              </a:rPr>
              <a:t>Боги создали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Каппадокия.jpg"/>
          <p:cNvPicPr/>
          <p:nvPr/>
        </p:nvPicPr>
        <p:blipFill>
          <a:blip r:embed="rId1"/>
          <a:stretch/>
        </p:blipFill>
        <p:spPr>
          <a:xfrm>
            <a:off x="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894640" y="1000080"/>
            <a:ext cx="32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Каппадок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Поэзия Шумера.jpg"/>
          <p:cNvPicPr/>
          <p:nvPr/>
        </p:nvPicPr>
        <p:blipFill>
          <a:blip r:embed="rId1"/>
          <a:stretch/>
        </p:blipFill>
        <p:spPr>
          <a:xfrm>
            <a:off x="0" y="0"/>
            <a:ext cx="485784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945680" y="214308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Поэзия Шу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odorant_shumer.jpg"/>
          <p:cNvPicPr/>
          <p:nvPr/>
        </p:nvPicPr>
        <p:blipFill>
          <a:blip r:embed="rId1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448920" y="1071720"/>
            <a:ext cx="404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Сан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Ибих-И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тыс. до н. 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shamash.gif"/>
          <p:cNvPicPr/>
          <p:nvPr/>
        </p:nvPicPr>
        <p:blipFill>
          <a:blip r:embed="rId1"/>
          <a:stretch/>
        </p:blipFill>
        <p:spPr>
          <a:xfrm>
            <a:off x="0" y="0"/>
            <a:ext cx="5000760" cy="6869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5171760" y="1643040"/>
            <a:ext cx="394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Царь Хаммурап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StatuetteEnUruk_Amiet.jpg"/>
          <p:cNvPicPr/>
          <p:nvPr/>
        </p:nvPicPr>
        <p:blipFill>
          <a:blip r:embed="rId1"/>
          <a:stretch/>
        </p:blipFill>
        <p:spPr>
          <a:xfrm>
            <a:off x="0" y="0"/>
            <a:ext cx="509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sumer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lion s1.jpg"/>
          <p:cNvPicPr/>
          <p:nvPr/>
        </p:nvPicPr>
        <p:blipFill>
          <a:blip r:embed="rId1"/>
          <a:stretch/>
        </p:blipFill>
        <p:spPr>
          <a:xfrm>
            <a:off x="0" y="0"/>
            <a:ext cx="5745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6071760" y="28584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ох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no21__74.jpg"/>
          <p:cNvPicPr/>
          <p:nvPr/>
        </p:nvPicPr>
        <p:blipFill>
          <a:blip r:embed="rId1"/>
          <a:stretch/>
        </p:blipFill>
        <p:spPr>
          <a:xfrm>
            <a:off x="0" y="-6480"/>
            <a:ext cx="5500800" cy="6864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5471640" y="214200"/>
            <a:ext cx="36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ова бог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штар из Ур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с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Месопота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7" descr="map04.jpg"/>
          <p:cNvPicPr/>
          <p:nvPr/>
        </p:nvPicPr>
        <p:blipFill>
          <a:blip r:embed="rId1"/>
          <a:stretch/>
        </p:blipFill>
        <p:spPr>
          <a:xfrm>
            <a:off x="285840" y="1643040"/>
            <a:ext cx="6019560" cy="485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643440" y="2499840"/>
            <a:ext cx="25002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елетия до нашей э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211160" y="4572000"/>
            <a:ext cx="192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Шу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Акк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43.jpg"/>
          <p:cNvPicPr/>
          <p:nvPr/>
        </p:nvPicPr>
        <p:blipFill>
          <a:blip r:embed="rId1"/>
          <a:stretch/>
        </p:blipFill>
        <p:spPr>
          <a:xfrm>
            <a:off x="0" y="0"/>
            <a:ext cx="35179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727800" y="500040"/>
            <a:ext cx="52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Стела царя Нарамс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XIII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 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2004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46796788_1248681320_12_Kinzhal_shumerov.jpg"/>
          <p:cNvPicPr/>
          <p:nvPr/>
        </p:nvPicPr>
        <p:blipFill>
          <a:blip r:embed="rId1"/>
          <a:stretch/>
        </p:blipFill>
        <p:spPr>
          <a:xfrm>
            <a:off x="0" y="857160"/>
            <a:ext cx="9080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022480" y="1428840"/>
            <a:ext cx="459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rial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2600-2400 г до н э_or.jpg"/>
          <p:cNvPicPr/>
          <p:nvPr/>
        </p:nvPicPr>
        <p:blipFill>
          <a:blip r:embed="rId1"/>
          <a:stretch/>
        </p:blipFill>
        <p:spPr>
          <a:xfrm>
            <a:off x="1714680" y="1076400"/>
            <a:ext cx="5667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kamen.jpg"/>
          <p:cNvPicPr/>
          <p:nvPr/>
        </p:nvPicPr>
        <p:blipFill>
          <a:blip r:embed="rId1"/>
          <a:stretch/>
        </p:blipFill>
        <p:spPr>
          <a:xfrm>
            <a:off x="428760" y="-15840"/>
            <a:ext cx="82152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st25_01.gif"/>
          <p:cNvPicPr/>
          <p:nvPr/>
        </p:nvPicPr>
        <p:blipFill>
          <a:blip r:embed="rId1"/>
          <a:stretch/>
        </p:blipFill>
        <p:spPr>
          <a:xfrm>
            <a:off x="2236680" y="0"/>
            <a:ext cx="46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446560" y="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rial"/>
              </a:rPr>
              <a:t>Архитек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ur_05.jpg"/>
          <p:cNvPicPr/>
          <p:nvPr/>
        </p:nvPicPr>
        <p:blipFill>
          <a:blip r:embed="rId1"/>
          <a:stretch/>
        </p:blipFill>
        <p:spPr>
          <a:xfrm>
            <a:off x="88920" y="928800"/>
            <a:ext cx="8983800" cy="5929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581520" y="5857920"/>
            <a:ext cx="22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анду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zikkurat_v_ure.jpg"/>
          <p:cNvPicPr/>
          <p:nvPr/>
        </p:nvPicPr>
        <p:blipFill>
          <a:blip r:embed="rId1"/>
          <a:stretch/>
        </p:blipFill>
        <p:spPr>
          <a:xfrm>
            <a:off x="0" y="0"/>
            <a:ext cx="9693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47080" y="0"/>
            <a:ext cx="82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Зиккурат в городе Уре (</a:t>
            </a: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XXI</a:t>
            </a: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 в.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babylon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babylon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360080" y="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rial"/>
              </a:rPr>
              <a:t>Ворота богини Иштар (4 век до н. 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32:48Z</dcterms:created>
  <dc:creator>Анастасия</dc:creator>
  <dc:description/>
  <dc:language>en-US</dc:language>
  <cp:lastModifiedBy>Owner</cp:lastModifiedBy>
  <dcterms:modified xsi:type="dcterms:W3CDTF">2011-07-10T21:25:51Z</dcterms:modified>
  <cp:revision>7</cp:revision>
  <dc:subject/>
  <dc:title>Художественная культура Древней Передней Азии</dc:title>
</cp:coreProperties>
</file>