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9DE9-2B32-4592-A422-3B0F594A1D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78D3-83D5-46D4-B7A8-20D91FE0A3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FA14-07C4-419F-8069-D37EC7B055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1ECC-EFCE-4F59-A118-E861DC1C4A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9295-9F4B-4013-9417-211558E0B5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0886-A788-4BBE-8526-F14CB235C9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B9FA-DEB6-46D8-B63D-8B7D2B4BFB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A79A-311D-45E6-92B7-C8DCD67B10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2000-6578-4B3A-9622-B673DA1C72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0B52-6487-4344-958E-C2F231E7DF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F593-B10C-4D4A-9B77-9070829CC6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1EB-6C41-4398-BE71-43D78529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A7A-4D07-4A87-9D02-8C94BA8F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CB7-2D37-4437-BEB2-2D4FA8B2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799-AE97-4609-AFE4-AAF8A364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F03-E013-4EF1-BB8E-2F797FEF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AED-5DFD-40DA-AEF2-F69EFC70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1DF-BE0C-4602-A915-9C291F2F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880-ED65-4167-B228-5B0DBC14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364-BEFC-40A2-AD66-6FBF3E70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520-252E-476F-B467-80F29319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AC3-3BDE-44A3-AD28-6C3DBDCF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4DC-DB82-4847-AA56-B5551032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0B0D-50A0-44E1-9530-29ED353AB40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68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льтура Древней Инд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63880"/>
            <a:ext cx="6400800" cy="17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C:\Documents and Settings\Maria\Мои документы\Культурология\Репродукции\Индийская культура\Один из 3 алтарей храма кришны.jpg"/>
          <p:cNvPicPr/>
          <p:nvPr/>
        </p:nvPicPr>
        <p:blipFill>
          <a:blip r:embed="rId1"/>
          <a:stretch/>
        </p:blipFill>
        <p:spPr>
          <a:xfrm>
            <a:off x="1571760" y="1917720"/>
            <a:ext cx="6059520" cy="455436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евнеиндийское искус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Maria\Мои документы\Культурология\Репродукции\Индийская культура\Древняя фреска пещер Аджанта Гупты.jpg"/>
          <p:cNvPicPr/>
          <p:nvPr/>
        </p:nvPicPr>
        <p:blipFill>
          <a:blip r:embed="rId1"/>
          <a:stretch/>
        </p:blipFill>
        <p:spPr>
          <a:xfrm>
            <a:off x="4143240" y="1071720"/>
            <a:ext cx="438336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Maria\Мои документы\Культурология\Репродукции\Индийская культура\будды.jpg"/>
          <p:cNvPicPr/>
          <p:nvPr/>
        </p:nvPicPr>
        <p:blipFill>
          <a:blip r:embed="rId2"/>
          <a:stretch/>
        </p:blipFill>
        <p:spPr>
          <a:xfrm>
            <a:off x="357120" y="1071720"/>
            <a:ext cx="3583080" cy="47145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928800" y="5929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уя Буд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4429080" y="57150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вняя фреска из Храма Аджанты ( при Гупт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ультура Древней Инд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уществовала примерно с середины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ыс. до н. э. и до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. н. э. Современное название "Индия" появилось лишь в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еке. В прошлом она была известна как "страна ариев", "страна брахманов", "страна мудрецов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643040"/>
            <a:ext cx="8715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и Индийской куль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гатство и многообразие религиозно-философских уч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щенность  к Вселенной (в тайны мироздания) и внутрь человеческого мира ( философия и йог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ивительная музыкальность и танцева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обое почитание любви — чувственной и физичес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214200" y="414324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2e"/>
                </a:solidFill>
                <a:latin typeface="Verdana"/>
                <a:ea typeface="Times New Roman"/>
              </a:rPr>
              <a:t>Периоды истории Древней Инд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Хараппская цивил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долине реки Инд (III тыс. -XVII в. до н. 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рийско—ведическая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иход и расселение арийских племен в долинах рек Инд и Ганг XIII—VI вв. до н. 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настия Маурьв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V—III вв. до н. э.)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Гуптов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II в. до н. э.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-285840"/>
            <a:ext cx="850104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Хараппская цивилизац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III тыс. -XVII в. до н. э)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нтры в городах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арапп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временный  Пакиста  и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охенджо-Даро  ("Холм мертвых"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, в которых  проживало от 35 до 100 тыс. человек. Там были найдены едва ли не первые общественные туалеты., водосточная система и канализация. В Европе такие города появились только в Средние века. В основе хозяйства - ирригационное земледелие. Письменность до сих пор не расшифрова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из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торс танцующего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жчины (10 см) из Харапп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Хараппская   культура  и  цивилизация  постепенно  пришли   в упадок, вызванный климатическими изменениями, разливами рек и особенно эпидеми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 flipV="1" rot="10800000">
            <a:off x="1357200" y="6214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копки  Мохенджо-Да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6429240" y="29289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юст жреца (18 см) из Мохенджо-Да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C:\Documents and Settings\Maria\Мои документы\Культурология\Репродукции\Индийская культура\Мохенджо-Даро раскоп.jpg"/>
          <p:cNvPicPr/>
          <p:nvPr/>
        </p:nvPicPr>
        <p:blipFill>
          <a:blip r:embed="rId1"/>
          <a:stretch/>
        </p:blipFill>
        <p:spPr>
          <a:xfrm>
            <a:off x="357120" y="2143080"/>
            <a:ext cx="6043680" cy="385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Documents and Settings\Maria\Мои документы\Культурология\Репродукции\Индийская культура\статуэтка жреца из Мохенджо-Даро.jpg"/>
          <p:cNvPicPr/>
          <p:nvPr/>
        </p:nvPicPr>
        <p:blipFill>
          <a:blip r:embed="rId2"/>
          <a:stretch/>
        </p:blipFill>
        <p:spPr>
          <a:xfrm>
            <a:off x="6500880" y="3571920"/>
            <a:ext cx="23461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ндоарийский пери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XIII—VI вв. до н. э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риходом ариев- кочевников, ставшими земледельцами и скотоводами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д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главный источник сведений о их жизне, они были написаны 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скри́т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древний литературный язык Индии), уступающий по древности только  хеттскому из Месопотами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213920"/>
            <a:ext cx="85010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жную роль в жизни индийцев играют кас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асчитываемых более двух тысяч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с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ложились на основе четырех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ар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ахманы (жрецы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шатрии (воины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йшьи (земледельцы, ремесленники, торговцы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удры (рабы и военнопленны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религия Индии - ведизм 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лигия Вед. Для него характерно многобожие и наделение человеческими качествами животных, предметов (антропоморфнос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225720" y="6286680"/>
            <a:ext cx="26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ра- бог грозы, во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3868920" y="592920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рья- бог солн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6643800" y="62866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гни – бог ог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C:\Documents and Settings\Maria\Мои документы\Культурология\Репродукции\Индийская культура\Индра- Бог воитель.jpg"/>
          <p:cNvPicPr/>
          <p:nvPr/>
        </p:nvPicPr>
        <p:blipFill>
          <a:blip r:embed="rId1"/>
          <a:stretch/>
        </p:blipFill>
        <p:spPr>
          <a:xfrm>
            <a:off x="357120" y="3714840"/>
            <a:ext cx="2502000" cy="247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C:\Documents and Settings\Maria\Мои документы\Культурология\Репродукции\Индийская культура\Сурья- солнце.jpg"/>
          <p:cNvPicPr/>
          <p:nvPr/>
        </p:nvPicPr>
        <p:blipFill>
          <a:blip r:embed="rId2"/>
          <a:stretch/>
        </p:blipFill>
        <p:spPr>
          <a:xfrm>
            <a:off x="3214800" y="3786120"/>
            <a:ext cx="302868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C:\Documents and Settings\Maria\Мои документы\Культурология\Репродукции\Индийская культура\агни бог огня.jpg"/>
          <p:cNvPicPr/>
          <p:nvPr/>
        </p:nvPicPr>
        <p:blipFill>
          <a:blip r:embed="rId3"/>
          <a:stretch/>
        </p:blipFill>
        <p:spPr>
          <a:xfrm>
            <a:off x="6572160" y="3714840"/>
            <a:ext cx="1728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лиг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рахманиз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уетс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ыс. до н. э. Это более стройное учение о мире, множество богов сведено к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оиц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степенно брахманизм переходи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 индуизм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торая является самой распространенной в Индии религ­ей, охватывая более 80% верующих.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ндуизм существует в виде направлений: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ишнуизма, шиваизма, кришнаизма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индуизм включены многие культы через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нцепцию аватары (воплощений) Вишны. То е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ишна нисходит в мир, перевоплощаясь в различные образы (принимает облики Рамы, Кришны и Будды).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"Бхагаватгита"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щенное писание индуизма. Основу индуизма составляет учение о вечном переселении душ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сансара)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сходящем в соответствии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коном воздаяния (карма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се содеянное в жизни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358200" y="60721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ах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зд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3071880" y="564372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12 аватар - хранитель мироз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6292080" y="60008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уш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:\Documents and Settings\Maria\Мои документы\Культурология\Репродукции\Индийская культура\Брахма - создатель.jpg"/>
          <p:cNvPicPr/>
          <p:nvPr/>
        </p:nvPicPr>
        <p:blipFill>
          <a:blip r:embed="rId1"/>
          <a:stretch/>
        </p:blipFill>
        <p:spPr>
          <a:xfrm>
            <a:off x="285840" y="3143160"/>
            <a:ext cx="2344680" cy="2865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Maria\Мои документы\Культурология\Репродукции\Индийская культура\Вишну- и 12 аватар хранитель мироздания.jpg"/>
          <p:cNvPicPr/>
          <p:nvPr/>
        </p:nvPicPr>
        <p:blipFill>
          <a:blip r:embed="rId2"/>
          <a:stretch/>
        </p:blipFill>
        <p:spPr>
          <a:xfrm>
            <a:off x="3000240" y="2928960"/>
            <a:ext cx="3167280" cy="2660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C:\Documents and Settings\Maria\Мои документы\Культурология\Репродукции\Индийская культура\Шива- разрушителдь.jpg"/>
          <p:cNvPicPr/>
          <p:nvPr/>
        </p:nvPicPr>
        <p:blipFill>
          <a:blip r:embed="rId3"/>
          <a:stretch/>
        </p:blipFill>
        <p:spPr>
          <a:xfrm>
            <a:off x="6429240" y="2857680"/>
            <a:ext cx="223524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7232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мперия Маурье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(V—III вв. до н. э.) возвысилась после  походов  Александра Македонского , достигла расцвета при императоре Ашоке, который подчинил огромную территорию и распространил буддиз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мперия Гуп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(II в. до н. э. — VI век) объединила большую часть Индии, это был период процветания литературы, науки  и брахманизма, хотя и к буддизму они не относились враждеб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5840" y="2356920"/>
            <a:ext cx="85723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Индии появляетс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буддиз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еке до н. э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создатель- Сидцхартха Гаутама, который в 40 лет достиг состояния просветления (нирваны) и получил им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удд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росветленный).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. до н. э. буддизм достиг наибольшего распространения, вытеснив брахманизм, но в начал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н. э. он растворяется в индуизме. Сегодня буддизм распространен в Китае, Японии и других стран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у буддизма составляе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чение о «четырех благородных истинах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ь к спасению лежит через отказ от мирских соблазнов, через самосовершенств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шее состоя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ирвана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эт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граничное состояние между жизнью   и   смертью,   означающее   полную   отрешенность   от внешнего   мира,   отсутствие   всяких   желаний,   совершенную удовлетворенность, внутреннее просветл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7152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ддиз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ещает спасение верующим любой варны или касты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жайниз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религия, проповедующая непричинение зла всему живому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кхизм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стоятельная религия 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а, выступает против иерархии варн и каст, за равенство всех верующих перед Бог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200" y="149976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клонение многим животным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идетельствует о сохранении фетишизма и тотемизма. Так, в число священных входят: коровы и быки из породы зебу, обезьяны ,кобры. Им возводятся великолепные храмы, о них складываются легенды и пишутся сказ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ревней Индии успешно развивалас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ука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атематик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о известно значение числа "пи", они создали десятичную систему исчисления с использованием нуля, термины "цифра", "синус", "корень«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строном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казали догадку о вращении Земли вокруг своей оси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едик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ли науку о долголетии (аюрведу). Индийские хирурги делали 300 видов операций, используя около 120 хирургических инструме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ого уровня достигл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удожественная культура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особое место  заним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итература.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знаменитые произведения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д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до н. э.)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ахабхарат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 рассказ споре за власть между братьями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«Рамаян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писание подвигов и приключений царя Рамы в поисках похищенной любимой — Ситы.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до н. э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  древнеиндийско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архитектур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ет  некоторые особенности.   Памятники   существовавшие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а до н. э., не сохранились до наших дней, так как строительным материалом служило дерево. 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е до   н. э.  в   строительстве используют каме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C:\Documents and Settings\Maria\Мои документы\Культурология\Репродукции\Индийская культура\Большая ступа №1 3 вдо нэ.jpg"/>
          <p:cNvPicPr/>
          <p:nvPr/>
        </p:nvPicPr>
        <p:blipFill>
          <a:blip r:embed="rId1"/>
          <a:stretch/>
        </p:blipFill>
        <p:spPr>
          <a:xfrm>
            <a:off x="214200" y="1357200"/>
            <a:ext cx="427536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Documents and Settings\Maria\Мои документы\Культурология\Репродукции\Индийская культура\буддийский храм в аджанте.jpg"/>
          <p:cNvPicPr/>
          <p:nvPr/>
        </p:nvPicPr>
        <p:blipFill>
          <a:blip r:embed="rId2"/>
          <a:stretch/>
        </p:blipFill>
        <p:spPr>
          <a:xfrm>
            <a:off x="4572000" y="3500280"/>
            <a:ext cx="4514760" cy="30006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8"/>
          <p:cNvSpPr/>
          <p:nvPr/>
        </p:nvSpPr>
        <p:spPr>
          <a:xfrm>
            <a:off x="428760" y="428616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ступа №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хранятся реликвии Буд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5286240" y="23572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щерный храм в Аджанте (империя Гуп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евнеиндийское искус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Maria\Мои документы\Культурология\Репродукции\Индийская культура\Храм Шивы.jpg"/>
          <p:cNvPicPr/>
          <p:nvPr/>
        </p:nvPicPr>
        <p:blipFill>
          <a:blip r:embed="rId1"/>
          <a:stretch/>
        </p:blipFill>
        <p:spPr>
          <a:xfrm>
            <a:off x="571680" y="928800"/>
            <a:ext cx="3375000" cy="511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Maria\Мои документы\Культурология\Репродукции\Индийская культура\Золотая стамбха зол 500 кг.jpg"/>
          <p:cNvPicPr/>
          <p:nvPr/>
        </p:nvPicPr>
        <p:blipFill>
          <a:blip r:embed="rId2"/>
          <a:stretch/>
        </p:blipFill>
        <p:spPr>
          <a:xfrm>
            <a:off x="4786200" y="928800"/>
            <a:ext cx="3197160" cy="47149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1510200" y="60721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м Ш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429080" y="571500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лотая стамбха – башня со священным животным (500 кг золо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6-02T19:58:26Z</dcterms:modified>
  <cp:revision>30</cp:revision>
  <dc:subject/>
  <dc:title>Слайд 1</dc:title>
</cp:coreProperties>
</file>