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8AA7-5FFC-435F-93C3-E49AB22292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11D4-7B53-499C-B78F-E3F4094763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35AB-339F-441E-8CE9-7CFDB72FA0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19D3-F852-417F-BB5B-B407C51944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03FB-B672-4D7F-91C5-38578C2CD3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71AB-7BD5-4E3B-917C-6CFE961E4C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0172-CF7B-4BA9-9EB7-0D7EBF31B8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4BFC-C9CA-4D4E-8DFB-1FBC336973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DCC9-58CD-4981-971F-D31EC6FC82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A0A4-C9C3-485D-A7A9-2A2A178159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EB69-C1B5-41F1-A1F3-F421D691D5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5E1-4F87-4FB6-B9E0-620C1C58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0ED-ABCE-48A8-88E9-F1D16EF4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D98-6486-44DD-B6B7-969FC5F4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E976-6765-4A40-846A-14A85B8D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758-2560-49BB-B594-38D2D3DD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EBEA-6008-4A19-B820-92E9B783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C9B-B220-48C5-A94A-DEA62672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2A7-F5D5-44BA-B09F-CF367798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C1E-4C45-4E02-A673-81B5E643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124D-878B-4AB1-9E2B-3FFD98DD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9E5-E573-4810-AAA0-2A4B8079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B6A9-1970-4710-BB1E-3C48CBF3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6EEC-7AA1-4037-A87E-DC1DD913E95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968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ультура Древней Инд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63880"/>
            <a:ext cx="6400800" cy="17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4" descr="C:\Documents and Settings\Maria\Мои документы\Культурология\Репродукции\Индийская культура\Один из 3 алтарей храма кришны.jpg"/>
          <p:cNvPicPr/>
          <p:nvPr/>
        </p:nvPicPr>
        <p:blipFill>
          <a:blip r:embed="rId1"/>
          <a:stretch/>
        </p:blipFill>
        <p:spPr>
          <a:xfrm>
            <a:off x="1571760" y="1917720"/>
            <a:ext cx="6059520" cy="4554360"/>
          </a:xfrm>
          <a:prstGeom prst="rect">
            <a:avLst/>
          </a:prstGeom>
          <a:ln w="0">
            <a:noFill/>
          </a:ln>
        </p:spPr>
      </p:pic>
      <p:sp>
        <p:nvSpPr>
          <p:cNvPr id="51" name="Скругленный прямоугольник 4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ревнеиндийское искус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Documents and Settings\Maria\Мои документы\Культурология\Репродукции\Индийская культура\Древняя фреска пещер Аджанта Гупты.jpg"/>
          <p:cNvPicPr/>
          <p:nvPr/>
        </p:nvPicPr>
        <p:blipFill>
          <a:blip r:embed="rId1"/>
          <a:stretch/>
        </p:blipFill>
        <p:spPr>
          <a:xfrm>
            <a:off x="4143240" y="1071720"/>
            <a:ext cx="438336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cuments and Settings\Maria\Мои документы\Культурология\Репродукции\Индийская культура\будды.jpg"/>
          <p:cNvPicPr/>
          <p:nvPr/>
        </p:nvPicPr>
        <p:blipFill>
          <a:blip r:embed="rId2"/>
          <a:stretch/>
        </p:blipFill>
        <p:spPr>
          <a:xfrm>
            <a:off x="357120" y="1071720"/>
            <a:ext cx="3583080" cy="47145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928800" y="59292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уя Буд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4429080" y="571500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вняя фреска из Храма Аджанты ( при Гупт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15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ультура Древней Инди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существовала примерно с середины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тыс. до н. э. и до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. н. э. Современное название "Индия" появилось лишь в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еке. В прошлом она была известна как "страна ариев", "страна брахманов", "страна мудрецов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4200" y="1643040"/>
            <a:ext cx="8715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собенности Индийской культур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гатство и многообразие религиозно-философских уче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щенность  к Вселенной (в тайны мироздания) и внутрь человеческого мира ( философия и йог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ивительная музыкальность и танцевальн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обое почитание любви — чувственной и физическ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214200" y="4143240"/>
            <a:ext cx="87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2e2e"/>
                </a:solidFill>
                <a:latin typeface="Verdana"/>
                <a:ea typeface="Times New Roman"/>
              </a:rPr>
              <a:t>Периоды истории Древней Инд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Хараппская цивилизац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долине реки Инд (III тыс. -XVII в. до н. 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арийско—ведическая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иход и расселение арийских племен в долинах рек Инд и Ганг XIII—VI вв. до н. 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настия Маурьв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V—III вв. до н. э.)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Гуптов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II в. до н. э.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7120" y="-285840"/>
            <a:ext cx="850104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Хараппская цивилизац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(III тыс. -XVII в. до н. э)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нтры в городах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Хараппа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временный  Пакиста  и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охенджо-Даро  ("Холм мертвых"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, в которых  проживало от 35 до 100 тыс. человек. Там были найдены едва ли не первые общественные туалеты., водосточная система и канализация. В Европе такие города появились только в Средние века. В основе хозяйства - ирригационное земледелие. Письменность до сих пор не расшифрован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из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торс танцующего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ужчины (10 см) из Харапп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Хараппская   культура  и  цивилизация  постепенно  пришли   в упадок, вызванный климатическими изменениями, разливами рек и особенно эпидемия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5"/>
          <p:cNvSpPr/>
          <p:nvPr/>
        </p:nvSpPr>
        <p:spPr>
          <a:xfrm flipV="1" rot="10800000">
            <a:off x="1357200" y="6214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копки  Мохенджо-Дар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6429240" y="292896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юст жреца (18 см) из Мохенджо-Да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C:\Documents and Settings\Maria\Мои документы\Культурология\Репродукции\Индийская культура\Мохенджо-Даро раскоп.jpg"/>
          <p:cNvPicPr/>
          <p:nvPr/>
        </p:nvPicPr>
        <p:blipFill>
          <a:blip r:embed="rId1"/>
          <a:stretch/>
        </p:blipFill>
        <p:spPr>
          <a:xfrm>
            <a:off x="357120" y="2143080"/>
            <a:ext cx="6043680" cy="385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C:\Documents and Settings\Maria\Мои документы\Культурология\Репродукции\Индийская культура\статуэтка жреца из Мохенджо-Даро.jpg"/>
          <p:cNvPicPr/>
          <p:nvPr/>
        </p:nvPicPr>
        <p:blipFill>
          <a:blip r:embed="rId2"/>
          <a:stretch/>
        </p:blipFill>
        <p:spPr>
          <a:xfrm>
            <a:off x="6500880" y="3571920"/>
            <a:ext cx="23461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5726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Индоарийский перио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XIII—VI вв. до н. э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приходом ариев- кочевников, ставшими земледельцами и скотоводами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д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главный источник сведений о их жизне, они были написаны н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нскри́т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(древний литературный язык Индии), уступающий по древности только  хеттскому из Месопотамии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7120" y="1213920"/>
            <a:ext cx="85010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жную роль в жизни индийцев играют кас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насчитываемых более двух тысяч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с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ложились на основе четырех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арн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рахманы (жрецы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шатрии (воины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йшьи (земледельцы, ремесленники, торговцы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шудры (рабы и военнопленные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ая религия Индии - ведизм —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лигия Вед. Для него характерно многобожие и наделение человеческими качествами животных, предметов (антропоморфность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225720" y="6286680"/>
            <a:ext cx="26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дра- бог грозы, во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3868920" y="5929200"/>
            <a:ext cx="19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рья- бог солн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6643800" y="62866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гни – бог ог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C:\Documents and Settings\Maria\Мои документы\Культурология\Репродукции\Индийская культура\Индра- Бог воитель.jpg"/>
          <p:cNvPicPr/>
          <p:nvPr/>
        </p:nvPicPr>
        <p:blipFill>
          <a:blip r:embed="rId1"/>
          <a:stretch/>
        </p:blipFill>
        <p:spPr>
          <a:xfrm>
            <a:off x="357120" y="3714840"/>
            <a:ext cx="2502000" cy="247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C:\Documents and Settings\Maria\Мои документы\Культурология\Репродукции\Индийская культура\Сурья- солнце.jpg"/>
          <p:cNvPicPr/>
          <p:nvPr/>
        </p:nvPicPr>
        <p:blipFill>
          <a:blip r:embed="rId2"/>
          <a:stretch/>
        </p:blipFill>
        <p:spPr>
          <a:xfrm>
            <a:off x="3214800" y="3786120"/>
            <a:ext cx="3028680" cy="2019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C:\Documents and Settings\Maria\Мои документы\Культурология\Репродукции\Индийская культура\агни бог огня.jpg"/>
          <p:cNvPicPr/>
          <p:nvPr/>
        </p:nvPicPr>
        <p:blipFill>
          <a:blip r:embed="rId3"/>
          <a:stretch/>
        </p:blipFill>
        <p:spPr>
          <a:xfrm>
            <a:off x="6572160" y="3714840"/>
            <a:ext cx="17287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8688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лиг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Брахманизм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уетс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тыс. до н. э. Это более стройное учение о мире, множество богов сведено к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роице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степенно брахманизм переходи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в индуизм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торая является самой распространенной в Индии религ­ей, охватывая более 80% верующих.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ндуизм существует в виде направлений: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ишнуизма, шиваизма, кришнаизма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индуизм включены многие культы через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нцепцию аватары (воплощений) Вишны. То ес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ишна нисходит в мир, перевоплощаясь в различные образы (принимает облики Рамы, Кришны и Будды).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"Бхагаватгита"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ященное писание индуизма. Основу индуизма составляет учение о вечном переселении душ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(сансара)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сходящем в соответствии с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коном воздаяния (карма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все содеянное в жизни.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7"/>
          <p:cNvSpPr/>
          <p:nvPr/>
        </p:nvSpPr>
        <p:spPr>
          <a:xfrm>
            <a:off x="358200" y="607212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ахм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зд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8"/>
          <p:cNvSpPr/>
          <p:nvPr/>
        </p:nvSpPr>
        <p:spPr>
          <a:xfrm>
            <a:off x="3071880" y="564372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шн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12 аватар - хранитель мирозд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6292080" y="600084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в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уш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C:\Documents and Settings\Maria\Мои документы\Культурология\Репродукции\Индийская культура\Брахма - создатель.jpg"/>
          <p:cNvPicPr/>
          <p:nvPr/>
        </p:nvPicPr>
        <p:blipFill>
          <a:blip r:embed="rId1"/>
          <a:stretch/>
        </p:blipFill>
        <p:spPr>
          <a:xfrm>
            <a:off x="285840" y="3143160"/>
            <a:ext cx="2344680" cy="2865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C:\Documents and Settings\Maria\Мои документы\Культурология\Репродукции\Индийская культура\Вишну- и 12 аватар хранитель мироздания.jpg"/>
          <p:cNvPicPr/>
          <p:nvPr/>
        </p:nvPicPr>
        <p:blipFill>
          <a:blip r:embed="rId2"/>
          <a:stretch/>
        </p:blipFill>
        <p:spPr>
          <a:xfrm>
            <a:off x="3000240" y="2928960"/>
            <a:ext cx="3167280" cy="2660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C:\Documents and Settings\Maria\Мои документы\Культурология\Репродукции\Индийская культура\Шива- разрушителдь.jpg"/>
          <p:cNvPicPr/>
          <p:nvPr/>
        </p:nvPicPr>
        <p:blipFill>
          <a:blip r:embed="rId3"/>
          <a:stretch/>
        </p:blipFill>
        <p:spPr>
          <a:xfrm>
            <a:off x="6429240" y="2857680"/>
            <a:ext cx="223524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57232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мперия Маурье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(V—III вв. до н. э.) возвысилась после  походов  Александра Македонского , достигла расцвета при императоре Ашоке, который подчинил огромную территорию и распространил буддиз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мперия Гуп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(II в. до н. э. — VI век) объединила большую часть Индии, это был период процветания литературы, науки  и брахманизма, хотя и к буддизму они не относились враждебн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85840" y="2356920"/>
            <a:ext cx="85723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Индии появляетс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буддиз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еке до н. э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о создатель- Сидцхартха Гаутама, который в 40 лет достиг состояния просветления (нирваны) и получил им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Будд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просветленный). 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. до н. э. буддизм достиг наибольшего распространения, вытеснив брахманизм, но в начал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ыс. н. э. он растворяется в индуизме. Сегодня буддизм распространен в Китае, Японии и других стран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у буддизма составляет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учение о «четырех благородных истинах»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ть к спасению лежит через отказ от мирских соблазнов, через самосовершенство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шее состояни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ирвана-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эт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граничное состояние между жизнью   и   смертью,   означающее   полную   отрешенность   от внешнего   мира,   отсутствие   всяких   желаний,   совершенную удовлетворенность, внутреннее просветле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87152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уддиз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бещает спасение верующим любой варны или касты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Джайниз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религия, проповедующая непричинение зла всему живому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кхизм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стоятельная религия с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ека, выступает против иерархии варн и каст, за равенство всех верующих перед Бог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4200" y="149976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клонение многим животным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идетельствует о сохранении фетишизма и тотемизма. Так, в число священных входят: коровы и быки из породы зебу, обезьяны ,кобры. Им возводятся великолепные храмы, о них складываются легенды и пишутся сказ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ревней Индии успешно развивалас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ука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атематика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ыло известно значение числа "пи", они создали десятичную систему исчисления с использованием нуля, термины "цифра", "синус", "корень«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строном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казали догадку о вращении Земли вокруг своей оси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едик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ли науку о долголетии (аюрведу). Индийские хирурги делали 300 видов операций, используя около 120 хирургических инструмен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окого уровня достигл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удожественная культура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де особое место  занимае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литература.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знаменитые произведения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д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ыс. до н. э.)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Махабхарата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 рассказ споре за власть между братьями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«Рамаяна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писание подвигов и приключений царя Рамы в поисках похищенной любимой — Ситы.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ыс. до н. э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  древнеиндийско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архитектур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ет  некоторые особенности.   Памятники   существовавшие 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ека до н. э., не сохранились до наших дней, так как строительным материалом служило дерево. С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еке до   н. э.  в   строительстве используют каме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C:\Documents and Settings\Maria\Мои документы\Культурология\Репродукции\Индийская культура\Большая ступа №1 3 вдо нэ.jpg"/>
          <p:cNvPicPr/>
          <p:nvPr/>
        </p:nvPicPr>
        <p:blipFill>
          <a:blip r:embed="rId1"/>
          <a:stretch/>
        </p:blipFill>
        <p:spPr>
          <a:xfrm>
            <a:off x="214200" y="1357200"/>
            <a:ext cx="4275360" cy="2857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C:\Documents and Settings\Maria\Мои документы\Культурология\Репродукции\Индийская культура\буддийский храм в аджанте.jpg"/>
          <p:cNvPicPr/>
          <p:nvPr/>
        </p:nvPicPr>
        <p:blipFill>
          <a:blip r:embed="rId2"/>
          <a:stretch/>
        </p:blipFill>
        <p:spPr>
          <a:xfrm>
            <a:off x="4572000" y="3500280"/>
            <a:ext cx="4514760" cy="30006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8"/>
          <p:cNvSpPr/>
          <p:nvPr/>
        </p:nvSpPr>
        <p:spPr>
          <a:xfrm>
            <a:off x="428760" y="4286160"/>
            <a:ext cx="38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ая ступа №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хранятся реликвии Буд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9"/>
          <p:cNvSpPr/>
          <p:nvPr/>
        </p:nvSpPr>
        <p:spPr>
          <a:xfrm>
            <a:off x="5286240" y="2357280"/>
            <a:ext cx="31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щерный храм в Аджанте (империя Гуп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ревнеиндийское искус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Maria\Мои документы\Культурология\Репродукции\Индийская культура\Храм Шивы.jpg"/>
          <p:cNvPicPr/>
          <p:nvPr/>
        </p:nvPicPr>
        <p:blipFill>
          <a:blip r:embed="rId1"/>
          <a:stretch/>
        </p:blipFill>
        <p:spPr>
          <a:xfrm>
            <a:off x="571680" y="928800"/>
            <a:ext cx="3375000" cy="511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Maria\Мои документы\Культурология\Репродукции\Индийская культура\Золотая стамбха зол 500 кг.jpg"/>
          <p:cNvPicPr/>
          <p:nvPr/>
        </p:nvPicPr>
        <p:blipFill>
          <a:blip r:embed="rId2"/>
          <a:stretch/>
        </p:blipFill>
        <p:spPr>
          <a:xfrm>
            <a:off x="4786200" y="928800"/>
            <a:ext cx="3197160" cy="47149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1510200" y="607212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ам Ш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4429080" y="571500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олотая стамбха – башня со священным животным (500 кг золо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wner</cp:lastModifiedBy>
  <dcterms:modified xsi:type="dcterms:W3CDTF">2011-06-02T19:58:26Z</dcterms:modified>
  <cp:revision>30</cp:revision>
  <dc:subject/>
  <dc:title>Слайд 1</dc:title>
</cp:coreProperties>
</file>