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9E4-E03E-421C-80B3-645889F45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6E65-3FDC-44DE-B449-12CF70F31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DD1-2008-4EE1-984C-0FF515D2F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905-0461-4C8D-8AB2-14EFAC6074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158-4896-4AD7-9ED7-66805FAD85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6D47-EA1B-4382-9455-0BD7E63205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332-4663-423D-9833-18D9B08E8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689D-3DA4-4109-94CC-2799A3170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8AD-84F3-4D92-B498-DBDE0954F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213-9F58-400D-8375-CB72770B98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4F2-CA4E-450E-865E-E47780FFB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4A9-192D-401A-AC1C-B5E6A56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5EC-B8F2-4E48-AEBD-F6C6ED9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275-2D55-41B0-8DD9-8ECF1455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079-8586-431E-B3D2-1417B4C8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D34-A2C5-499D-BDA2-D0C1EA1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D43-E5D4-4EA5-9639-8D0C20FB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56C-2D35-4604-9926-9361FD2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CEE-D049-46C9-9DCB-78490EE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C19-CC76-4786-9D69-643ACE1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E9C-589E-4ACB-80B1-F0579F6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C77-D5D1-4B26-AF91-04AD4ED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C08-D044-4431-86AA-6729FC1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C84E-4C19-49EB-B689-587A048702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68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63880"/>
            <a:ext cx="6400800" cy="17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Documents and Settings\Maria\Мои документы\Культурология\Репродукции\Индийская культура\Один из 3 алтарей храма кришны.jpg"/>
          <p:cNvPicPr/>
          <p:nvPr/>
        </p:nvPicPr>
        <p:blipFill>
          <a:blip r:embed="rId1"/>
          <a:stretch/>
        </p:blipFill>
        <p:spPr>
          <a:xfrm>
            <a:off x="1571760" y="1917720"/>
            <a:ext cx="6059520" cy="455436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Maria\Мои документы\Культурология\Репродукции\Индийская культура\Древняя фреска пещер Аджанта Гупты.jpg"/>
          <p:cNvPicPr/>
          <p:nvPr/>
        </p:nvPicPr>
        <p:blipFill>
          <a:blip r:embed="rId1"/>
          <a:stretch/>
        </p:blipFill>
        <p:spPr>
          <a:xfrm>
            <a:off x="4143240" y="1071720"/>
            <a:ext cx="438336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aria\Мои документы\Культурология\Репродукции\Индийская культура\будды.jpg"/>
          <p:cNvPicPr/>
          <p:nvPr/>
        </p:nvPicPr>
        <p:blipFill>
          <a:blip r:embed="rId2"/>
          <a:stretch/>
        </p:blipFill>
        <p:spPr>
          <a:xfrm>
            <a:off x="357120" y="1071720"/>
            <a:ext cx="3583080" cy="4714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9288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уя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429080" y="5715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яя фреска из Храма Аджанты ( при Гуп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уществовала примерно с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ыс. до н. э. и д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. н. э. Современное название "Индия" появилось лишь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ке. В прошлом она была известна как "страна ариев", "страна брахманов", "страна мудрецов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43040"/>
            <a:ext cx="8715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Индийской куль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гатство и многообразие религиозно-философских у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щенность  к Вселенной (в тайны мироздания) и внутрь человеческого мира ( философия и йог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ивительная музыкальность и танцева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ое почитание любви — чувственной и физиче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14200" y="414324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2e"/>
                </a:solidFill>
                <a:latin typeface="Verdana"/>
                <a:ea typeface="Times New Roman"/>
              </a:rPr>
              <a:t>Периоды истории Древней Ин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ппская цивил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долине реки Инд (III тыс. -XVII в. до н. 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ийско—ведическая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ход и расселение арийских племен в долинах рек Инд и Ганг XIII—VI вв. до н. 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стия Маурь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V—III вв. до н. э.)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упто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I в. до н. э.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285840"/>
            <a:ext cx="850104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Хараппская цивилизац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III тыс. -XVII в. до н. э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тры в городах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арапп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временный  Пакиста  и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охенджо-Даро  ("Холм мертвых"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, в которых  проживало от 35 до 100 тыс. человек. Там были найдены едва ли не первые общественные туалеты., водосточная система и канализация. В Европе такие города появились только в Средние века. В основе хозяйства - ирригационное земледелие. Письменность до сих пор не расшифрова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из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орс танцующего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жчины (10 см) из Харап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Хараппская   культура  и  цивилизация  постепенно  пришли   в упадок, вызванный климатическими изменениями, разливами рек и особенно эпидем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 flipV="1" rot="10800000">
            <a:off x="1357200" y="6214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опки  Мохенджо-Да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429240" y="2928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ст жреца (18 см) из Мохенджо-Да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:\Documents and Settings\Maria\Мои документы\Культурология\Репродукции\Индийская культура\Мохенджо-Даро раскоп.jpg"/>
          <p:cNvPicPr/>
          <p:nvPr/>
        </p:nvPicPr>
        <p:blipFill>
          <a:blip r:embed="rId1"/>
          <a:stretch/>
        </p:blipFill>
        <p:spPr>
          <a:xfrm>
            <a:off x="357120" y="2143080"/>
            <a:ext cx="6043680" cy="385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Maria\Мои документы\Культурология\Репродукции\Индийская культура\статуэтка жреца из Мохенджо-Даро.jpg"/>
          <p:cNvPicPr/>
          <p:nvPr/>
        </p:nvPicPr>
        <p:blipFill>
          <a:blip r:embed="rId2"/>
          <a:stretch/>
        </p:blipFill>
        <p:spPr>
          <a:xfrm>
            <a:off x="6500880" y="3571920"/>
            <a:ext cx="2346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доарийский пери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XIII—VI вв. до н. э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иходом ариев- кочевников, ставшими земледельцами и скотоводам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главный источник сведений о их жизне, они были написаны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скри́т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древний литературный язык Индии), уступающий по древности только  хеттскому из Месопотам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13920"/>
            <a:ext cx="8501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ую роль в жизни индийцев играют 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считываемых более двух тысяч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ложились на основе четырех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р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хманы (жре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шатрии (воин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йшьи (земледельцы, ремесленники, торгов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удры (рабы и военнопленны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религия Индии - ведизм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 Вед. Для него характерно многобожие и наделение человеческими качествами животных, предметов (антропоморфнос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25720" y="6286680"/>
            <a:ext cx="26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ра- бог грозы, во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868920" y="592920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рья- бог сол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6643800" y="6286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ни – бог ог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Documents and Settings\Maria\Мои документы\Культурология\Репродукции\Индийская культура\Индра- Бог воитель.jpg"/>
          <p:cNvPicPr/>
          <p:nvPr/>
        </p:nvPicPr>
        <p:blipFill>
          <a:blip r:embed="rId1"/>
          <a:stretch/>
        </p:blipFill>
        <p:spPr>
          <a:xfrm>
            <a:off x="357120" y="3714840"/>
            <a:ext cx="2502000" cy="24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Documents and Settings\Maria\Мои документы\Культурология\Репродукции\Индийская культура\Сурья- солнце.jpg"/>
          <p:cNvPicPr/>
          <p:nvPr/>
        </p:nvPicPr>
        <p:blipFill>
          <a:blip r:embed="rId2"/>
          <a:stretch/>
        </p:blipFill>
        <p:spPr>
          <a:xfrm>
            <a:off x="3214800" y="3786120"/>
            <a:ext cx="302868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Documents and Settings\Maria\Мои документы\Культурология\Репродукции\Индийская культура\агни бог огня.jpg"/>
          <p:cNvPicPr/>
          <p:nvPr/>
        </p:nvPicPr>
        <p:blipFill>
          <a:blip r:embed="rId3"/>
          <a:stretch/>
        </p:blipFill>
        <p:spPr>
          <a:xfrm>
            <a:off x="6572160" y="3714840"/>
            <a:ext cx="1728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рахм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ыс. до н. э. Это более стройное учение о мире, множество богов сведено к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оиц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тепенно брахманизм переходи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индуиз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ая является самой распространенной в Индии религ­ей, охватывая более 80% верующих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дуизм существует в виде направлений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ишнуизма, шиваизма, кришнаизм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индуизм включены многие культы через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цепцию аватары (воплощений) Вишны. То е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ишна нисходит в мир, перевоплощаясь в различные образы (принимает облики Рамы, Кришны и Будды)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"Бхагаватгита"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щенное писание индуизма. Основу индуизма составляет учение о вечном переселении душ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сансара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сходящем 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оном воздаяния (карм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се содеянное в жизни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358200" y="60721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х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071880" y="564372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12 аватар - хранитель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292080" y="6000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Documents and Settings\Maria\Мои документы\Культурология\Репродукции\Индийская культура\Брахма - создатель.jpg"/>
          <p:cNvPicPr/>
          <p:nvPr/>
        </p:nvPicPr>
        <p:blipFill>
          <a:blip r:embed="rId1"/>
          <a:stretch/>
        </p:blipFill>
        <p:spPr>
          <a:xfrm>
            <a:off x="285840" y="3143160"/>
            <a:ext cx="2344680" cy="286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Maria\Мои документы\Культурология\Репродукции\Индийская культура\Вишну- и 12 аватар хранитель мироздания.jpg"/>
          <p:cNvPicPr/>
          <p:nvPr/>
        </p:nvPicPr>
        <p:blipFill>
          <a:blip r:embed="rId2"/>
          <a:stretch/>
        </p:blipFill>
        <p:spPr>
          <a:xfrm>
            <a:off x="3000240" y="2928960"/>
            <a:ext cx="3167280" cy="266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Documents and Settings\Maria\Мои документы\Культурология\Репродукции\Индийская культура\Шива- разрушителдь.jpg"/>
          <p:cNvPicPr/>
          <p:nvPr/>
        </p:nvPicPr>
        <p:blipFill>
          <a:blip r:embed="rId3"/>
          <a:stretch/>
        </p:blipFill>
        <p:spPr>
          <a:xfrm>
            <a:off x="6429240" y="2857680"/>
            <a:ext cx="223524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Маурь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V—III вв. до н. э.) возвысилась после  походов  Александра Македонского , достигла расцвета при императоре Ашоке, который подчинил огромную территорию и распространил буддиз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Гуп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II в. до н. э. — VI век) объединила большую часть Индии, это был период процветания литературы, науки  и брахманизма, хотя и к буддизму они не относились враждеб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235692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Индии появляет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будд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е до н. э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создатель- Сидцхартха Гаутама, который в 40 лет достиг состояния просветления (нирваны) и получил им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уд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осветленный).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. до н. э. буддизм достиг наибольшего распространения, вытеснив брахманизм, но в начал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н. э. он растворяется в индуизме. Сегодня буддизм распространен в Китае, Японии и других стран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у буддизма составля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е о «четырех благородных истинах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ь к спасению лежит через отказ от мирских соблазнов, через самосовершенств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ее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рвана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эт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раничное состояние между жизнью   и   смертью,   означающее   полную   отрешенность   от внешнего   мира,   отсутствие   всяких   желаний,   совершенную удовлетворенность, внутреннее просветл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диз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ещает спасение верующим любой варны или касты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жайн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елигия, проповедующая непричинение зла всему живому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кхизм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 религия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, выступает против иерархии варн и каст, за равенство всех верующих перед Б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149976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лонение многим животны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детельствует о сохранении фетишизма и тотемизма. Так, в число священных входят: коровы и быки из породы зебу, обезьяны ,кобры. Им возводятся великолепные храмы, о них складываются легенды и пишутся сказ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евней Индии успешно развивалас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ка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тематик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о известно значение числа "пи", они создали десятичную систему исчисления с использованием нуля, термины "цифра", "синус", "корень«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строно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али догадку о вращении Земли вокруг своей оси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ди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ли науку о долголетии (аюрведу). Индийские хирурги делали 300 видов операций, используя около 120 хирургических инстру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ого уровня достигл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удожественная культур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собое место  заним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тература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знаменитые произведения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ахабхарат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рассказ споре за власть между братьями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«Рамаян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писание подвигов и приключений царя Рамы в поисках похищенной любимой — Ситы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  древнеиндийск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архитект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 некоторые особенности.   Памятники   существовавши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 до н. э., не сохранились до наших дней, так как строительным материалом служило дерево.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е до   н. э.  в   строительстве используют кам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C:\Documents and Settings\Maria\Мои документы\Культурология\Репродукции\Индийская культура\Большая ступа №1 3 вдо нэ.jpg"/>
          <p:cNvPicPr/>
          <p:nvPr/>
        </p:nvPicPr>
        <p:blipFill>
          <a:blip r:embed="rId1"/>
          <a:stretch/>
        </p:blipFill>
        <p:spPr>
          <a:xfrm>
            <a:off x="214200" y="1357200"/>
            <a:ext cx="42753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Maria\Мои документы\Культурология\Репродукции\Индийская культура\буддийский храм в аджанте.jpg"/>
          <p:cNvPicPr/>
          <p:nvPr/>
        </p:nvPicPr>
        <p:blipFill>
          <a:blip r:embed="rId2"/>
          <a:stretch/>
        </p:blipFill>
        <p:spPr>
          <a:xfrm>
            <a:off x="4572000" y="3500280"/>
            <a:ext cx="4514760" cy="30006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428760" y="42861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ступа №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хранятся реликвии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286240" y="23572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щерный храм в Аджанте (империя Гуп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Maria\Мои документы\Культурология\Репродукции\Индийская культура\Храм Шивы.jpg"/>
          <p:cNvPicPr/>
          <p:nvPr/>
        </p:nvPicPr>
        <p:blipFill>
          <a:blip r:embed="rId1"/>
          <a:stretch/>
        </p:blipFill>
        <p:spPr>
          <a:xfrm>
            <a:off x="571680" y="928800"/>
            <a:ext cx="3375000" cy="511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Maria\Мои документы\Культурология\Репродукции\Индийская культура\Золотая стамбха зол 500 кг.jpg"/>
          <p:cNvPicPr/>
          <p:nvPr/>
        </p:nvPicPr>
        <p:blipFill>
          <a:blip r:embed="rId2"/>
          <a:stretch/>
        </p:blipFill>
        <p:spPr>
          <a:xfrm>
            <a:off x="4786200" y="928800"/>
            <a:ext cx="319716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1510200" y="60721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м Ш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429080" y="57150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ая стамбха – башня со священным животным (500 кг зо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6-02T19:58:26Z</dcterms:modified>
  <cp:revision>30</cp:revision>
  <dc:subject/>
  <dc:title>Слайд 1</dc:title>
</cp:coreProperties>
</file>