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182A-9641-447D-AC06-9045D9B8E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19B6-E9A8-4683-8D4F-BAA8780C8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63DA-AD5B-4F06-9198-05763C312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7969-921B-490E-BD2B-19AB6C1BF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C826-2B71-4E6A-B562-7CFA45489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8DB4-2051-4F3D-BC5A-61A410588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E769-EE05-4B96-9853-A07134670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DB06-D21A-462B-88AB-9ED68945E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150D-608B-4010-B0BF-CF8E28543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B4C9-9290-4AE4-AA38-FFCC1404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7635-076A-47EE-B688-2EA62E41B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6C1E-46F3-474E-AD45-D1A65A32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F2DA9-FBB0-4E56-8E2C-5CA9B0DE6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исунки Юрия Алексеевича Васнецова к русским народным потешкам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 rot="21043200">
            <a:off x="1476000" y="3789360"/>
            <a:ext cx="2055960" cy="2711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708360" y="3573360"/>
            <a:ext cx="2092320" cy="2808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 rot="440400">
            <a:off x="6156000" y="3716280"/>
            <a:ext cx="190512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229600" cy="57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29600" cy="58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29600" cy="58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333360"/>
            <a:ext cx="822960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29600" cy="58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29600" cy="58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29600" cy="58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229600" cy="57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3382920" cy="33130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995640" y="189000"/>
            <a:ext cx="48974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Юрий Алексеевич Васнецов - замечательный мастер детской книжной иллюстрации. Он создал иллюстрации к русским народным потешкам, песенкам. Удивительно добрый, красочный мир создал художник в своих рисун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снецов родился в старинном русском городе Вятке. Дремучие леса окружали город со всех сторон. Жили в этих лесах разные звери и птицы. Все герои сказочных рисунков Васнецова словно вышли из вятских ле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красоту мира учили его понимать народные мастера. Замечательные эти умельцы были от природы людьми талантливыми, весёлыми и щедрыми. Они разрисовывали ставни окон, расписывали прялки, печи, дуги, берестяные туески – всё, что только можно было украсить изображениями фантастических растений, птиц, звер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 rot="21204000">
            <a:off x="250920" y="3716280"/>
            <a:ext cx="1873080" cy="26780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195640" y="3716280"/>
            <a:ext cx="18936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79640" y="189000"/>
            <a:ext cx="46800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229600" cy="57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229600" cy="57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692360" y="260280"/>
            <a:ext cx="4895640" cy="58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29600" cy="58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404640"/>
            <a:ext cx="8229600" cy="57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333360"/>
            <a:ext cx="822960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2T20:31:24Z</dcterms:created>
  <dc:creator>User</dc:creator>
  <dc:description/>
  <dc:language>en-US</dc:language>
  <cp:lastModifiedBy>User</cp:lastModifiedBy>
  <dcterms:modified xsi:type="dcterms:W3CDTF">2016-10-02T20:51:18Z</dcterms:modified>
  <cp:revision>3</cp:revision>
  <dc:subject/>
  <dc:title>Рисунки Юрия Алексеевича Васнецова к русским народным потешкам </dc:title>
</cp:coreProperties>
</file>