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7A5-1DF4-4C68-8D4D-FE3A8C59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80D-FE7D-4404-9F37-44BDD92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EB6-2FCF-482A-A7A3-85BDD4B6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01E-AA97-4693-8D71-E53F7C66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DE3-1A91-4CFC-AC24-35D1A62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55F-B0A7-418A-8D11-30119F54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9AB-8983-42B6-BBDA-E1FC7FF2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C58-F42C-4637-BF76-BEE6781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4D6-6923-42C3-B15C-8462383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EA7-BAD4-4D60-A883-4C1F8F8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6ED-190A-458C-B670-C7AF5EA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467-2C26-4A37-8607-B484CE2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7FC-FFD8-4131-ACB5-381262B5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сунки Юрия Алексеевича Васнецова к русским народным потеш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043200">
            <a:off x="1476000" y="3789360"/>
            <a:ext cx="2055960" cy="2711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092320" cy="280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440400">
            <a:off x="6156000" y="3716280"/>
            <a:ext cx="19051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382920" cy="3313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95640" y="189000"/>
            <a:ext cx="489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й Алексеевич Васнецов - замечательный мастер детской книжной иллюстрации. Он создал иллюстрации к русским народным потешкам, песенкам. Удивительно добрый, красочный мир создал художник в своих рисун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нецов родился в старинном русском городе Вятке. Дремучие леса окружали город со всех сторон. Жили в этих лесах разные звери и птицы. Все герои сказочных рисунков Васнецова словно вышли из вятских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расоту мира учили его понимать народные мастера. Замечательные эти умельцы были от природы людьми талантливыми, весёлыми и щедрыми. Они разрисовывали ставни окон, расписывали прялки, печи, дуги, берестяные туески – всё, что только можно было украсить изображениями фантастических растений, птиц, зв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204000">
            <a:off x="250920" y="3716280"/>
            <a:ext cx="1873080" cy="267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893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680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48956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20:31:24Z</dcterms:created>
  <dc:creator>User</dc:creator>
  <dc:description/>
  <dc:language>en-US</dc:language>
  <cp:lastModifiedBy>User</cp:lastModifiedBy>
  <dcterms:modified xsi:type="dcterms:W3CDTF">2016-10-02T20:51:18Z</dcterms:modified>
  <cp:revision>3</cp:revision>
  <dc:subject/>
  <dc:title>Рисунки Юрия Алексеевича Васнецова к русским народным потешкам </dc:title>
</cp:coreProperties>
</file>