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7FA-7E52-4796-83B7-7BABD48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318-4A9B-40EB-80CB-3869DC54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EF5-6723-4B42-B137-895250A9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C7D-2E1F-4AA3-88E7-C7A8B76D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22F-865D-460C-B53D-4E7B5210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D30-F6BF-41C4-AD8D-D4F52452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F95-F7BE-4ED3-A540-9D0F13D5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323-5680-4C3D-A0FD-0DAD04E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D5D-01FE-4A16-9934-C8A93C85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D2C-9CF3-46C2-8F2E-4255900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C38-8075-41CB-B091-BEF8971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F56-F2AD-4B20-A385-11FD240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B79-A9C1-41DD-B8BA-A98D0014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626112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осток Древ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финкс"/>
          <p:cNvPicPr/>
          <p:nvPr/>
        </p:nvPicPr>
        <p:blipFill>
          <a:blip r:embed="rId1"/>
          <a:stretch/>
        </p:blipFill>
        <p:spPr>
          <a:xfrm>
            <a:off x="0" y="34304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есопотамия"/>
          <p:cNvPicPr/>
          <p:nvPr/>
        </p:nvPicPr>
        <p:blipFill>
          <a:blip r:embed="rId2"/>
          <a:stretch/>
        </p:blipFill>
        <p:spPr>
          <a:xfrm>
            <a:off x="6157800" y="0"/>
            <a:ext cx="2810160" cy="3973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0006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Иерогл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Иероглиф (греч.) - «священная резь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Иероглифика - это система письменности, в которой знаки подобны рисункам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Иероглифы - один из трех способов записи египетски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амятники литературы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тки пап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ухет сын стр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ийская 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богиня Нут и богиня Исида"/>
          <p:cNvPicPr/>
          <p:nvPr/>
        </p:nvPicPr>
        <p:blipFill>
          <a:blip r:embed="rId2"/>
          <a:srcRect l="3506" t="0" r="29812" b="9562"/>
          <a:stretch/>
        </p:blipFill>
        <p:spPr>
          <a:xfrm>
            <a:off x="4888080" y="1628640"/>
            <a:ext cx="42559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сравнительный анализ культур древних государств Востока (Египта, Шумера, Аккада, Вавилонии, Ассирии) на примере памятников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й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папирус"/>
          <p:cNvPicPr/>
          <p:nvPr/>
        </p:nvPicPr>
        <p:blipFill>
          <a:blip r:embed="rId1"/>
          <a:srcRect l="8079" t="7785" r="12918" b="13103"/>
          <a:stretch/>
        </p:blipFill>
        <p:spPr>
          <a:xfrm>
            <a:off x="4284720" y="1728720"/>
            <a:ext cx="4535280" cy="416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54831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Древнего Вос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опотамией (Междуречьем, Двуречьем) древние греки называли земли, лежавшие между Тигром и Евфратом — двумя великими реками дре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3500280"/>
          <a:ext cx="8209080" cy="273708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136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Государства Месопота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Шу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3000 – 2400 гг.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кк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400 – 20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авил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000 – 539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сси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1400 – 6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ая древняя в мире письменность – изобретение шумеров. Позже ее стали называть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клино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одна из табличек с записью эпоса о Гильгамеше"/>
          <p:cNvPicPr/>
          <p:nvPr/>
        </p:nvPicPr>
        <p:blipFill>
          <a:blip r:embed="rId1"/>
          <a:stretch/>
        </p:blipFill>
        <p:spPr>
          <a:xfrm>
            <a:off x="4643280" y="2043000"/>
            <a:ext cx="4176720" cy="375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2"/>
          <p:cNvPicPr/>
          <p:nvPr/>
        </p:nvPicPr>
        <p:blipFill>
          <a:blip r:embed="rId2"/>
          <a:stretch/>
        </p:blipFill>
        <p:spPr>
          <a:xfrm>
            <a:off x="0" y="3679920"/>
            <a:ext cx="3492360" cy="317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Эпос о Гильгаме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"Эпос о Гильгамеше"считается древнейшим в мире литературным произведением, созданным в 22 в. до н.э. древними шу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Эпос рассказывает о приключениях легендарного основателя города Ура полубога Гильгамеша и его друга Энкид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ильгамеш"/>
          <p:cNvPicPr/>
          <p:nvPr/>
        </p:nvPicPr>
        <p:blipFill>
          <a:blip r:embed="rId1"/>
          <a:stretch/>
        </p:blipFill>
        <p:spPr>
          <a:xfrm>
            <a:off x="5667480" y="1600200"/>
            <a:ext cx="2000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4 тысячелетия до н.э. в долине Нила сложилась новая цивил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ю страну древние египтяне называли «Кем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пирамида"/>
          <p:cNvPicPr/>
          <p:nvPr/>
        </p:nvPicPr>
        <p:blipFill>
          <a:blip r:embed="rId1"/>
          <a:stretch/>
        </p:blipFill>
        <p:spPr>
          <a:xfrm>
            <a:off x="4211640" y="1484280"/>
            <a:ext cx="4788000" cy="3767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3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енность Древнего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иптяне пожалуй, единственный народ в мире, сумевший выразить абстрактное, отвлечённое понятие через конкретное: знаком свитка папируса с печатью и торчащими завязками они определяли любое абстрактное понятие. Записывая слова либо одним видом звукового знака, а чаще комбинируя все эти знаки так, что иногда алфавитные знаки поясняли звуковой состав знака, передающего большее количество согласных, и дополняя слова определителями, египтяне писали люб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371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05:15:53Z</dcterms:created>
  <dc:creator>user</dc:creator>
  <dc:description/>
  <dc:language>en-US</dc:language>
  <cp:lastModifiedBy>Евгений</cp:lastModifiedBy>
  <dcterms:modified xsi:type="dcterms:W3CDTF">2016-10-02T15:49:20Z</dcterms:modified>
  <cp:revision>8</cp:revision>
  <dc:subject/>
  <dc:title>Памятники литературы Древнего Востока</dc:title>
</cp:coreProperties>
</file>