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094-EE9A-4947-9DD7-27E3E373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80D-0498-43BD-A820-61510915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D39-AFA0-4C89-877E-D1018DDB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C6E-1C57-4097-916F-215EA4AF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E34-ABC7-4022-BCEA-52EA9FFB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D4A-E6C4-49CB-9A7F-F27F278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6CE-AB55-414F-BDA2-FA8256C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EC9-F319-4D74-B635-6B37DD99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A52-99F4-4602-BBCE-BD4AB2F7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5B5-CBFC-4739-A22B-2A61514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30B-61A6-4B8D-9C6C-560B5BD7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2A9-6251-4319-9B0F-2E91605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C72-B5F8-4E4C-8033-CD2E4BE2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626112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осток Древ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финкс"/>
          <p:cNvPicPr/>
          <p:nvPr/>
        </p:nvPicPr>
        <p:blipFill>
          <a:blip r:embed="rId1"/>
          <a:stretch/>
        </p:blipFill>
        <p:spPr>
          <a:xfrm>
            <a:off x="0" y="34304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есопотамия"/>
          <p:cNvPicPr/>
          <p:nvPr/>
        </p:nvPicPr>
        <p:blipFill>
          <a:blip r:embed="rId2"/>
          <a:stretch/>
        </p:blipFill>
        <p:spPr>
          <a:xfrm>
            <a:off x="6157800" y="0"/>
            <a:ext cx="2810160" cy="3973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400068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1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Иерогл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Иероглиф (греч.) - «священная резьб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Иероглифика - это система письменности, в которой знаки подобны рисункам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Иероглифы - один из трех способов записи египетски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Памятники литературы Егип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тки пап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ухет сын стра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андрийская 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богиня Нут и богиня Исида"/>
          <p:cNvPicPr/>
          <p:nvPr/>
        </p:nvPicPr>
        <p:blipFill>
          <a:blip r:embed="rId2"/>
          <a:srcRect l="3506" t="0" r="29812" b="9562"/>
          <a:stretch/>
        </p:blipFill>
        <p:spPr>
          <a:xfrm>
            <a:off x="4888080" y="1628640"/>
            <a:ext cx="42559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наше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сти сравнительный анализ культур древних государств Востока (Египта, Шумера, Аккада, Вавилонии, Ассирии) на примере памятников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ий 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льтура Древней Месопота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ые памятники Месопота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льтура Древнего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ые памятники Древнего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папирус"/>
          <p:cNvPicPr/>
          <p:nvPr/>
        </p:nvPicPr>
        <p:blipFill>
          <a:blip r:embed="rId1"/>
          <a:srcRect l="8079" t="7785" r="12918" b="13103"/>
          <a:stretch/>
        </p:blipFill>
        <p:spPr>
          <a:xfrm>
            <a:off x="4284720" y="1728720"/>
            <a:ext cx="4535280" cy="416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54831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Древнего Вос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льтура Древней Месопотам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опотамией (Междуречьем, Двуречьем) древние греки называли земли, лежавшие между Тигром и Евфратом — двумя великими реками дре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3500280"/>
          <a:ext cx="8209080" cy="273708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136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Государства Месопотам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Шу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3000 – 2400 гг.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Акк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2400 – 2000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Вавило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2000 – 539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Асси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(1400 – 600 гг. до н.э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ая древняя в мире письменность – изобретение шумеров. Позже ее стали называть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клинопис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одна из табличек с записью эпоса о Гильгамеше"/>
          <p:cNvPicPr/>
          <p:nvPr/>
        </p:nvPicPr>
        <p:blipFill>
          <a:blip r:embed="rId1"/>
          <a:stretch/>
        </p:blipFill>
        <p:spPr>
          <a:xfrm>
            <a:off x="4643280" y="2043000"/>
            <a:ext cx="4176720" cy="375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12"/>
          <p:cNvPicPr/>
          <p:nvPr/>
        </p:nvPicPr>
        <p:blipFill>
          <a:blip r:embed="rId2"/>
          <a:stretch/>
        </p:blipFill>
        <p:spPr>
          <a:xfrm>
            <a:off x="0" y="3679920"/>
            <a:ext cx="3492360" cy="317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Эпос о Гильгаме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"Эпос о Гильгамеше"считается древнейшим в мире литературным произведением, созданным в 22 в. до н.э. древними шу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Эпос рассказывает о приключениях легендарного основателя города Ура полубога Гильгамеша и его друга Энкид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Гильгамеш"/>
          <p:cNvPicPr/>
          <p:nvPr/>
        </p:nvPicPr>
        <p:blipFill>
          <a:blip r:embed="rId1"/>
          <a:stretch/>
        </p:blipFill>
        <p:spPr>
          <a:xfrm>
            <a:off x="5667480" y="1600200"/>
            <a:ext cx="20001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льтура Древнего Егип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у 4 тысячелетия до н.э. в долине Нила сложилась новая цивилиз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ю страну древние египтяне называли «Кем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пирамида"/>
          <p:cNvPicPr/>
          <p:nvPr/>
        </p:nvPicPr>
        <p:blipFill>
          <a:blip r:embed="rId1"/>
          <a:stretch/>
        </p:blipFill>
        <p:spPr>
          <a:xfrm>
            <a:off x="4211640" y="1484280"/>
            <a:ext cx="4788000" cy="3767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3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сьменность Древнего Еги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иптяне пожалуй, единственный народ в мире, сумевший выразить абстрактное, отвлечённое понятие через конкретное: знаком свитка папируса с печатью и торчащими завязками они определяли любое абстрактное понятие. Записывая слова либо одним видом звукового знака, а чаще комбинируя все эти знаки так, что иногда алфавитные знаки поясняли звуковой состав знака, передающего большее количество согласных, и дополняя слова определителями, египтяне писали люб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371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05:15:53Z</dcterms:created>
  <dc:creator>user</dc:creator>
  <dc:description/>
  <dc:language>en-US</dc:language>
  <cp:lastModifiedBy>Евгений</cp:lastModifiedBy>
  <dcterms:modified xsi:type="dcterms:W3CDTF">2016-10-02T15:49:20Z</dcterms:modified>
  <cp:revision>8</cp:revision>
  <dc:subject/>
  <dc:title>Памятники литературы Древнего Востока</dc:title>
</cp:coreProperties>
</file>