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175-B363-405A-B859-C00EA8E4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BE7-7124-4671-B4D5-307810B6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C80-7622-41CA-8CC9-8F0C24CC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B2A-4005-4B63-BC23-B5F3698C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353-6848-46DA-9775-664DA07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BCD-05AA-4633-980F-D8D7D2D3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D8B-CA23-40C5-9B7C-BB77CFA7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D96-61A8-4FC0-A976-AF812A71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5C1-D4B0-4C2A-99E2-EF4BE14A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7C6-CF7E-4153-96A2-63CDEAC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465-268B-4E98-82ED-BFF84183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2D2-3706-49DE-B733-49252BE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5D9-19FF-4C02-A8F3-A62B2C08F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626112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осток Древн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сфинкс"/>
          <p:cNvPicPr/>
          <p:nvPr/>
        </p:nvPicPr>
        <p:blipFill>
          <a:blip r:embed="rId1"/>
          <a:stretch/>
        </p:blipFill>
        <p:spPr>
          <a:xfrm>
            <a:off x="0" y="34304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есопотамия"/>
          <p:cNvPicPr/>
          <p:nvPr/>
        </p:nvPicPr>
        <p:blipFill>
          <a:blip r:embed="rId2"/>
          <a:stretch/>
        </p:blipFill>
        <p:spPr>
          <a:xfrm>
            <a:off x="6157800" y="0"/>
            <a:ext cx="2810160" cy="3973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400068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1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Иерогл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Иероглиф (греч.) - «священная резьб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Иероглифика - это система письменности, в которой знаки подобны рисункам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Иероглифы - один из трех способов записи египетски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амятники литературы Егип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тки пап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ухет сын стра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андрийская библи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богиня Нут и богиня Исида"/>
          <p:cNvPicPr/>
          <p:nvPr/>
        </p:nvPicPr>
        <p:blipFill>
          <a:blip r:embed="rId2"/>
          <a:srcRect l="3506" t="0" r="29812" b="9562"/>
          <a:stretch/>
        </p:blipFill>
        <p:spPr>
          <a:xfrm>
            <a:off x="4888080" y="1628640"/>
            <a:ext cx="42559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наше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сти сравнительный анализ культур древних государств Востока (Египта, Шумера, Аккада, Вавилонии, Ассирии) на примере памятников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ий 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льтура Древней Месопота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ые памятники Месопота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льтура Древнего Ег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ые памятники Древнего Ег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папирус"/>
          <p:cNvPicPr/>
          <p:nvPr/>
        </p:nvPicPr>
        <p:blipFill>
          <a:blip r:embed="rId1"/>
          <a:srcRect l="8079" t="7785" r="12918" b="13103"/>
          <a:stretch/>
        </p:blipFill>
        <p:spPr>
          <a:xfrm>
            <a:off x="4284720" y="1728720"/>
            <a:ext cx="4535280" cy="416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54831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Древнего Вос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льтура Древней Месопотам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опотамией (Междуречьем, Двуречьем) древние греки называли земли, лежавшие между Тигром и Евфратом — двумя великими реками дре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3500280"/>
          <a:ext cx="8209080" cy="273708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136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Государства Месопотам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Шу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3000 – 2400 гг.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Акк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2400 – 2000 гг. 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Вавило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2000 – 539 гг. 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Асси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1400 – 600 гг. 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ая древняя в мире письменность – изобретение шумеров. Позже ее стали называть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клинопис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одна из табличек с записью эпоса о Гильгамеше"/>
          <p:cNvPicPr/>
          <p:nvPr/>
        </p:nvPicPr>
        <p:blipFill>
          <a:blip r:embed="rId1"/>
          <a:stretch/>
        </p:blipFill>
        <p:spPr>
          <a:xfrm>
            <a:off x="4643280" y="2043000"/>
            <a:ext cx="4176720" cy="375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12"/>
          <p:cNvPicPr/>
          <p:nvPr/>
        </p:nvPicPr>
        <p:blipFill>
          <a:blip r:embed="rId2"/>
          <a:stretch/>
        </p:blipFill>
        <p:spPr>
          <a:xfrm>
            <a:off x="0" y="3679920"/>
            <a:ext cx="3492360" cy="317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Эпос о Гильгаме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"Эпос о Гильгамеше"считается древнейшим в мире литературным произведением, созданным в 22 в. до н.э. древними шуме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Эпос рассказывает о приключениях легендарного основателя города Ура полубога Гильгамеша и его друга Энкид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Гильгамеш"/>
          <p:cNvPicPr/>
          <p:nvPr/>
        </p:nvPicPr>
        <p:blipFill>
          <a:blip r:embed="rId1"/>
          <a:stretch/>
        </p:blipFill>
        <p:spPr>
          <a:xfrm>
            <a:off x="5667480" y="1600200"/>
            <a:ext cx="20001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льтура Древнего Егип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у 4 тысячелетия до н.э. в долине Нила сложилась новая цивилиз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ю страну древние египтяне называли «Кем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пирамида"/>
          <p:cNvPicPr/>
          <p:nvPr/>
        </p:nvPicPr>
        <p:blipFill>
          <a:blip r:embed="rId1"/>
          <a:stretch/>
        </p:blipFill>
        <p:spPr>
          <a:xfrm>
            <a:off x="4211640" y="1484280"/>
            <a:ext cx="4788000" cy="3767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3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сьменность Древнего Егип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иптяне пожалуй, единственный народ в мире, сумевший выразить абстрактное, отвлечённое понятие через конкретное: знаком свитка папируса с печатью и торчащими завязками они определяли любое абстрактное понятие. Записывая слова либо одним видом звукового знака, а чаще комбинируя все эти знаки так, что иногда алфавитные знаки поясняли звуковой состав знака, передающего большее количество согласных, и дополняя слова определителями, египтяне писали люб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371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05:15:53Z</dcterms:created>
  <dc:creator>user</dc:creator>
  <dc:description/>
  <dc:language>en-US</dc:language>
  <cp:lastModifiedBy>Евгений</cp:lastModifiedBy>
  <dcterms:modified xsi:type="dcterms:W3CDTF">2016-10-02T15:49:20Z</dcterms:modified>
  <cp:revision>8</cp:revision>
  <dc:subject/>
  <dc:title>Памятники литературы Древнего Востока</dc:title>
</cp:coreProperties>
</file>