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7.png" ContentType="image/png"/>
  <Override PartName="/ppt/media/image23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8.png" ContentType="image/png"/>
  <Override PartName="/ppt/media/image13.png" ContentType="image/png"/>
  <Override PartName="/ppt/media/image19.jpeg" ContentType="image/jpeg"/>
  <Override PartName="/ppt/media/image34.jpeg" ContentType="image/jpeg"/>
  <Override PartName="/ppt/media/image20.jpeg" ContentType="image/jpe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03C-3DD0-4ED2-9FE9-0ED34BDA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1F1-8972-4384-B10A-5FAF3A81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8E3-D2FB-426C-8CDB-0BEE7588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F17-7F4F-4DC5-8260-9AA86D11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D3E-6C62-421F-9ACA-C90781C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285-A960-46B6-85D5-98EEF34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A9E-DCD4-4042-BB51-D4CBC25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860-1BA0-41A1-BC00-88FF7F09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E96-56E4-4A33-B25E-9CA1161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7A1-EE6D-48D3-B243-65DDBA90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55C-8C3D-4988-9F29-19B010C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041-AC13-4DDE-82EC-2E5512D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D344-BB86-44DE-8070-75EB9ABB3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png"/><Relationship Id="rId3" Type="http://schemas.openxmlformats.org/officeDocument/2006/relationships/hyperlink" Target="http://www.inpearls.ru/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xn--80abucjiibhv9a.xn/" TargetMode="External"/><Relationship Id="rId3" Type="http://schemas.openxmlformats.org/officeDocument/2006/relationships/hyperlink" Target="http://www.inpearls.r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fizruk-online.biz/wp-content/uploads/2014/05/948162c6f1f71eb83e58e11c4a6cf4e51397474047-534bc2ffc78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14680" y="428760"/>
            <a:ext cx="5715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9" descr=""/>
          <p:cNvPicPr/>
          <p:nvPr/>
        </p:nvPicPr>
        <p:blipFill>
          <a:blip r:embed="rId2"/>
          <a:stretch/>
        </p:blipFill>
        <p:spPr>
          <a:xfrm>
            <a:off x="212760" y="1341360"/>
            <a:ext cx="8566200" cy="4321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85840" y="1071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е разде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0040" y="1071720"/>
            <a:ext cx="150012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eb.snauka.ru/wp-content/uploads/2011/05/image2.jpg"/>
          <p:cNvPicPr/>
          <p:nvPr/>
        </p:nvPicPr>
        <p:blipFill>
          <a:blip r:embed="rId2"/>
          <a:stretch/>
        </p:blipFill>
        <p:spPr>
          <a:xfrm>
            <a:off x="500040" y="1071720"/>
            <a:ext cx="814392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500040" y="1071720"/>
            <a:ext cx="150012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0040" y="1143000"/>
          <a:ext cx="8143920" cy="4687920"/>
        </p:xfrm>
        <a:graphic>
          <a:graphicData uri="http://schemas.openxmlformats.org/drawingml/2006/table">
            <a:tbl>
              <a:tblPr/>
              <a:tblGrid>
                <a:gridCol w="4000680"/>
                <a:gridCol w="4143240"/>
              </a:tblGrid>
              <a:tr h="4446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Новая формулировка (ФГО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Старая формул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"открытия нового знания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формирован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рефлек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совершенствован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закрепления и        совершенствован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общей методологической  направ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обобщения и систематизации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и развивающего 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контроля знаний, умений, навы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к коррекции знаний, умений, навы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428760" y="171468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и (самоопределения)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уализации и пробного учебного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я места и причин затруднения(определение границ знания и незн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я проекта выхода из затру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лизации построенного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ого закрепления с проговариванием во внешне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й работы с самопроверкой по этал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ключения в систему знаний и повто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и учебной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апы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4214880" y="6000840"/>
            <a:ext cx="471492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ллеги по МО, …..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428760" y="1071720"/>
            <a:ext cx="1928520" cy="5000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images.myshared.ru/802268/slide_5.jpg"/>
          <p:cNvPicPr/>
          <p:nvPr/>
        </p:nvPicPr>
        <p:blipFill>
          <a:blip r:embed="rId2"/>
          <a:srcRect l="1063" t="5664" r="2268" b="12184"/>
          <a:stretch/>
        </p:blipFill>
        <p:spPr>
          <a:xfrm>
            <a:off x="428760" y="1071720"/>
            <a:ext cx="82152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288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УУ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285840" y="20718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имся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иться и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1439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ниверсальные </a:t>
            </a: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чебные </a:t>
            </a: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ейств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3992400" y="2206800"/>
            <a:ext cx="4370400" cy="304164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3" descr=""/>
          <p:cNvPicPr/>
          <p:nvPr/>
        </p:nvPicPr>
        <p:blipFill>
          <a:blip r:embed="rId3"/>
          <a:stretch/>
        </p:blipFill>
        <p:spPr>
          <a:xfrm>
            <a:off x="420840" y="2206800"/>
            <a:ext cx="4297320" cy="3114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040" y="999720"/>
            <a:ext cx="55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диционные способност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илы, быстрот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коростно – силовых качеств, гибк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428760" y="178596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кондиционных способностей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-«в» клас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хорош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бкости, быстроты, силы, скоро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ловых качеств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 6-«в» класса,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авнению с учащимися 6-«а» и 6-«б» класс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ая динам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диционных способностей учащихся  6-«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м ФГОС ОО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500040" y="285768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альными называют людей, котор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ыстр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елают то, что мы делаем медлен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озеф Жуб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28760" y="1071720"/>
            <a:ext cx="242892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7"/>
          <p:cNvGrpSpPr/>
          <p:nvPr/>
        </p:nvGrpSpPr>
        <p:grpSpPr>
          <a:xfrm>
            <a:off x="428760" y="1000080"/>
            <a:ext cx="2571480" cy="1558800"/>
            <a:chOff x="428760" y="1000080"/>
            <a:chExt cx="2571480" cy="1558800"/>
          </a:xfrm>
        </p:grpSpPr>
        <p:pic>
          <p:nvPicPr>
            <p:cNvPr id="108" name="Picture 2" descr="http://omschool45.narod.ru/pic/deviz_olimp.jpg"/>
            <p:cNvPicPr/>
            <p:nvPr/>
          </p:nvPicPr>
          <p:blipFill>
            <a:blip r:embed="rId2"/>
            <a:stretch/>
          </p:blipFill>
          <p:spPr>
            <a:xfrm>
              <a:off x="500040" y="1000080"/>
              <a:ext cx="20714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http://omschool45.narod.ru/pic/deviz_olimp.jpg"/>
            <p:cNvPicPr/>
            <p:nvPr/>
          </p:nvPicPr>
          <p:blipFill>
            <a:blip r:embed="rId3"/>
            <a:stretch/>
          </p:blipFill>
          <p:spPr>
            <a:xfrm>
              <a:off x="428760" y="1713960"/>
              <a:ext cx="257148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s://encrypted-tbn1.gstatic.com/images?q=tbn:ANd9GcR_F5qA53zqu63Ml9BTvtKEFt17A9MozjFcZ5n4ikyjh-PZPVvu"/>
          <p:cNvPicPr/>
          <p:nvPr/>
        </p:nvPicPr>
        <p:blipFill>
          <a:blip r:embed="rId2"/>
          <a:stretch/>
        </p:blipFill>
        <p:spPr>
          <a:xfrm>
            <a:off x="500040" y="1071720"/>
            <a:ext cx="2071800" cy="1546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14680" y="5143320"/>
            <a:ext cx="60004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рограмма самообразо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71680" y="407196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координацио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ей  учащихся 10-12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428760" y="142920"/>
            <a:ext cx="8429400" cy="16430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УЧИТЕЛЬ ФИЗКУЛЬТУРЫ</a:t>
            </a:r>
            <a:endParaRPr b="0" lang="en-US" sz="1800" spc="1" strike="noStrike">
              <a:ln w="19080">
                <a:solidFill>
                  <a:srgbClr val="c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44" name="Picture 4" descr="млп"/>
          <p:cNvPicPr/>
          <p:nvPr/>
        </p:nvPicPr>
        <p:blipFill>
          <a:blip r:embed="rId3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особенности развития координацио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ей учащихся общеобразовательных школ Удорского района Республики Ко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500040" y="1071720"/>
            <a:ext cx="178596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2"/>
          <a:stretch/>
        </p:blipFill>
        <p:spPr>
          <a:xfrm>
            <a:off x="2786040" y="2928960"/>
            <a:ext cx="3357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840" y="2643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Проанализировать литературу о координационных способностях (ловкости), методах ее развития, способах определения и оценки уровня развит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. Оценить уровень ловкости мальчиков и девочек 10-12 лет относительно возрастных нор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ь особенности проявления координационных способностей учащихся 10-12 лет, обучающихся в школах Удорского района Республики Ко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500040" y="1214280"/>
            <a:ext cx="1785960" cy="57168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2">
            <a:lum contrast="-10000"/>
          </a:blip>
          <a:stretch/>
        </p:blipFill>
        <p:spPr>
          <a:xfrm>
            <a:off x="6143760" y="4143240"/>
            <a:ext cx="2071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428760" y="1000080"/>
            <a:ext cx="178596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хема 2" descr=""/>
          <p:cNvPicPr/>
          <p:nvPr/>
        </p:nvPicPr>
        <p:blipFill>
          <a:blip r:embed="rId2"/>
          <a:stretch/>
        </p:blipFill>
        <p:spPr>
          <a:xfrm>
            <a:off x="1255680" y="1195560"/>
            <a:ext cx="6699240" cy="432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ballov.net/sch_img/vezuha.JPG"/>
          <p:cNvPicPr/>
          <p:nvPr/>
        </p:nvPicPr>
        <p:blipFill>
          <a:blip r:embed="rId3"/>
          <a:stretch/>
        </p:blipFill>
        <p:spPr>
          <a:xfrm>
            <a:off x="6143760" y="2214720"/>
            <a:ext cx="1500120" cy="942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Picture 6" descr="http://cs416720.vk.me/v416720888/6ff6/ksbYtAEfBaM.jpg"/>
          <p:cNvPicPr/>
          <p:nvPr/>
        </p:nvPicPr>
        <p:blipFill>
          <a:blip r:embed="rId4"/>
          <a:srcRect l="0" t="25397" r="0" b="0"/>
          <a:stretch/>
        </p:blipFill>
        <p:spPr>
          <a:xfrm>
            <a:off x="1357200" y="3571920"/>
            <a:ext cx="1571760" cy="1047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Picture 8" descr="http://syktsu.ru/files/5d28cebb0c66ba7583a18ba8024346df.jpg"/>
          <p:cNvPicPr/>
          <p:nvPr/>
        </p:nvPicPr>
        <p:blipFill>
          <a:blip r:embed="rId5"/>
          <a:stretch/>
        </p:blipFill>
        <p:spPr>
          <a:xfrm>
            <a:off x="1500120" y="2214720"/>
            <a:ext cx="1500120" cy="977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Прямоугольник 9"/>
          <p:cNvSpPr/>
          <p:nvPr/>
        </p:nvSpPr>
        <p:spPr>
          <a:xfrm>
            <a:off x="6072120" y="3643200"/>
            <a:ext cx="157176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00040" y="121428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500040" y="4786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8001000" y="12859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3500280" y="55008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рель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Схема 1" descr=""/>
          <p:cNvPicPr/>
          <p:nvPr/>
        </p:nvPicPr>
        <p:blipFill>
          <a:blip r:embed="rId2"/>
          <a:stretch/>
        </p:blipFill>
        <p:spPr>
          <a:xfrm>
            <a:off x="853920" y="1122480"/>
            <a:ext cx="7656840" cy="4539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428760" y="1000080"/>
            <a:ext cx="178596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1214280" y="1785960"/>
          <a:ext cx="6858000" cy="3929040"/>
        </p:xfrm>
        <a:graphic>
          <a:graphicData uri="http://schemas.openxmlformats.org/drawingml/2006/table">
            <a:tbl>
              <a:tblPr/>
              <a:tblGrid>
                <a:gridCol w="1366920"/>
                <a:gridCol w="1368360"/>
                <a:gridCol w="1366920"/>
                <a:gridCol w="1378080"/>
                <a:gridCol w="1377720"/>
              </a:tblGrid>
              <a:tr h="324000">
                <a:tc gridSpan="2" rowSpan="3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Ш Удорского райо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Чернутье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гт. Усогорс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Косла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±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+0,1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8 ±0,1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9 ± 0,2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62 + 0,1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96 ± 0,4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85 ± 0,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 + 1,0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 ± 0,9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 ± 0,7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1 + 1,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 ±1,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3 ±0,9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6 + 0,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685 ±0,2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2 ±0,2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4 + 0,5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41 ±0,4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3 ±0,2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71 ±0,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42 ±0,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1+0,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68 + 0,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15 ±0,0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55 + 0,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52 + 0,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5 ±0,1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36 + 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 ±1,4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9 ± 0,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84 ± 0,2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Прямоугольник 4"/>
          <p:cNvSpPr/>
          <p:nvPr/>
        </p:nvSpPr>
        <p:spPr>
          <a:xfrm>
            <a:off x="428760" y="1000080"/>
            <a:ext cx="178596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1523880" y="930960"/>
            <a:ext cx="66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зультаты выполнения тестов на ловк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чащихся школ  Удорского района, 10-1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928800" y="2143080"/>
            <a:ext cx="7429320" cy="3159000"/>
          </a:xfrm>
          <a:prstGeom prst="rect">
            <a:avLst/>
          </a:prstGeom>
          <a:ln w="0">
            <a:noFill/>
          </a:ln>
        </p:spPr>
      </p:pic>
      <p:sp>
        <p:nvSpPr>
          <p:cNvPr id="142" name="Минус 6"/>
          <p:cNvSpPr/>
          <p:nvPr/>
        </p:nvSpPr>
        <p:spPr>
          <a:xfrm>
            <a:off x="2357280" y="4786200"/>
            <a:ext cx="714600" cy="285840"/>
          </a:xfrm>
          <a:custGeom>
            <a:avLst/>
            <a:gdLst>
              <a:gd name="textAreaLeft" fmla="*/ 94680 w 714600"/>
              <a:gd name="textAreaRight" fmla="*/ 619920 w 71460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инус 7"/>
          <p:cNvSpPr/>
          <p:nvPr/>
        </p:nvSpPr>
        <p:spPr>
          <a:xfrm>
            <a:off x="5214960" y="478620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428760" y="1000080"/>
            <a:ext cx="4000320" cy="71460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Три кувырка 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"/>
          <p:cNvPicPr/>
          <p:nvPr/>
        </p:nvPicPr>
        <p:blipFill>
          <a:blip r:embed="rId2"/>
          <a:stretch/>
        </p:blipFill>
        <p:spPr>
          <a:xfrm>
            <a:off x="496800" y="2214720"/>
            <a:ext cx="802656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571680" y="1071720"/>
            <a:ext cx="664344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Бросок мяча в цель, стоя к ней сп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инус 5"/>
          <p:cNvSpPr/>
          <p:nvPr/>
        </p:nvSpPr>
        <p:spPr>
          <a:xfrm>
            <a:off x="2071800" y="5143680"/>
            <a:ext cx="714240" cy="28548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080 h 285480"/>
              <a:gd name="textAreaBottom" fmla="*/ 176400 h 28548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инус 6"/>
          <p:cNvSpPr/>
          <p:nvPr/>
        </p:nvSpPr>
        <p:spPr>
          <a:xfrm>
            <a:off x="5143680" y="5143680"/>
            <a:ext cx="714240" cy="28548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080 h 285480"/>
              <a:gd name="textAreaBottom" fmla="*/ 176400 h 28548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7996320" cy="34196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71680" y="1071720"/>
            <a:ext cx="42145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Прыжок вниз на разм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инус 5"/>
          <p:cNvSpPr/>
          <p:nvPr/>
        </p:nvSpPr>
        <p:spPr>
          <a:xfrm>
            <a:off x="2000160" y="4929120"/>
            <a:ext cx="714600" cy="285840"/>
          </a:xfrm>
          <a:custGeom>
            <a:avLst/>
            <a:gdLst>
              <a:gd name="textAreaLeft" fmla="*/ 94680 w 714600"/>
              <a:gd name="textAreaRight" fmla="*/ 619920 w 71460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инус 6"/>
          <p:cNvSpPr/>
          <p:nvPr/>
        </p:nvSpPr>
        <p:spPr>
          <a:xfrm>
            <a:off x="514368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"/>
          <p:cNvPicPr/>
          <p:nvPr/>
        </p:nvPicPr>
        <p:blipFill>
          <a:blip r:embed="rId2"/>
          <a:stretch/>
        </p:blipFill>
        <p:spPr>
          <a:xfrm>
            <a:off x="785880" y="2000160"/>
            <a:ext cx="747720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571680" y="1071720"/>
            <a:ext cx="42145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еакция - 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инус 5"/>
          <p:cNvSpPr/>
          <p:nvPr/>
        </p:nvSpPr>
        <p:spPr>
          <a:xfrm>
            <a:off x="228600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инус 6"/>
          <p:cNvSpPr/>
          <p:nvPr/>
        </p:nvSpPr>
        <p:spPr>
          <a:xfrm>
            <a:off x="5072040" y="485784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2"/>
          <a:stretch/>
        </p:blipFill>
        <p:spPr>
          <a:xfrm>
            <a:off x="785880" y="2071800"/>
            <a:ext cx="7610400" cy="33573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571680" y="1071720"/>
            <a:ext cx="53575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ина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инус 4"/>
          <p:cNvSpPr/>
          <p:nvPr/>
        </p:nvSpPr>
        <p:spPr>
          <a:xfrm>
            <a:off x="307188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инус 5"/>
          <p:cNvSpPr/>
          <p:nvPr/>
        </p:nvSpPr>
        <p:spPr>
          <a:xfrm>
            <a:off x="5500800" y="4929120"/>
            <a:ext cx="714240" cy="285840"/>
          </a:xfrm>
          <a:custGeom>
            <a:avLst/>
            <a:gdLst>
              <a:gd name="textAreaLeft" fmla="*/ 94680 w 714240"/>
              <a:gd name="textAreaRight" fmla="*/ 619560 w 714240"/>
              <a:gd name="textAreaTop" fmla="*/ 109440 h 285840"/>
              <a:gd name="textAreaBottom" fmla="*/ 176400 h 285840"/>
            </a:gdLst>
            <a:ahLst/>
            <a:rect l="textAreaLeft" t="textAreaTop" r="textAreaRight" b="textAreaBottom"/>
            <a:pathLst>
              <a:path w="714375" h="285750">
                <a:moveTo>
                  <a:pt x="94690" y="109271"/>
                </a:moveTo>
                <a:lnTo>
                  <a:pt x="619685" y="109271"/>
                </a:lnTo>
                <a:lnTo>
                  <a:pt x="619685" y="176479"/>
                </a:lnTo>
                <a:lnTo>
                  <a:pt x="94690" y="176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500040" y="1000080"/>
            <a:ext cx="1785960" cy="571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2857680"/>
            <a:ext cx="8786880" cy="13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кон «Об образовании в Российской Федерации от 29 декабря 2012 г. № 273-ФЗ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Правительства РФ «Федеральная Национальная доктрина образования в Российской Федерации» от 04.10.2000г. № 751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азисный учебный план общеобразовательных учреждений РФ. Приказ МО РФ от  30.08.2011г. № 1312 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кон «О физической культуре и спорте в РФ» от  21.04 2011г. №329-ФЗ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физической культуры и спорта на период до 2020г. Распоряжение правительства РФ от 07.08.2009г. № 1101-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214560" y="1571760"/>
            <a:ext cx="9644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Ловкость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это способнос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успешно справляться с любой двигательной задач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быстро и правильно найти выход из ситуац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одна из высших форм управления движения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сложное психофизическое качество человек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комплекс координационных способностей.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571680" y="1071720"/>
            <a:ext cx="17143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Заголовок 1"/>
          <p:cNvSpPr/>
          <p:nvPr/>
        </p:nvSpPr>
        <p:spPr>
          <a:xfrm>
            <a:off x="357120" y="3286080"/>
            <a:ext cx="82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растной период с 6-7 до 10-12 лет наиболее благоприятный для развития координационных способностей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сновные средства развития координационных способностей  - разнообразные , сложные физические упражнения по координации работы нервно-мышечного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1439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координационных способно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ьч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школ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.Чернутьево оценены как «выше среднего», а СОШ гпУсогорск и с.Кослан – «высокие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координационных способно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воч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ОУ «Чернутьевская СОШ» оценивается как «выше среднего», а у их сверстниц из МОУ «Усогорская СОШ с УИОП» и МОУ «Косланская СОШ» – «средний»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ординационные способно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дорского района Республики Коми в возрасте 10-12 лет  находятся в предела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редне - высоком уров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571680" y="1071720"/>
            <a:ext cx="171432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pedsovet.su/_ld/405/72441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5"/>
          <p:cNvSpPr/>
          <p:nvPr/>
        </p:nvSpPr>
        <p:spPr>
          <a:xfrm>
            <a:off x="500040" y="1071720"/>
            <a:ext cx="1714680" cy="71424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omschool45.narod.ru/pic/deviz_olimp.jpg"/>
          <p:cNvPicPr/>
          <p:nvPr/>
        </p:nvPicPr>
        <p:blipFill>
          <a:blip r:embed="rId2"/>
          <a:stretch/>
        </p:blipFill>
        <p:spPr>
          <a:xfrm>
            <a:off x="571680" y="1143000"/>
            <a:ext cx="407160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3000240" y="3786120"/>
            <a:ext cx="5715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ше нас только звёзд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виз военной разве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pedsovet.su/_ld/405/27514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00032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здоровительная гимнастика для педагог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ОУ «Усогорская средняя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бщеобразовательная школа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с углубленным изучением отдельных предметов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G:\Нобелевская. ДАША\на  призентацию\WHq2UgTJklg.jpg"/>
          <p:cNvPicPr/>
          <p:nvPr/>
        </p:nvPicPr>
        <p:blipFill>
          <a:blip r:embed="rId2"/>
          <a:stretch/>
        </p:blipFill>
        <p:spPr>
          <a:xfrm>
            <a:off x="500040" y="1071720"/>
            <a:ext cx="3427560" cy="2571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pedsovet.su/_ld/405/27514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omschool45.narod.ru/pic/deviz_olimp.jpg"/>
          <p:cNvPicPr/>
          <p:nvPr/>
        </p:nvPicPr>
        <p:blipFill>
          <a:blip r:embed="rId2"/>
          <a:stretch/>
        </p:blipFill>
        <p:spPr>
          <a:xfrm>
            <a:off x="571680" y="1857240"/>
            <a:ext cx="7929360" cy="19130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3357720" y="4071960"/>
            <a:ext cx="535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очешь стать сильнее?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аг первый. Осознай, что ты слаб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аг второй. Меняй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inpearl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428760" y="142920"/>
            <a:ext cx="8429400" cy="16430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УЧИТЕЛЬ ФИЗКУЛЬТУРЫ</a:t>
            </a:r>
            <a:endParaRPr b="0" lang="en-US" sz="1800" spc="1" strike="noStrike">
              <a:ln w="19080">
                <a:solidFill>
                  <a:srgbClr val="c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183" name="Picture 4" descr="млп"/>
          <p:cNvPicPr/>
          <p:nvPr/>
        </p:nvPicPr>
        <p:blipFill>
          <a:blip r:embed="rId3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"/>
          <p:cNvSpPr/>
          <p:nvPr/>
        </p:nvSpPr>
        <p:spPr>
          <a:xfrm>
            <a:off x="500040" y="1714680"/>
            <a:ext cx="82152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Базисный учебный план общеобразовательных учреждений РФ. Приказ МО РФ от  30.08.2011г. № 13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Закон «Об образовании в Российской Федерации от 29 декабря 2012 г. № 273-ФЗ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Закон «О физической культуре и спорте в РФ» от  21.04 2011г. №329-ФЗ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Приказ Министерства образования Республики Ко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рисвоении статуса республиканских пилотных площа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введению ФГОС основного обще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Коми» от 25 сентября 2012 года № 3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Стратегия развития физической культуры и спорта на период до 2020г. Распоряжение правительства РФ от 07.08.2009г. № 1101-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xn--80abucjiibhv9a.x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inpearl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500040" y="1071720"/>
            <a:ext cx="4357800" cy="64296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28600" y="1357200"/>
            <a:ext cx="5715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а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а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и Ко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 присвоении статуса республиканск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лотных площад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ведению ФГ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Ком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5 сентября 2012 года № 3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img1.labirint.ru/books/360652/big.jpg"/>
          <p:cNvPicPr/>
          <p:nvPr/>
        </p:nvPicPr>
        <p:blipFill>
          <a:blip r:embed="rId2"/>
          <a:srcRect l="0" t="1945" r="0" b="3001"/>
          <a:stretch/>
        </p:blipFill>
        <p:spPr>
          <a:xfrm>
            <a:off x="571680" y="1000080"/>
            <a:ext cx="2352600" cy="3456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bnkomi.ru/content/news/images/18667/Godspor_prev_original.jpg"/>
          <p:cNvPicPr/>
          <p:nvPr/>
        </p:nvPicPr>
        <p:blipFill>
          <a:blip r:embed="rId2"/>
          <a:stretch/>
        </p:blipFill>
        <p:spPr>
          <a:xfrm>
            <a:off x="500040" y="1000080"/>
            <a:ext cx="3470400" cy="31431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53" name="Прямоугольник 4"/>
          <p:cNvSpPr/>
          <p:nvPr/>
        </p:nvSpPr>
        <p:spPr>
          <a:xfrm>
            <a:off x="3857760" y="1643040"/>
            <a:ext cx="50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ы Республики Ко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19 декабря 2012 г. № 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"О Годе физической культуры и 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Коми"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071960" y="2295720"/>
            <a:ext cx="485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Ук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Главы Республики К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от 31 декабря 2013 г. №1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«О Годе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Calibri"/>
              </a:rPr>
              <a:t>в Республике Ко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http://www.culturerk.narod.ru/pic/god_zdoroviya.jpeg"/>
          <p:cNvPicPr/>
          <p:nvPr/>
        </p:nvPicPr>
        <p:blipFill>
          <a:blip r:embed="rId2"/>
          <a:stretch/>
        </p:blipFill>
        <p:spPr>
          <a:xfrm>
            <a:off x="428760" y="1071720"/>
            <a:ext cx="3643200" cy="3024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85880" y="3642840"/>
            <a:ext cx="7929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itius, Altius, Fortius!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Быстрее, Выше, Сильнее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857160" y="1285920"/>
            <a:ext cx="85010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—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 развитая личнос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репление и сохранение здоровья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ные действия и навыки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овая деятельность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отд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http://pedsovet.su/_ld/405/57679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500040" y="1071720"/>
            <a:ext cx="164304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хема 2" descr=""/>
          <p:cNvPicPr/>
          <p:nvPr/>
        </p:nvPicPr>
        <p:blipFill>
          <a:blip r:embed="rId2"/>
          <a:stretch/>
        </p:blipFill>
        <p:spPr>
          <a:xfrm>
            <a:off x="407880" y="1036800"/>
            <a:ext cx="846792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pedsovet.su/_ld/405/9166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00040" y="1071720"/>
            <a:ext cx="1500120" cy="571320"/>
          </a:xfrm>
          <a:prstGeom prst="rect">
            <a:avLst/>
          </a:prstGeom>
          <a:solidFill>
            <a:srgbClr val="dfe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\\Admin\секретарь\Паршуков\учитель года\P9010013.JPG"/>
          <p:cNvPicPr/>
          <p:nvPr/>
        </p:nvPicPr>
        <p:blipFill>
          <a:blip r:embed="rId2"/>
          <a:stretch/>
        </p:blipFill>
        <p:spPr>
          <a:xfrm>
            <a:off x="1643040" y="1643040"/>
            <a:ext cx="5786640" cy="3929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Рисунок 5" descr="http://omschool45.narod.ru/pic/deviz_olimp.jpg"/>
          <p:cNvPicPr/>
          <p:nvPr/>
        </p:nvPicPr>
        <p:blipFill>
          <a:blip r:embed="rId3"/>
          <a:stretch/>
        </p:blipFill>
        <p:spPr>
          <a:xfrm>
            <a:off x="428760" y="1000080"/>
            <a:ext cx="37861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3:44:29Z</dcterms:created>
  <dc:creator>ЗД по ВР</dc:creator>
  <dc:description/>
  <dc:language>en-US</dc:language>
  <cp:lastModifiedBy>Инга</cp:lastModifiedBy>
  <dcterms:modified xsi:type="dcterms:W3CDTF">2016-10-03T18:03:18Z</dcterms:modified>
  <cp:revision>178</cp:revision>
  <dc:subject/>
  <dc:title>Слайд 1</dc:title>
</cp:coreProperties>
</file>