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30F4-6EFF-4DE3-A648-5AE59E029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5B74-8FE7-4A80-853D-A1EC16D4B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9B32-2E0B-4036-8925-C5E71AAAA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5B11-3804-42A0-86FE-B08DEC20F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1D4-5048-4CA5-9199-08A2E6A2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A28-016A-4858-A42F-88F24C5F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87341-CDC1-4916-958A-F05F850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4C88A-7882-4550-887E-BECB396D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E1282-1E49-4B34-94B2-45F11EE0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396A1-53DB-4F59-A17E-8CD5733F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14F4-181F-4E55-8055-7E91EA30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A3BD1-361D-4687-9B3A-DA21E9A4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2CACD-1811-4715-8F85-54884CF3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577B2-A342-434F-9024-ED08A93E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5DAB3-A2A6-4AF1-AE1B-8DFD2C85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BCC-7543-4DB7-B0B1-D199123B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267-CCC7-4F64-B8C9-1F4738CF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4818-CF4A-4672-BFA6-9D64DFF9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E037-7298-45ED-BB53-69F4BD82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BCD4-5C0E-4D34-8487-014FCCCB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E937-CDB4-4A55-A9CF-432F4A94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C266-9357-48BA-9598-5C5C7028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ADF3-8B54-461D-877A-6C29948C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3C9A-00FB-4046-90F3-70FC311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4E1-24DB-4A8A-AC59-00A9096D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E194-162C-413C-8C13-2F6349AF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6F25-428C-4985-8C50-FA7521B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7EDF-389D-4ED2-9489-5870F6A0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808A-3F4D-4C4A-995F-F0A04EDC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724B-541F-41AF-B5C7-6B3F4293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916D-5462-4CEA-AAFE-8BC6D690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95B1-5F00-48A1-9A62-5C0D6F77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3FFE-E6FB-45C6-AE86-EE31DBB2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DDE7-C9AF-4A0B-9290-3F5D7B6B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C6ED-602D-4B14-A357-DECD4258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86E-9894-4956-A44F-84BADEA0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FDA3-0110-4944-81C7-E20203CF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8E3D8-8F11-4577-965C-78F331AD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BF19-2044-4D16-980F-5D761C86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8E22-FE27-4FA5-B7B7-038A5A4A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4AE3-03A4-42EB-8991-DE435C04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F71B-7142-4F15-8FF5-BBA75114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FA38-7BAE-4C00-8E24-BB63A099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7438-2E46-4142-821E-51F06725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ADDC1-5A48-4D63-A996-966F352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4B184-9A7C-465E-A815-98F84010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6F7-0B6C-4816-A6BC-FD90804A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DAB3B-9A4F-4382-8426-4C0EA2E5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21E4-E850-419D-836F-CF04435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948B-3B23-4716-A719-7CBAB5E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9858-4E3B-4FCF-B2E7-E808910C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573CC-AD8D-4794-89A4-CD89303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035F-AB1E-4D53-AC7A-6328687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E4F5-D014-49AE-8EE8-91155602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5B3F3-9B7C-45F6-AC4D-E6655EED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4011-1A57-44D0-A23A-AA4273FC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2C1F-2682-4D82-9C45-2B8E23BA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1B8-296B-423F-AAC6-F0214891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8BDBC-B8C7-49EE-81E2-CDE2D3C6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2B52-7CF0-4468-9925-2BE5A9B0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F5EF-DA83-4C40-A4A4-5F7583AF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5178-7DA2-4BA9-A404-39CFB3E7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B4D72-9282-4AEC-92ED-4219B3CE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A2A2-88BC-4E29-949C-A0EAA19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4C223-C6E6-4B8E-959A-6CB06930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B273-7385-4510-9DEC-657F029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87B27-3E38-4155-AF70-0E26F8FD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937FA-9A59-434A-8426-C0CEDA32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343-5905-475F-90AB-59E497C0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733C-E1B2-46FF-B97C-518BE9C3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011A-3C14-4E30-A8AB-191CBDA5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84B77-BAD6-4B08-AB65-242084A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970AA-97D2-4CA1-8E83-01B81992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87AD2-4027-43E0-8E7F-5C19D813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09BF-39B0-4893-9B20-1AEF278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03DA7-F593-4FFA-8049-7C9DD580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30941-1043-4219-9922-3E732C56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984E3-58B8-4C22-9481-4F67079A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3FD56-8193-42AF-AEAD-16E651CA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4FE-765E-4850-893B-0D821F4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9637-404A-4DF8-AD82-7E9F1901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B121B-A2E9-45FD-8EBB-F320444B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9DAFB-CF7B-4C96-9180-083DDAED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252-415B-4507-8F92-515A946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30BB8-44F9-4F40-92EF-C745FFF7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A5199-A9F8-4A17-8967-29184426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C8F4B-E996-4FD8-9DD4-1C0D3337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45E25-A037-4327-A4CD-B4E0FFB4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1AF00-C55D-4854-8CAF-228B1DFA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FE1-E6F5-457F-A006-AC5A56A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94CE-8281-4005-B6E3-9A0310EA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C5B92-4DAA-4E08-99EB-ABCA8000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6CA1A-E9E7-497F-9B05-63C4057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1EF5E-EE38-4A4A-B6C0-B687515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E1A5A-8A82-4917-9B17-61A367DB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0245E-C0D1-4A70-8C87-FEAAF3F3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66E6D-40F6-4D6D-A5C4-F83D6B05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BDFF7-C516-41F4-9380-FBDA14C9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14659-53E0-4A12-8F6D-AE3E9436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D7EC4-E541-4D87-A03E-14C171F2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BDE3-3CB5-43DB-8183-FB122043ECF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04DE-F9E1-4FEA-A0D5-19910486E4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1658-2896-40A8-892E-79F56852D6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09A-53DB-4C14-88D3-9229C6198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7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2767-E80E-47A5-98DB-56A2BEAA76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E868-D319-4808-B06A-A793C92E1E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4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3F77-5E47-4036-A897-51291BD85C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4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337-8DEB-4E1D-A70F-CF6E0DD7A8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4800" spc="-1" strike="noStrike">
                <a:solidFill>
                  <a:srgbClr val="9f2936"/>
                </a:solidFill>
                <a:latin typeface="Times New Roman"/>
              </a:rPr>
              <a:t>«Основы религиозной культуры и светской этики</a:t>
            </a:r>
            <a:br>
              <a:rPr sz="4800"/>
            </a:br>
            <a:r>
              <a:rPr b="1" lang="ru-RU" sz="4800" spc="-1" strike="noStrike">
                <a:solidFill>
                  <a:srgbClr val="9f2936"/>
                </a:solidFill>
                <a:latin typeface="Times New Roman"/>
              </a:rPr>
              <a:t>(ОРКСЭ)» </a:t>
            </a:r>
            <a:br>
              <a:rPr sz="4800"/>
            </a:b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86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496040" cy="4724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 знакомит учащихся с основами светской этики. Что такое добро и зло, добродетель и порок, альтруизм и эгоизм? Что значит быть моральным? В этих и других вопросах поможет школьникам разобраться светская этика. Учащиеся узнают о том, что такое настоящий друг, честь и достоинство, стыд и совесть, этикет, и о многом друг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тская этика даст знания, которые помогут учащимся самостоятельно совершать моральные поступки, а значит, сделать свою жизнь и жизнь других людей лучш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2136240" y="609120"/>
            <a:ext cx="5110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Основы светской эт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10" descr="Attachment"/>
          <p:cNvPicPr/>
          <p:nvPr/>
        </p:nvPicPr>
        <p:blipFill>
          <a:blip r:embed="rId1"/>
          <a:stretch/>
        </p:blipFill>
        <p:spPr>
          <a:xfrm>
            <a:off x="5334120" y="1828800"/>
            <a:ext cx="29574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60480" y="990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Основы исламской культуры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комит школьников с основами духовно-нравственной культуры ислама. Учащиеся узнают о жизни пророка Мухаммада, об истории появления, основах ислама и исламской этики, об обязанностях мусульман. Обращаясь к Корану, авторы подчёркивают значение этой книги как источником нравственности. Особое место в пособии уделено жизни мусульман в современной Росс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5" descr="Attachment"/>
          <p:cNvPicPr/>
          <p:nvPr/>
        </p:nvPicPr>
        <p:blipFill>
          <a:blip r:embed="rId1"/>
          <a:stretch/>
        </p:blipFill>
        <p:spPr>
          <a:xfrm>
            <a:off x="5029200" y="1600200"/>
            <a:ext cx="317340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6048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Основы буддийской культуры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 в доступной для учащихся 4 классов форме знакомит с основами буддийской культуры: ее основателем, буддийским учением, нравственными ценностями, священными книгами, ритуалами, святынями, праздниками, искусством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5" descr="Attachment"/>
          <p:cNvPicPr/>
          <p:nvPr/>
        </p:nvPicPr>
        <p:blipFill>
          <a:blip r:embed="rId1"/>
          <a:stretch/>
        </p:blipFill>
        <p:spPr>
          <a:xfrm>
            <a:off x="990720" y="1600200"/>
            <a:ext cx="3431880" cy="456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65760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комит с основами иудейской культуры и раскрывает её значение в формировании личности иудея и его поведении в повседневной жизни, а также её влияние на историю еврейского народа и мировые религии  - христианство и ислам, показывает жизнь евреев в Росс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2082240" y="609120"/>
            <a:ext cx="5644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Основы иудейской куль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Picture 7" descr="Attachment"/>
          <p:cNvPicPr/>
          <p:nvPr/>
        </p:nvPicPr>
        <p:blipFill>
          <a:blip r:embed="rId1"/>
          <a:stretch/>
        </p:blipFill>
        <p:spPr>
          <a:xfrm>
            <a:off x="5116680" y="1676520"/>
            <a:ext cx="27702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CB69-3DA7-4B10-BA67-F0EFAC3FBBA3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611280" y="155736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6"/>
          <p:cNvSpPr/>
          <p:nvPr/>
        </p:nvSpPr>
        <p:spPr>
          <a:xfrm>
            <a:off x="611280" y="285264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6666ff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611280" y="407664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6666ff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611280" y="5229360"/>
            <a:ext cx="2808360" cy="8636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539640" y="1628640"/>
            <a:ext cx="29527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лок 1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  <a:ea typeface="Arial"/>
              </a:rPr>
              <a:t>(общий для всех модулей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611280" y="5229360"/>
            <a:ext cx="2881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лок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  <a:ea typeface="Arial"/>
              </a:rPr>
              <a:t>(общий для всех модулей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4356000" y="1700280"/>
            <a:ext cx="42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4067280" y="148428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. Духовные ценности и нрав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ные идеалы в жизни человека и общества </a:t>
            </a:r>
            <a:r>
              <a:rPr b="0" lang="ru-RU" sz="2000" spc="-1" strike="noStrike">
                <a:solidFill>
                  <a:srgbClr val="ff3737"/>
                </a:solidFill>
                <a:latin typeface="Arial"/>
                <a:ea typeface="Arial"/>
              </a:rPr>
              <a:t>(1 ча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3564000" y="1916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14"/>
          <p:cNvSpPr/>
          <p:nvPr/>
        </p:nvSpPr>
        <p:spPr>
          <a:xfrm>
            <a:off x="356400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15"/>
          <p:cNvSpPr/>
          <p:nvPr/>
        </p:nvSpPr>
        <p:spPr>
          <a:xfrm>
            <a:off x="3564000" y="450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16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4067280" y="299736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ы религиозных культур и светской этики. Часть 1 </a:t>
            </a:r>
            <a:r>
              <a:rPr b="0" lang="ru-RU" sz="2000" spc="-1" strike="noStrike">
                <a:solidFill>
                  <a:srgbClr val="ff3737"/>
                </a:solidFill>
                <a:latin typeface="Arial"/>
                <a:ea typeface="Arial"/>
              </a:rPr>
              <a:t>(16 час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1187280" y="306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лок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1187280" y="429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лок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4140360" y="4221000"/>
            <a:ext cx="45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ы религиозных культур и светской этики. Часть 2 </a:t>
            </a:r>
            <a:r>
              <a:rPr b="0" lang="ru-RU" sz="2000" spc="-1" strike="noStrike">
                <a:solidFill>
                  <a:srgbClr val="ff3737"/>
                </a:solidFill>
                <a:latin typeface="Arial"/>
                <a:ea typeface="Arial"/>
              </a:rPr>
              <a:t>(12 час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4140360" y="537372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уховные традиции многонационального народа России </a:t>
            </a:r>
            <a:r>
              <a:rPr b="0" lang="ru-RU" sz="2000" spc="-1" strike="noStrike">
                <a:solidFill>
                  <a:srgbClr val="ff3737"/>
                </a:solidFill>
                <a:latin typeface="Arial"/>
                <a:ea typeface="Arial"/>
              </a:rPr>
              <a:t>(5 час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AutoShape 22"/>
          <p:cNvSpPr/>
          <p:nvPr/>
        </p:nvSpPr>
        <p:spPr>
          <a:xfrm>
            <a:off x="324000" y="1484280"/>
            <a:ext cx="215640" cy="230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AutoShape 23"/>
          <p:cNvSpPr/>
          <p:nvPr/>
        </p:nvSpPr>
        <p:spPr>
          <a:xfrm>
            <a:off x="324000" y="3933720"/>
            <a:ext cx="215640" cy="230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Блок1. Духовные ценности и нравственные идеалы </a:t>
            </a:r>
            <a:br>
              <a:rPr sz="2200"/>
            </a:b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в жизни человека и общества (1 ч.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04920" y="1599840"/>
            <a:ext cx="8610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вый урок называется - «Наш дом – Россия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учающиеся узнают о единстве многонациональног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оссийского народа, о многообразии культурных, духовных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лигиозных традиций; что такое «духовность», «традиция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равственные ценности», какое значение они имеют в жизн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еловека, семьи, обществ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водится мысль, что при явном различии наших взглядов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мир, при том, что все люди разные, мы – народ России – едины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 нас общий язык, культура, история, территория, государство, и главное - сходные нравственные основы, делающие нас людьм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отношению друг к друг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FC3-B4DA-4C6A-92DC-69A0D21B779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Блок 2.    Основы традиционных религий                            и светской этики (16 ч.)</a:t>
            </a:r>
            <a:br>
              <a:rPr sz="2300"/>
            </a:b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ходе изучения второго блока учащиеся должны получить системные знания о культуре православия, культуре ислама, культуре буддизма, культуре иудаизма, других мировых религий, а также о светской этик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блок завершается подведением итогов по пройденному материалу и несложными творческими работ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715B-3DE1-4451-BC05-1CC4F55F7F6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Блок 3.Традиционные религии</a:t>
            </a:r>
            <a:br>
              <a:rPr sz="23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 и этика в России (12 ч.)</a:t>
            </a:r>
            <a:br>
              <a:rPr sz="2300"/>
            </a:b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3352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ется знакомство учащихся с общими основами религий и этики, но уже с учетом культурно-исторических особенностей нашей страны и конкретного региона, где проживает семья обучающего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держании блока большое место занимает семья, ценности семейной жиз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Родины, патриотизма, гражданственности, любви к родной земле служения Отечеству определяет направленность большинства тем этого блока как в историческом, так и в современном контекста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9125-483A-4782-B9AD-FFA32B4B12D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Блок 4. Духовные традиции </a:t>
            </a:r>
            <a:br>
              <a:rPr sz="2300"/>
            </a:br>
            <a:r>
              <a:rPr b="1" lang="ru-RU" sz="2300" spc="-1" strike="noStrike">
                <a:solidFill>
                  <a:srgbClr val="990033"/>
                </a:solidFill>
                <a:latin typeface="Times New Roman"/>
              </a:rPr>
              <a:t>многонационального народа России (5 ч.)</a:t>
            </a:r>
            <a:br>
              <a:rPr sz="2300"/>
            </a:br>
            <a:endParaRPr b="1" lang="en-US" sz="2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828440"/>
            <a:ext cx="8686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дит презентация индивидуальных и коллектив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х проек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2C83-4C51-4BC9-9BC7-C6ACC727777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19320" y="1676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Times New Roman"/>
              </a:rPr>
              <a:t>Один из модулей изучается обучающимся </a:t>
            </a:r>
            <a:br>
              <a:rPr sz="3200"/>
            </a:br>
            <a:r>
              <a:rPr b="0" i="1" lang="ru-RU" sz="3200" spc="-1" strike="noStrike">
                <a:solidFill>
                  <a:srgbClr val="990033"/>
                </a:solidFill>
                <a:latin typeface="Times New Roman"/>
              </a:rPr>
              <a:t>с его согласия и по выбору его родителей</a:t>
            </a:r>
            <a:br>
              <a:rPr sz="3200"/>
            </a:br>
            <a:r>
              <a:rPr b="0" i="1" lang="ru-RU" sz="3200" spc="-1" strike="noStrike">
                <a:solidFill>
                  <a:srgbClr val="990033"/>
                </a:solidFill>
                <a:latin typeface="Times New Roman"/>
              </a:rPr>
              <a:t> (законных представителей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&quot;Основы религиозных культур и светской этики&quot; С 2009 года в 19 регионах РФ начался эксперимент по изучению в школах духовно-нравственных дисциплин. В сентябре 2010 года Президентом Российской Федерации подписано письмо о вступление в процесс апробации Республики Марий Эл Изучение курса начинается с третьей четверти 4 класса и продолжается в первой четверти 5-го класса Родители смогут добовольно выбрать один из модулей четырех традиционных религий России из мировых религиозных культур либо основы светской этики."/>
          <p:cNvPicPr/>
          <p:nvPr/>
        </p:nvPicPr>
        <p:blipFill>
          <a:blip r:embed="rId1"/>
          <a:stretch/>
        </p:blipFill>
        <p:spPr>
          <a:xfrm>
            <a:off x="3962520" y="3657600"/>
            <a:ext cx="44956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990033"/>
                </a:solidFill>
                <a:uFillTx/>
                <a:latin typeface="Times New Roman"/>
              </a:rPr>
              <a:t>Нормативно-правовой основой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  введения в общеобразовательных учреждениях РФ комплексного учебного курса «ОРКСЭ» являются: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62120" y="29718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buClr>
                <a:srgbClr val="99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ручение Президента РФ от 2 августа 2009 г.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99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аспоряжение председателя правительства РФ от 11 августа 2009 г.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9900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 2012 года преподавание учебного курса ОРКСЭ осуществляется  во всех субъектах Р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11" descr="rusflaga"/>
          <p:cNvPicPr/>
          <p:nvPr/>
        </p:nvPicPr>
        <p:blipFill>
          <a:blip r:embed="rId1"/>
          <a:stretch/>
        </p:blipFill>
        <p:spPr>
          <a:xfrm>
            <a:off x="228600" y="228600"/>
            <a:ext cx="2266920" cy="123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Documents and Settings\SSA\Рабочий стол\slide-5-1024_2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179b"/>
                </a:solidFill>
                <a:latin typeface="Times New Roman"/>
              </a:rPr>
              <a:t>Духовно-нравственное воспитание направлено на усвоение подрастающим поколением нравственных ценностей, обеспечивающих общественно-значимую мотивацию поведения и поступков, ориентацию в разнообразных жизненных ситуациях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5" name="Group 2"/>
          <p:cNvGrpSpPr/>
          <p:nvPr/>
        </p:nvGrpSpPr>
        <p:grpSpPr>
          <a:xfrm>
            <a:off x="5867280" y="3886200"/>
            <a:ext cx="2160360" cy="2231640"/>
            <a:chOff x="5867280" y="3886200"/>
            <a:chExt cx="2160360" cy="2231640"/>
          </a:xfrm>
        </p:grpSpPr>
        <p:pic>
          <p:nvPicPr>
            <p:cNvPr id="406" name="Picture 3" descr="42"/>
            <p:cNvPicPr/>
            <p:nvPr/>
          </p:nvPicPr>
          <p:blipFill>
            <a:blip r:embed="rId1"/>
            <a:stretch/>
          </p:blipFill>
          <p:spPr>
            <a:xfrm>
              <a:off x="6035400" y="4405680"/>
              <a:ext cx="17791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4" descr=""/>
            <p:cNvPicPr/>
            <p:nvPr/>
          </p:nvPicPr>
          <p:blipFill>
            <a:blip r:embed="rId2"/>
            <a:srcRect l="10369" t="0" r="13572" b="0"/>
            <a:stretch/>
          </p:blipFill>
          <p:spPr>
            <a:xfrm>
              <a:off x="5867280" y="3886200"/>
              <a:ext cx="2160360" cy="223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141870"/>
          <p:cNvPicPr/>
          <p:nvPr/>
        </p:nvPicPr>
        <p:blipFill>
          <a:blip r:embed="rId1"/>
          <a:stretch/>
        </p:blipFill>
        <p:spPr>
          <a:xfrm>
            <a:off x="1447920" y="990720"/>
            <a:ext cx="1981080" cy="18367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428640" y="761760"/>
            <a:ext cx="533412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Times New Roman"/>
              </a:rPr>
              <a:t>Цель учебного  курса </a:t>
            </a:r>
            <a:br>
              <a:rPr sz="2900"/>
            </a:br>
            <a:r>
              <a:rPr b="0" lang="ru-RU" sz="2900" spc="-1" strike="noStrike">
                <a:solidFill>
                  <a:srgbClr val="0000cc"/>
                </a:solidFill>
                <a:latin typeface="Times New Roman"/>
              </a:rPr>
              <a:t>«Основы религиозных культур и светской этики»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276720" y="2437920"/>
            <a:ext cx="5867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у младшего подростка мотиваций к осознанному нравственному поведению,  основанному   на   знании культурных  и   религиозных   традиций многонационального народа России, а также  к  диалогу   с представителями других  культур  и  мировоззр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141870"/>
          <p:cNvPicPr/>
          <p:nvPr/>
        </p:nvPicPr>
        <p:blipFill>
          <a:blip r:embed="rId1"/>
          <a:stretch/>
        </p:blipFill>
        <p:spPr>
          <a:xfrm>
            <a:off x="1219320" y="1219320"/>
            <a:ext cx="1828800" cy="16970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76360" y="2286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Задачи учебного  курса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«Основы религиозных культур и светской этики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3043080" y="1600200"/>
            <a:ext cx="60678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017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комство обучающихся с основами православно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сульманской, буддийской, иудейской культур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ми мировых религиозных культур и светс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017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представлений младшего подрост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значении нравственных норм и ценностей д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ойной жизни личности, семьи, общест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017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е знаний, понятий и представлений 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уховной культуре и мора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017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способностей школьников к обще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лиэтнической и многоконфессиональной сред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снове взаимного уважения и диалога во и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мира и соглас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301680" y="228600"/>
            <a:ext cx="8610480" cy="636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4"/>
          <p:cNvSpPr/>
          <p:nvPr/>
        </p:nvSpPr>
        <p:spPr>
          <a:xfrm>
            <a:off x="2362320" y="0"/>
            <a:ext cx="678168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ОРКСЭ»-единая комплексная учебно-воспитательная система. Все модули  курса согласуются между собой по педагогическим целям, задачам, требованиям к результатам освоения учебного содержания, находясь в системе содержательных, понятийных, ценностно-смысловых связей с другими гуманитарными предметами начальной и основной шк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рс ОРКСЭ дополняет аспекты предмета «Окружающий мир», с которым знакомятся  учащиеся, предваряет начинающееся в 5 классе изучение предмета «Истор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Основы православной культуры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ый  модуль знакомит с основами православной культуры, раскрывает её значение и роль в жизни людей – в формировании личности человека,    его отношения к миру и людям, поведения в повседневной жиз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5" descr="Attachment"/>
          <p:cNvPicPr/>
          <p:nvPr/>
        </p:nvPicPr>
        <p:blipFill>
          <a:blip r:embed="rId1"/>
          <a:stretch/>
        </p:blipFill>
        <p:spPr>
          <a:xfrm>
            <a:off x="4952880" y="1600200"/>
            <a:ext cx="310860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Основы </a:t>
            </a:r>
            <a:br>
              <a:rPr sz="2900"/>
            </a:br>
            <a:r>
              <a:rPr b="1" lang="ru-RU" sz="2900" spc="-1" strike="noStrike">
                <a:solidFill>
                  <a:srgbClr val="990033"/>
                </a:solidFill>
                <a:latin typeface="Verdana"/>
              </a:rPr>
              <a:t>мировых религиозных культур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чётом возрастных особенностей учащихся  4 классов даются элементарные представления о возникновении, истории и особенностях религий мира, их влиянии на жизнь людей. Авторы не ставили задачи отражения в пособии дискуссионных вопросов религиозных учений и религиовед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5" descr="Attachment"/>
          <p:cNvPicPr/>
          <p:nvPr/>
        </p:nvPicPr>
        <p:blipFill>
          <a:blip r:embed="rId1"/>
          <a:stretch/>
        </p:blipFill>
        <p:spPr>
          <a:xfrm>
            <a:off x="5334120" y="1905120"/>
            <a:ext cx="3132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ина</cp:lastModifiedBy>
  <dcterms:modified xsi:type="dcterms:W3CDTF">2014-10-29T21:22:02Z</dcterms:modified>
  <cp:revision>2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