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gif" ContentType="image/gif"/>
  <Override PartName="/ppt/media/image8.gif" ContentType="image/gif"/>
  <Override PartName="/ppt/media/image1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DCAF-544A-405D-A9F9-E244A9E98E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6C7A-2FBF-4786-9BF4-DF29662C45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87E8-0119-4EF7-A229-458B358A94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12F2-BE55-483A-AF89-55B5AF3C9C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B51B-E014-4EC0-9368-3DEB22A0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4EBC-55C2-427F-A968-A262FEB0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9AB12-8686-48E9-A314-718582C8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0D33B-1855-4A60-9749-06FC8CD4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1A876-9ECB-4844-AA21-940B77A4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E58B7-54D7-4DDD-9140-204EE6A1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B5626-1382-4FCB-8AF8-3A6E89C1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5F252-AD5F-46D4-96CB-B53C3575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99B06-A9FB-4C67-A3A5-9AEA5E98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70147-5A62-4A54-9E71-C79E6FD0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EA578-B68F-4D9D-905B-90912D96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2FBE-8582-47BA-B430-C0762C1E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8977-573A-4BE4-BFCE-D65C2B68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F407-7599-4F63-A6C6-795F6907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FF6D-B805-48A3-AB47-EC4DA163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F6C5-AB19-4613-BDBC-97E5774E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EE43-9EBF-41E4-B33D-B650F3A3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8FC1-08C1-407E-B6F8-BA01F807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6EFF-19C7-4FED-B11C-32F79070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A4CF-8093-426F-9012-5DBA0B7D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274-97A2-4F34-AFD9-4EC161B1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5CA2-A893-4AF8-B61D-B0E1C3E7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A0CE-F434-46BF-9B81-56F769BE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FA35-809B-488F-AE08-7E2FA406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C59C-2885-4962-836E-3617842B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36CC-DB8F-4E57-97D2-8AD5FA8A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07F54-EAC7-4FC2-8C50-44CD9604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854F9-28F5-4257-9D1A-70B1FCEC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4E3A4-143D-4FA7-AC15-29756B26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16C04-1A2C-4E91-843F-FEEF1786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991FE-3673-4BBC-B87C-DC33B737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F65-B563-445E-BC70-E7CADC4C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B1337-625F-41D7-B66B-C0DFEE5F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271E1-6F76-4BEF-9F09-7BAB39DC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D9450-9304-4A5E-BAA9-3CF02208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318E9-E503-43AD-AF6C-9EFDEBA2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A440D-F962-4257-BA30-E6DB9938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1899F-5CF6-4F1A-A656-963749A8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3B762-8BE4-462F-AE0A-1902663C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F7B2C-F420-4603-AF60-6C399024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86963-D8E7-460A-B9C7-3CBB182B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FBE1A-F9A3-49DB-9ADF-3FDC0337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A961-AF69-4610-82D3-9B842E08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57B3F-828A-4221-BE18-EA47262F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00240-1CF2-44F1-BF40-E58F0C60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1D3E6-7E8D-4714-8212-2CD6D61A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8D072-9593-4988-A839-2CCBCD6F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141F2-ABD0-4E05-8987-6CEA9677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FDE25-EF90-4E0F-9EC6-A86E3823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435C6-AA26-4653-8742-941889CB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ED93A-CDE1-436F-8E24-6D199FBA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6F89D-ABFA-4B56-AB38-58D4C7D6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5AEB7-32ED-4D65-BAC1-A08463CD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2861-C18F-458C-A477-B8A47AB6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5A3D0-41BC-458F-8B2B-E8F2C5B1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924F2-601C-4168-90DE-C1AC8FD3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CC42E-54F5-4930-B16B-68AA83A5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9771A-2A82-4E26-BC45-94F20368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2FCF7-CA12-452F-9410-87833481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AE201-F295-4BED-821B-D164B168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A8B3E-A6E5-42A8-B519-983BA5A3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667F8-1844-4ABE-AE9A-9950ABAB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C9C0F-5223-4404-BF96-DD863D54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68A77-5312-40D5-AC99-28EFEF35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B1C-4C0F-45C8-B2D7-254F57F7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D1301-91F9-447B-B536-0196E942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F72AA-0DB7-47CF-B7CD-9B38B708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36F62-BE71-4390-AE0F-D1A79CD0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22DDF-CD5C-40C4-BB20-24714181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AC717-75BF-45E8-B877-2E2FDB8D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95C21-0B80-407C-8E07-98527863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1FC0F-C3BA-45F8-AFF4-474B6B76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AAFC3-B942-412C-B7D3-C30EC558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6B77B-1193-4078-81A4-4B2D833A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F3F43-902A-45E3-8F0C-C684D4A0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D50C-D27A-42EC-908A-B129650D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F9182-3125-47A2-9DEB-F9C4B3C9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A2CF1-E9D2-4EDE-BE31-29C3CB51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8C1B2-AF26-4765-BC36-5DE51513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04B-F233-4A04-9BE9-0046C24B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9124B-93C0-4770-BDF2-FBEE1BEE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4FE74-5403-47B8-B320-6B23A5D6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88217-1C2E-4B88-86CA-422EE702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2F18E-3A7F-4552-839D-E8B351D9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5B70E-C4A6-4B78-911C-834E19B6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24E-C93B-4C80-9A6E-0B14AE06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B18A2-93C2-4CF8-B700-82654E06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7692C-1782-4A4F-9787-F78D7441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07078-CD2D-493B-8186-CC87662B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01221-052C-468B-9B10-D7EA8488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4D635-2C59-4AC7-80DA-9B18EF58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4D24D-0692-43A2-A786-0CD6E37A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E1E33-9565-4666-BE95-9EE670C0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ADE95-19D9-47B2-BE4E-0BF67F6D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2D6F1-6A0E-4EA5-B3A2-9A83A919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1A934-2E9A-4767-BC7A-B77B4EA3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807D-EAA4-4DD0-ADFB-6742DD3F8A0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21EA-A09B-4B49-87FE-547F6CEFB2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53CA-3793-4EB6-83E0-89A6FA5EE7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4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42BB-CA78-4E58-A110-99BA814AC9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7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7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6DC5-705B-49D0-AAB0-18B26861FE4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1210-CF17-4CE6-85A2-70D32B4D898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"/>
          <p:cNvPicPr/>
          <p:nvPr/>
        </p:nvPicPr>
        <p:blipFill>
          <a:blip r:embed="rId4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CEB5-04DE-4FA0-B378-CD8124F924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"/>
          <p:cNvPicPr/>
          <p:nvPr/>
        </p:nvPicPr>
        <p:blipFill>
          <a:blip r:embed="rId4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79AA-2937-4A2B-A1D5-BF308C6EDB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4800" spc="-1" strike="noStrike">
                <a:solidFill>
                  <a:srgbClr val="9f2936"/>
                </a:solidFill>
                <a:latin typeface="Times New Roman"/>
              </a:rPr>
              <a:t>«Основы религиозной культуры и светской этики</a:t>
            </a:r>
            <a:br>
              <a:rPr sz="4800"/>
            </a:br>
            <a:r>
              <a:rPr b="1" lang="ru-RU" sz="4800" spc="-1" strike="noStrike">
                <a:solidFill>
                  <a:srgbClr val="9f2936"/>
                </a:solidFill>
                <a:latin typeface="Times New Roman"/>
              </a:rPr>
              <a:t>(ОРКСЭ)» </a:t>
            </a:r>
            <a:br>
              <a:rPr sz="4800"/>
            </a:b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1868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496040" cy="4724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уль знакомит учащихся с основами светской этики. Что такое добро и зло, добродетель и порок, альтруизм и эгоизм? Что значит быть моральным? В этих и других вопросах поможет школьникам разобраться светская этика. Учащиеся узнают о том, что такое настоящий друг, честь и достоинство, стыд и совесть, этикет, и о многом друг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тская этика даст знания, которые помогут учащимся самостоятельно совершать моральные поступки, а значит, сделать свою жизнь и жизнь других людей лучш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2136240" y="609120"/>
            <a:ext cx="5110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Основы светской эти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10" descr="Attachment"/>
          <p:cNvPicPr/>
          <p:nvPr/>
        </p:nvPicPr>
        <p:blipFill>
          <a:blip r:embed="rId1"/>
          <a:stretch/>
        </p:blipFill>
        <p:spPr>
          <a:xfrm>
            <a:off x="5334120" y="1828800"/>
            <a:ext cx="295740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60480" y="990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0033"/>
                </a:solidFill>
                <a:latin typeface="Verdana"/>
              </a:rPr>
              <a:t>Основы исламской куль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комит школьников с основами духовно-нравственной культуры ислама. Учащиеся узнают о жизни пророка Мухаммада, об истории появления, основах ислама и исламской этики, об обязанностях мусульман. Обращаясь к Корану, авторы подчёркивают значение этой книги как источником нравственности. Особое место в пособии уделено жизни мусульман в современной Росси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5" descr="Attachment"/>
          <p:cNvPicPr/>
          <p:nvPr/>
        </p:nvPicPr>
        <p:blipFill>
          <a:blip r:embed="rId1"/>
          <a:stretch/>
        </p:blipFill>
        <p:spPr>
          <a:xfrm>
            <a:off x="5029200" y="1600200"/>
            <a:ext cx="317340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60480" y="609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0033"/>
                </a:solidFill>
                <a:latin typeface="Verdana"/>
              </a:rPr>
              <a:t>Основы буддийской культуры</a:t>
            </a: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0" y="17521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ь в доступной для учащихся 4 классов форме знакомит с основами буддийской культуры: ее основателем, буддийским учением, нравственными ценностями, священными книгами, ритуалами, святынями, праздниками, искусством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2" name="Picture 5" descr="Attachment"/>
          <p:cNvPicPr/>
          <p:nvPr/>
        </p:nvPicPr>
        <p:blipFill>
          <a:blip r:embed="rId1"/>
          <a:stretch/>
        </p:blipFill>
        <p:spPr>
          <a:xfrm>
            <a:off x="990720" y="1600200"/>
            <a:ext cx="3431880" cy="4562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65760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комит с основами иудейской культуры и раскрывает её значение в формировании личности иудея и его поведении в повседневной жизни, а также её влияние на историю еврейского народа и мировые религии  - христианство и ислам, показывает жизнь евреев в России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2082240" y="609120"/>
            <a:ext cx="5644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Verdana"/>
              </a:rPr>
              <a:t>Основы иудейской куль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Picture 7" descr="Attachment"/>
          <p:cNvPicPr/>
          <p:nvPr/>
        </p:nvPicPr>
        <p:blipFill>
          <a:blip r:embed="rId1"/>
          <a:stretch/>
        </p:blipFill>
        <p:spPr>
          <a:xfrm>
            <a:off x="5116680" y="1676520"/>
            <a:ext cx="27702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9B28-06A0-479C-913E-5246B568EC70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  <a:ea typeface="Arial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611280" y="155736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AutoShape 6"/>
          <p:cNvSpPr/>
          <p:nvPr/>
        </p:nvSpPr>
        <p:spPr>
          <a:xfrm>
            <a:off x="611280" y="285264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6666ff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611280" y="407664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6666ff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AutoShape 8"/>
          <p:cNvSpPr/>
          <p:nvPr/>
        </p:nvSpPr>
        <p:spPr>
          <a:xfrm>
            <a:off x="611280" y="522936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539640" y="1628640"/>
            <a:ext cx="29527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Блок 1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  <a:ea typeface="Arial"/>
              </a:rPr>
              <a:t>(общий для всех модулей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611280" y="5229360"/>
            <a:ext cx="28810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Блок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  <a:ea typeface="Arial"/>
              </a:rPr>
              <a:t>(общий для всех модулей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Text Box 11"/>
          <p:cNvSpPr/>
          <p:nvPr/>
        </p:nvSpPr>
        <p:spPr>
          <a:xfrm>
            <a:off x="4356000" y="1700280"/>
            <a:ext cx="42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4067280" y="1484280"/>
            <a:ext cx="47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ведение. Духовные ценности и нрав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в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ные идеалы в жизни человека и общества </a:t>
            </a:r>
            <a:r>
              <a:rPr b="0" lang="ru-RU" sz="2000" spc="-1" strike="noStrike">
                <a:solidFill>
                  <a:srgbClr val="ff3737"/>
                </a:solidFill>
                <a:latin typeface="Arial"/>
                <a:ea typeface="Arial"/>
              </a:rPr>
              <a:t>(1 час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Line 13"/>
          <p:cNvSpPr/>
          <p:nvPr/>
        </p:nvSpPr>
        <p:spPr>
          <a:xfrm>
            <a:off x="3564000" y="1916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Line 14"/>
          <p:cNvSpPr/>
          <p:nvPr/>
        </p:nvSpPr>
        <p:spPr>
          <a:xfrm>
            <a:off x="3564000" y="3284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Line 15"/>
          <p:cNvSpPr/>
          <p:nvPr/>
        </p:nvSpPr>
        <p:spPr>
          <a:xfrm>
            <a:off x="3564000" y="4508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Line 16"/>
          <p:cNvSpPr/>
          <p:nvPr/>
        </p:nvSpPr>
        <p:spPr>
          <a:xfrm>
            <a:off x="3564000" y="5661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4067280" y="2997360"/>
            <a:ext cx="46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ы религиозных культур и светской этики. Часть 1 </a:t>
            </a:r>
            <a:r>
              <a:rPr b="0" lang="ru-RU" sz="2000" spc="-1" strike="noStrike">
                <a:solidFill>
                  <a:srgbClr val="ff3737"/>
                </a:solidFill>
                <a:latin typeface="Arial"/>
                <a:ea typeface="Arial"/>
              </a:rPr>
              <a:t>(16 часо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1187280" y="3068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Блок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Text Box 19"/>
          <p:cNvSpPr/>
          <p:nvPr/>
        </p:nvSpPr>
        <p:spPr>
          <a:xfrm>
            <a:off x="1187280" y="4292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Блок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Text Box 20"/>
          <p:cNvSpPr/>
          <p:nvPr/>
        </p:nvSpPr>
        <p:spPr>
          <a:xfrm>
            <a:off x="4140360" y="4221000"/>
            <a:ext cx="45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ы религиозных культур и светской этики. Часть 2 </a:t>
            </a:r>
            <a:r>
              <a:rPr b="0" lang="ru-RU" sz="2000" spc="-1" strike="noStrike">
                <a:solidFill>
                  <a:srgbClr val="ff3737"/>
                </a:solidFill>
                <a:latin typeface="Arial"/>
                <a:ea typeface="Arial"/>
              </a:rPr>
              <a:t>(12 часо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Text Box 21"/>
          <p:cNvSpPr/>
          <p:nvPr/>
        </p:nvSpPr>
        <p:spPr>
          <a:xfrm>
            <a:off x="4140360" y="5373720"/>
            <a:ext cx="46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уховные традиции многонационального народа России </a:t>
            </a:r>
            <a:r>
              <a:rPr b="0" lang="ru-RU" sz="2000" spc="-1" strike="noStrike">
                <a:solidFill>
                  <a:srgbClr val="ff3737"/>
                </a:solidFill>
                <a:latin typeface="Arial"/>
                <a:ea typeface="Arial"/>
              </a:rPr>
              <a:t>(5 часо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AutoShape 22"/>
          <p:cNvSpPr/>
          <p:nvPr/>
        </p:nvSpPr>
        <p:spPr>
          <a:xfrm>
            <a:off x="324000" y="1484280"/>
            <a:ext cx="215640" cy="2305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AutoShape 23"/>
          <p:cNvSpPr/>
          <p:nvPr/>
        </p:nvSpPr>
        <p:spPr>
          <a:xfrm>
            <a:off x="324000" y="3933720"/>
            <a:ext cx="215640" cy="2305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200" spc="-1" strike="noStrike">
                <a:solidFill>
                  <a:srgbClr val="990033"/>
                </a:solidFill>
                <a:latin typeface="Times New Roman"/>
              </a:rPr>
              <a:t>Блок1. Духовные ценности и нравственные идеалы </a:t>
            </a:r>
            <a:br>
              <a:rPr sz="2200"/>
            </a:br>
            <a:r>
              <a:rPr b="1" lang="ru-RU" sz="2200" spc="-1" strike="noStrike">
                <a:solidFill>
                  <a:srgbClr val="990033"/>
                </a:solidFill>
                <a:latin typeface="Times New Roman"/>
              </a:rPr>
              <a:t>в жизни человека и общества (1 ч.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04920" y="1599840"/>
            <a:ext cx="8610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рвый урок называется - «Наш дом – Россия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учающиеся узнают о единстве многонациональног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оссийского народа, о многообразии культурных, духовных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лигиозных традиций; что такое «духовность», «традиция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нравственные ценности», какое значение они имеют в жизн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еловека, семьи, общества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водится мысль, что при явном различии наших взглядов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мир, при том, что все люди разные, мы – народ России – едины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 нас общий язык, культура, история, территория, государство, и главное - сходные нравственные основы, делающие нас людьм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 отношению друг к друг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FDC2-CB8E-49CB-BC27-129DDEC808D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300" spc="-1" strike="noStrike">
                <a:solidFill>
                  <a:srgbClr val="990033"/>
                </a:solidFill>
                <a:latin typeface="Times New Roman"/>
              </a:rPr>
              <a:t>Блок 2.    Основы традиционных религий                            и светской этики (16 ч.)</a:t>
            </a:r>
            <a:br>
              <a:rPr sz="2300"/>
            </a:br>
            <a:endParaRPr b="1" lang="en-US" sz="23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09480" y="1904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ходе изучения второго блока учащиеся должны получить системные знания о культуре православия, культуре ислама, культуре буддизма, культуре иудаизма, других мировых религий, а также о светской этик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блок завершается подведением итогов по пройденному материалу и несложными творческими работ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DDED-ECB7-4CE4-925E-8F739BA7267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1532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300" spc="-1" strike="noStrike">
                <a:solidFill>
                  <a:srgbClr val="990033"/>
                </a:solidFill>
                <a:latin typeface="Times New Roman"/>
              </a:rPr>
              <a:t>Блок 3.Традиционные религии</a:t>
            </a:r>
            <a:br>
              <a:rPr sz="2300"/>
            </a:br>
            <a:r>
              <a:rPr b="1" lang="ru-RU" sz="2300" spc="-1" strike="noStrike">
                <a:solidFill>
                  <a:srgbClr val="990033"/>
                </a:solidFill>
                <a:latin typeface="Times New Roman"/>
              </a:rPr>
              <a:t> и этика в России (12 ч.)</a:t>
            </a:r>
            <a:br>
              <a:rPr sz="2300"/>
            </a:br>
            <a:endParaRPr b="1" lang="en-US" sz="23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33520" y="1904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ается знакомство учащихся с общими основами религий и этики, но уже с учетом культурно-исторических особенностей нашей страны и конкретного региона, где проживает семья обучающегос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держании блока большое место занимает семья, ценности семейной жизн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ма Родины, патриотизма, гражданственности, любви к родной земле служения Отечеству определяет направленность большинства тем этого блока как в историческом, так и в современном контекста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8A3C-83F1-416B-A415-7664A26FD3B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300" spc="-1" strike="noStrike">
                <a:solidFill>
                  <a:srgbClr val="990033"/>
                </a:solidFill>
                <a:latin typeface="Times New Roman"/>
              </a:rPr>
              <a:t>Блок 4. Духовные традиции </a:t>
            </a:r>
            <a:br>
              <a:rPr sz="2300"/>
            </a:br>
            <a:r>
              <a:rPr b="1" lang="ru-RU" sz="2300" spc="-1" strike="noStrike">
                <a:solidFill>
                  <a:srgbClr val="990033"/>
                </a:solidFill>
                <a:latin typeface="Times New Roman"/>
              </a:rPr>
              <a:t>многонационального народа России (5 ч.)</a:t>
            </a:r>
            <a:br>
              <a:rPr sz="2300"/>
            </a:br>
            <a:endParaRPr b="1" lang="en-US" sz="23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828440"/>
            <a:ext cx="86868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исходит презентация индивидуальных и коллективны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ворческих проек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64CA-0C54-4562-88FC-D986DED6288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19320" y="1676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33"/>
                </a:solidFill>
                <a:latin typeface="Times New Roman"/>
              </a:rPr>
              <a:t>Один из модулей изучается обучающимся </a:t>
            </a:r>
            <a:br>
              <a:rPr sz="3200"/>
            </a:br>
            <a:r>
              <a:rPr b="0" i="1" lang="ru-RU" sz="3200" spc="-1" strike="noStrike">
                <a:solidFill>
                  <a:srgbClr val="990033"/>
                </a:solidFill>
                <a:latin typeface="Times New Roman"/>
              </a:rPr>
              <a:t>с его согласия и по выбору его родителей</a:t>
            </a:r>
            <a:br>
              <a:rPr sz="3200"/>
            </a:br>
            <a:r>
              <a:rPr b="0" i="1" lang="ru-RU" sz="3200" spc="-1" strike="noStrike">
                <a:solidFill>
                  <a:srgbClr val="990033"/>
                </a:solidFill>
                <a:latin typeface="Times New Roman"/>
              </a:rPr>
              <a:t> (законных представителей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6" descr="&quot;Основы религиозных культур и светской этики&quot; С 2009 года в 19 регионах РФ начался эксперимент по изучению в школах духовно-нравственных дисциплин. В сентябре 2010 года Президентом Российской Федерации подписано письмо о вступление в процесс апробации Республики Марий Эл Изучение курса начинается с третьей четверти 4 класса и продолжается в первой четверти 5-го класса Родители смогут добовольно выбрать один из модулей четырех традиционных религий России из мировых религиозных культур либо основы светской этики."/>
          <p:cNvPicPr/>
          <p:nvPr/>
        </p:nvPicPr>
        <p:blipFill>
          <a:blip r:embed="rId1"/>
          <a:stretch/>
        </p:blipFill>
        <p:spPr>
          <a:xfrm>
            <a:off x="3962520" y="3657600"/>
            <a:ext cx="449568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990033"/>
                </a:solidFill>
                <a:uFillTx/>
                <a:latin typeface="Times New Roman"/>
              </a:rPr>
              <a:t>Нормативно-правовой основой</a:t>
            </a:r>
            <a:br>
              <a:rPr sz="2400"/>
            </a:b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  введения в общеобразовательных учреждениях РФ комплексного учебного курса «ОРКСЭ» являются: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762120" y="297180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buClr>
                <a:srgbClr val="9900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оручение Президента РФ от 2 августа 2009 г.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9900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аспоряжение председателя правительства РФ от 11 августа 2009 г.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9900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 2012 года преподавание учебного курса ОРКСЭ осуществляется  во всех субъектах РФ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Picture 11" descr="rusflaga"/>
          <p:cNvPicPr/>
          <p:nvPr/>
        </p:nvPicPr>
        <p:blipFill>
          <a:blip r:embed="rId1"/>
          <a:stretch/>
        </p:blipFill>
        <p:spPr>
          <a:xfrm>
            <a:off x="228600" y="228600"/>
            <a:ext cx="2266920" cy="123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C:\Documents and Settings\SSA\Рабочий стол\slide-5-1024_2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7920" y="1828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179b"/>
                </a:solidFill>
                <a:latin typeface="Times New Roman"/>
              </a:rPr>
              <a:t>Духовно-нравственное воспитание направлено на усвоение подрастающим поколением нравственных ценностей, обеспечивающих общественно-значимую мотивацию поведения и поступков, ориентацию в разнообразных жизненных ситуациях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5" name="Group 2"/>
          <p:cNvGrpSpPr/>
          <p:nvPr/>
        </p:nvGrpSpPr>
        <p:grpSpPr>
          <a:xfrm>
            <a:off x="5867280" y="3886200"/>
            <a:ext cx="2160360" cy="2231640"/>
            <a:chOff x="5867280" y="3886200"/>
            <a:chExt cx="2160360" cy="2231640"/>
          </a:xfrm>
        </p:grpSpPr>
        <p:pic>
          <p:nvPicPr>
            <p:cNvPr id="406" name="Picture 3" descr="42"/>
            <p:cNvPicPr/>
            <p:nvPr/>
          </p:nvPicPr>
          <p:blipFill>
            <a:blip r:embed="rId1"/>
            <a:stretch/>
          </p:blipFill>
          <p:spPr>
            <a:xfrm>
              <a:off x="6035400" y="4405680"/>
              <a:ext cx="177912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4" descr=""/>
            <p:cNvPicPr/>
            <p:nvPr/>
          </p:nvPicPr>
          <p:blipFill>
            <a:blip r:embed="rId2"/>
            <a:srcRect l="10369" t="0" r="13572" b="0"/>
            <a:stretch/>
          </p:blipFill>
          <p:spPr>
            <a:xfrm>
              <a:off x="5867280" y="3886200"/>
              <a:ext cx="2160360" cy="2231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6" descr="141870"/>
          <p:cNvPicPr/>
          <p:nvPr/>
        </p:nvPicPr>
        <p:blipFill>
          <a:blip r:embed="rId1"/>
          <a:stretch/>
        </p:blipFill>
        <p:spPr>
          <a:xfrm>
            <a:off x="1447920" y="990720"/>
            <a:ext cx="1981080" cy="183672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428640" y="761760"/>
            <a:ext cx="5334120" cy="146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Times New Roman"/>
              </a:rPr>
              <a:t>Цель учебного  курса </a:t>
            </a:r>
            <a:br>
              <a:rPr sz="2900"/>
            </a:br>
            <a:r>
              <a:rPr b="0" lang="ru-RU" sz="2900" spc="-1" strike="noStrike">
                <a:solidFill>
                  <a:srgbClr val="0000cc"/>
                </a:solidFill>
                <a:latin typeface="Times New Roman"/>
              </a:rPr>
              <a:t>«Основы религиозных культур и светской этики»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3276720" y="2437920"/>
            <a:ext cx="5867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у младшего подростка мотиваций к осознанному нравственному поведению,  основанному   на   знании культурных  и   религиозных   традиций многонационального народа России, а также  к  диалогу   с представителями других  культур  и  мировоззрен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141870"/>
          <p:cNvPicPr/>
          <p:nvPr/>
        </p:nvPicPr>
        <p:blipFill>
          <a:blip r:embed="rId1"/>
          <a:stretch/>
        </p:blipFill>
        <p:spPr>
          <a:xfrm>
            <a:off x="1219320" y="1219320"/>
            <a:ext cx="1828800" cy="16970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276360" y="22860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Задачи учебного  курса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«Основы религиозных культур и светской этики»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3043080" y="1600200"/>
            <a:ext cx="6067800" cy="44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017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комство обучающихся с основами православной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сульманской, буддийской, иудейской культур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ами мировых религиозных культур и светс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ик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017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представлений младшего подрост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значении нравственных норм и ценностей дл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стойной жизни личности, семьи, обществ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017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бщение знаний, понятий и представлений 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уховной культуре и мора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017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способностей школьников к общени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олиэтнической и многоконфессиональной сред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основе взаимного уважения и диалога во и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нного мира и соглас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301680" y="228600"/>
            <a:ext cx="8610480" cy="636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4"/>
          <p:cNvSpPr/>
          <p:nvPr/>
        </p:nvSpPr>
        <p:spPr>
          <a:xfrm>
            <a:off x="2362320" y="0"/>
            <a:ext cx="678168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ОРКСЭ»-единая комплексная учебно-воспитательная система. Все модули  курса согласуются между собой по педагогическим целям, задачам, требованиям к результатам освоения учебного содержания, находясь в системе содержательных, понятийных, ценностно-смысловых связей с другими гуманитарными предметами начальной и основной школ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рс ОРКСЭ дополняет аспекты предмета «Окружающий мир», с которым знакомятся  учащиеся, предваряет начинающееся в 5 классе изучение предмета «Истори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990033"/>
                </a:solidFill>
                <a:latin typeface="Verdana"/>
              </a:rPr>
              <a:t>Основы православной культуры</a:t>
            </a: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ый  модуль знакомит с основами православной культуры, раскрывает её значение и роль в жизни людей – в формировании личности человека,    его отношения к миру и людям, поведения в повседневной жизн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Picture 5" descr="Attachment"/>
          <p:cNvPicPr/>
          <p:nvPr/>
        </p:nvPicPr>
        <p:blipFill>
          <a:blip r:embed="rId1"/>
          <a:stretch/>
        </p:blipFill>
        <p:spPr>
          <a:xfrm>
            <a:off x="4952880" y="1600200"/>
            <a:ext cx="3108600" cy="4105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990033"/>
                </a:solidFill>
                <a:latin typeface="Verdana"/>
              </a:rPr>
              <a:t>Основы </a:t>
            </a:r>
            <a:br>
              <a:rPr sz="2900"/>
            </a:br>
            <a:r>
              <a:rPr b="1" lang="ru-RU" sz="2900" spc="-1" strike="noStrike">
                <a:solidFill>
                  <a:srgbClr val="990033"/>
                </a:solidFill>
                <a:latin typeface="Verdana"/>
              </a:rPr>
              <a:t>мировых религиозных культур</a:t>
            </a: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62160" cy="4343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учётом возрастных особенностей учащихся  4 классов даются элементарные представления о возникновении, истории и особенностях религий мира, их влиянии на жизнь людей. Авторы не ставили задачи отражения в пособии дискуссионных вопросов религиозных учений и религиовед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2" name="Picture 5" descr="Attachment"/>
          <p:cNvPicPr/>
          <p:nvPr/>
        </p:nvPicPr>
        <p:blipFill>
          <a:blip r:embed="rId1"/>
          <a:stretch/>
        </p:blipFill>
        <p:spPr>
          <a:xfrm>
            <a:off x="5334120" y="1905120"/>
            <a:ext cx="31320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ина</cp:lastModifiedBy>
  <dcterms:modified xsi:type="dcterms:W3CDTF">2014-10-29T21:22:02Z</dcterms:modified>
  <cp:revision>2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