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EF9C-0BFC-45A3-B4AC-83F74E85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EF88-2D78-42DA-96C3-29466A76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8407-D93E-4D09-8A13-D75210AA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7E6D-9C1F-4B73-9934-C2BA7D1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C775-7104-425E-BBAB-E4ACD72F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61F2-C8D0-499D-8488-4483789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8B86-0061-4741-9658-F908F5D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E122-EA89-4466-BCAA-8DE7E1B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E663-E0CE-4378-8F63-091AB5BF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F17-F9A6-4AF4-B1A3-9DD1F64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FC0-CF4B-4266-8EEB-49AC895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04C4-E8A8-4885-A26F-23CFB8A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DDF5-045B-49DC-9F82-3C68FE8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00E3-2CF9-4875-BBED-EA819C69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BFF8-8F5A-4D95-9AC6-6D9387A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892F-7361-4811-9681-76879ADC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A06-D657-4DC4-A9DB-3A150CAC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21E0-243C-4DFA-A1DB-09F1C9EB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C333-528D-4663-997D-B793FFDD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36BD-14FF-4F98-A26C-4948801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F32C-FCAE-4F92-8A43-99746A6A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310D-0CAE-4ED7-A159-0A5B11D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DE9D-8FD5-43D4-9FE5-773370E7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44BB-6E7F-4E8B-AD75-17AEA4B8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B9C-61F9-4004-825A-77CF3A834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2C80-EE96-4B51-A05A-3967A39A3C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3;&#1083;&#1077;&#1103;_&#1082;&#1086;&#1089;&#1084;&#1086;&#1085;&#1072;&#1074;&#1090;&#1086;&#1074;" TargetMode="External"/><Relationship Id="rId2" Type="http://schemas.openxmlformats.org/officeDocument/2006/relationships/hyperlink" Target="https://ru.wikipedia.org/wiki/&#1041;&#1072;&#1077;&#1074;&#1089;&#1082;&#1080;&#1081;_&#1088;&#1072;&#1081;&#1086;&#1085;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8;&#1077;&#1096;&#1082;&#1086;&#1074;&#1072;_%28&#1083;&#1091;&#1085;&#1085;&#1099;&#1081;_&#1082;&#1088;&#1072;&#1090;&#1077;&#1088;%29" TargetMode="External"/><Relationship Id="rId2" Type="http://schemas.openxmlformats.org/officeDocument/2006/relationships/hyperlink" Target="https://ru.wikipedia.org/wiki/&#1040;&#1089;&#1090;&#1077;&#1088;&#1086;&#1080;&#1076;" TargetMode="External"/><Relationship Id="rId3" Type="http://schemas.openxmlformats.org/officeDocument/2006/relationships/hyperlink" Target="https://ru.wikipedia.org/wiki/&#1057;&#1087;&#1080;&#1089;&#1086;&#1082;_&#1072;&#1089;&#1090;&#1077;&#1088;&#1086;&#1080;&#1076;&#1086;&#1074;_%281601&#8212;1700%29" TargetMode="External"/><Relationship Id="rId4" Type="http://schemas.openxmlformats.org/officeDocument/2006/relationships/hyperlink" Target="https://ru.wikipedia.org/wiki/&#1054;&#1076;&#1077;&#1089;&#1089;&#1072;" TargetMode="External"/><Relationship Id="rId5" Type="http://schemas.openxmlformats.org/officeDocument/2006/relationships/hyperlink" Target="https://ru.wikipedia.org/wiki/&#1059;&#1083;&#1072;&#1085;-&#1059;&#1076;&#1101;" TargetMode="External"/><Relationship Id="rId6" Type="http://schemas.openxmlformats.org/officeDocument/2006/relationships/hyperlink" Target="https://ru.wikipedia.org/wiki/&#1053;&#1086;&#1074;&#1086;&#1089;&#1080;&#1073;&#1080;&#1088;&#1089;&#1082;" TargetMode="External"/><Relationship Id="rId7" Type="http://schemas.openxmlformats.org/officeDocument/2006/relationships/hyperlink" Target="https://ru.wikipedia.org/wiki/&#1050;&#1088;&#1072;&#1089;&#1085;&#1086;&#1103;&#1088;&#1089;&#1082;" TargetMode="External"/><Relationship Id="rId8" Type="http://schemas.openxmlformats.org/officeDocument/2006/relationships/hyperlink" Target="https://ru.wikipedia.org/wiki/&#1050;&#1086;&#1089;&#1090;&#1088;&#1086;&#1084;&#1072;" TargetMode="External"/><Relationship Id="rId9" Type="http://schemas.openxmlformats.org/officeDocument/2006/relationships/hyperlink" Target="https://ru.wikipedia.org/wiki/&#1048;&#1088;&#1082;&#1091;&#1090;&#1089;&#1082;" TargetMode="External"/><Relationship Id="rId10" Type="http://schemas.openxmlformats.org/officeDocument/2006/relationships/hyperlink" Target="https://ru.wikipedia.org/wiki/&#1043;&#1091;&#1076;&#1077;&#1088;&#1084;&#1077;&#1089;" TargetMode="External"/><Relationship Id="rId11" Type="http://schemas.openxmlformats.org/officeDocument/2006/relationships/hyperlink" Target="https://ru.wikipedia.org/w/index.php?title=&#1055;&#1083;&#1086;&#1097;&#1072;&#1076;&#1100;_&#1058;&#1077;&#1088;&#1077;&#1096;&#1082;&#1086;&#1074;&#1086;&#1081;&amp;action=edit&amp;redlink=1" TargetMode="External"/><Relationship Id="rId12" Type="http://schemas.openxmlformats.org/officeDocument/2006/relationships/hyperlink" Target="https://ru.wikipedia.org/wiki/&#1058;&#1074;&#1077;&#1088;&#1100;" TargetMode="External"/><Relationship Id="rId13" Type="http://schemas.openxmlformats.org/officeDocument/2006/relationships/hyperlink" Target="https://ru.wikipedia.org/wiki/&#1045;&#1074;&#1087;&#1072;&#1090;&#1086;&#1088;&#1080;&#1103;" TargetMode="External"/><Relationship Id="rId14" Type="http://schemas.openxmlformats.org/officeDocument/2006/relationships/hyperlink" Target="https://ru.wikipedia.org/wiki/&#1071;&#1088;&#1086;&#1089;&#1083;&#1072;&#1074;&#1083;&#1100;" TargetMode="External"/><Relationship Id="rId15" Type="http://schemas.openxmlformats.org/officeDocument/2006/relationships/hyperlink" Target="https://ru.wikipedia.org/wiki/&#1053;&#1086;&#1074;&#1086;&#1095;&#1077;&#1073;&#1086;&#1082;&#1089;&#1072;&#1088;&#1089;&#1082;" TargetMode="External"/><Relationship Id="rId16" Type="http://schemas.openxmlformats.org/officeDocument/2006/relationships/hyperlink" Target="https://ru.wikipedia.org/wiki/&#1050;&#1072;&#1088;&#1072;&#1075;&#1072;&#1085;&#1076;&#1072;" TargetMode="External"/><Relationship Id="rId17" Type="http://schemas.openxmlformats.org/officeDocument/2006/relationships/hyperlink" Target="https://ru.wikipedia.org/wiki/&#1040;&#1083;&#1084;&#1072;&#1090;&#1080;&#1085;&#1089;&#1082;&#1072;&#1103;_&#1086;&#1073;&#1083;&#1072;&#1089;&#1090;&#1100;" TargetMode="External"/><Relationship Id="rId18" Type="http://schemas.openxmlformats.org/officeDocument/2006/relationships/hyperlink" Target="https://ru.wikipedia.org/wiki/&#1050;&#1086;&#1089;&#1084;&#1086;&#1089;_%28&#1084;&#1091;&#1079;&#1077;&#1081;_&#1042;._&#1042;._&#1058;&#1077;&#1088;&#1077;&#1096;&#1082;&#1086;&#1074;&#1086;&#1081;%29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Georgia"/>
              </a:rPr>
              <a:t>Первая женщина - космонавт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558936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big"/>
          <p:cNvPicPr/>
          <p:nvPr/>
        </p:nvPicPr>
        <p:blipFill>
          <a:blip r:embed="rId1"/>
          <a:stretch/>
        </p:blipFill>
        <p:spPr>
          <a:xfrm>
            <a:off x="2124000" y="2708280"/>
            <a:ext cx="4861080" cy="3240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149360"/>
            <a:ext cx="8769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Установлено два памятника Терешковой: на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Georgia"/>
                <a:hlinkClick r:id="rId1"/>
              </a:rPr>
              <a:t>Аллее космонавтов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в Москве и в 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Georgia"/>
                <a:hlinkClick r:id="rId2"/>
              </a:rPr>
              <a:t>Баевском районе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Алтайского края, на территории  которого она приземлилас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1983 году была выпущена памятная монета с изображением В. Терешковой. Валентина Терешкова стала единственным советским гражданином, чей портрет был при жизни помещён на советскую монет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Ярославле проводится ежегодная городская легкоатлетическая эстафета на приз В. В.  Терешков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1280px-%D0%9F%D0%B0%D0%BC%D1%8F%D1%82%D0%BD%D0%B8%D0%BA_%D0%92%D0%B0%D0%BB%D0%B5%D0%BD%D1%82%D0%B8%D0%BD%D0%B5_%D0%A2%D0%B5%D1%80%D0%B5%D1%88%D0%BA%D0%BE%D0%B2%D0%BE%D0%B9_%D0%B2_%D0%91%D0%B0%D0%B5%D0%B2%D1%81%D0%BA%D0%BE%D0%BC_%D1%80%D0%B0%D0%B9%D0%BE%D0%BD%D0%B5"/>
          <p:cNvPicPr/>
          <p:nvPr/>
        </p:nvPicPr>
        <p:blipFill>
          <a:blip r:embed="rId3"/>
          <a:stretch/>
        </p:blipFill>
        <p:spPr>
          <a:xfrm>
            <a:off x="4684680" y="306360"/>
            <a:ext cx="4118040" cy="309096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130" name="Picture 7" descr="%D0%A2%D0%B5%D1%80%D0%B5%D1%88%D0%BA%D0%BE%D0%B2%D0%B0_%D0%BC%D0%BE%D1%81%D0%BA%D0%B2%D0%B0"/>
          <p:cNvPicPr/>
          <p:nvPr/>
        </p:nvPicPr>
        <p:blipFill>
          <a:blip r:embed="rId4"/>
          <a:stretch/>
        </p:blipFill>
        <p:spPr>
          <a:xfrm>
            <a:off x="684360" y="189000"/>
            <a:ext cx="2808000" cy="374328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  <p:pic>
        <p:nvPicPr>
          <p:cNvPr id="131" name="Picture 9" descr="1_ruble_Tereshkova"/>
          <p:cNvPicPr/>
          <p:nvPr/>
        </p:nvPicPr>
        <p:blipFill>
          <a:blip r:embed="rId5"/>
          <a:stretch/>
        </p:blipFill>
        <p:spPr>
          <a:xfrm>
            <a:off x="3851280" y="2060640"/>
            <a:ext cx="1974960" cy="189072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з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Garamond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Georgia"/>
              </a:rPr>
              <a:t>16 июня 1963 года в 12 часов 30 минут</a:t>
            </a:r>
            <a:endParaRPr b="1" lang="en-US" sz="3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4546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по мск в СССР на орбиту спутника Земли был выведен космический корабль «Восток-6», впервые в мире пилотируемый женщиной -гражданкой Советского Союза Валентиной Терешково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Она является единственной в мире женщиной, совершившей космический полёт в одиночк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Продолжительность полета составила двое суток 22 часа 50 минут. За это время ее космический корабль 48 раз облетел вокруг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40531_900"/>
          <p:cNvPicPr/>
          <p:nvPr/>
        </p:nvPicPr>
        <p:blipFill>
          <a:blip r:embed="rId1"/>
          <a:stretch/>
        </p:blipFill>
        <p:spPr>
          <a:xfrm rot="326400">
            <a:off x="5076720" y="2060280"/>
            <a:ext cx="3633840" cy="3311640"/>
          </a:xfrm>
          <a:prstGeom prst="rect">
            <a:avLst/>
          </a:prstGeom>
          <a:ln w="19080">
            <a:solidFill>
              <a:srgbClr val="161616"/>
            </a:solidFill>
            <a:miter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Georgia"/>
              </a:rPr>
              <a:t>Позывной Терешковой на время полёта - «Чайка»</a:t>
            </a:r>
            <a:endParaRPr b="1" lang="en-US" sz="3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Фраза, которую она произнесла перед стартом: «Эй! Небо, сними шляпу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  <a:ea typeface="Times New Roman"/>
              </a:rPr>
              <a:t>(изменённая цитата из поэмы В. Маяковского «Облако в штанах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«Я „Чайка“, я „Чайка“. В иллюминаторы вижу Землю. Вижу горизонт. От облаков идет голубая полоска. Все в порядке. Все в порядке. Я „Чайка“. Прием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valentina-tereshkova-zvezda-kosmicheskogo-schastja-k-75-letiju-so-dnja-rozhdenija_32672"/>
          <p:cNvPicPr/>
          <p:nvPr/>
        </p:nvPicPr>
        <p:blipFill>
          <a:blip r:embed="rId1"/>
          <a:stretch/>
        </p:blipFill>
        <p:spPr>
          <a:xfrm rot="21182400">
            <a:off x="539640" y="2204640"/>
            <a:ext cx="3816360" cy="285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3860640"/>
            <a:ext cx="8353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           </a:t>
            </a:r>
            <a:r>
              <a:rPr b="0" lang="ru-RU" sz="20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алентина Владимировна Терешкова родилась 6 марта 1937 года в деревне Масленниково Тутаевского района Ярославской обла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Ее отец, Владимир Аксенович Терешков (1912-1940), работал трактористом, погиб во время советско‑финской вой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Мать, Елена Федоровна Терешкова (Круглова) (1913-1987), работала в колхозе. Летом 1945 года она с тремя детьми переехала в город Ярославль и стала работать на комбинате технических тканей «Красный Перекоп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5" descr="21568"/>
          <p:cNvPicPr/>
          <p:nvPr/>
        </p:nvPicPr>
        <p:blipFill>
          <a:blip r:embed="rId1"/>
          <a:stretch/>
        </p:blipFill>
        <p:spPr>
          <a:xfrm>
            <a:off x="2268360" y="333360"/>
            <a:ext cx="4238640" cy="33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  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5157360"/>
            <a:ext cx="889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Валентина Терешкова с 1959 года занималась парашютным спортом в Ярославском аэроклубе, совершила 163 прыжка с парашют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photo_04"/>
          <p:cNvPicPr/>
          <p:nvPr/>
        </p:nvPicPr>
        <p:blipFill>
          <a:blip r:embed="rId1"/>
          <a:stretch/>
        </p:blipFill>
        <p:spPr>
          <a:xfrm rot="21343800">
            <a:off x="900000" y="620640"/>
            <a:ext cx="3143520" cy="4307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21a8a35717dc3a8acaeab8de7f6ab0cebc5f6c179889724"/>
          <p:cNvPicPr/>
          <p:nvPr/>
        </p:nvPicPr>
        <p:blipFill>
          <a:blip r:embed="rId2"/>
          <a:stretch/>
        </p:blipFill>
        <p:spPr>
          <a:xfrm rot="314400">
            <a:off x="5284440" y="690480"/>
            <a:ext cx="2573280" cy="416412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4753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В феврале 1962 года Валентина Терешкова была зачислена в космонавты-слушател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С марта по ноябрь 1962 года она проходила общекосмическую подготовку и после сдачи государственных экзаменов была зачислена в отряд космонавт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C января по май 1963 года готовилась к полету на космическом корабле "Восток-6" по программе женского полета в составе группы вместе с Ириной Соловьевой, Валентиной Пономаревой, Жанной Ерки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000" spc="-1" strike="noStrike">
                <a:solidFill>
                  <a:srgbClr val="ffcc00"/>
                </a:solidFill>
                <a:latin typeface="Georgia"/>
              </a:rPr>
              <a:t>Была назначена основным кандидатом  на пол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943423716"/>
          <p:cNvPicPr/>
          <p:nvPr/>
        </p:nvPicPr>
        <p:blipFill>
          <a:blip r:embed="rId1"/>
          <a:stretch/>
        </p:blipFill>
        <p:spPr>
          <a:xfrm rot="219600">
            <a:off x="5292720" y="1557360"/>
            <a:ext cx="3060720" cy="43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856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Валентина Терешкова - первая в истории Российской армии женщина- генерал. </a:t>
            </a: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880" y="4581000"/>
            <a:ext cx="882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Georgia"/>
              </a:rPr>
              <a:t>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22 июня 1963 года В.В. Терешковой присвоено звание </a:t>
            </a:r>
            <a:r>
              <a:rPr b="1" i="1" lang="ru-RU" sz="2200" spc="-1" strike="noStrike" u="sng">
                <a:solidFill>
                  <a:srgbClr val="ffcc00"/>
                </a:solidFill>
                <a:uFillTx/>
                <a:latin typeface="Georgia"/>
              </a:rPr>
              <a:t>Героя Советского Союза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          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В 2000-м году британской организацией «Ежегодная ассамблея женщин»</a:t>
            </a:r>
            <a:r>
              <a:rPr b="0" lang="ru-RU" sz="2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cc00"/>
                </a:solidFill>
                <a:latin typeface="Georgia"/>
              </a:rPr>
              <a:t> В.В. Терешковой присвоен титул </a:t>
            </a:r>
            <a:r>
              <a:rPr b="1" i="1" lang="ru-RU" sz="2200" spc="-1" strike="noStrike" u="sng">
                <a:solidFill>
                  <a:srgbClr val="ffcc00"/>
                </a:solidFill>
                <a:uFillTx/>
                <a:latin typeface="Georgia"/>
              </a:rPr>
              <a:t>«Величайшая женщина XX столетия»</a:t>
            </a:r>
            <a:r>
              <a:rPr b="0" lang="ru-RU" sz="2200" spc="-1" strike="noStrike">
                <a:solidFill>
                  <a:srgbClr val="ffcc00"/>
                </a:solidFill>
                <a:latin typeface="Georgia"/>
              </a:rPr>
              <a:t>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891px-rian_archive_612748_valentina_tereshkova"/>
          <p:cNvPicPr/>
          <p:nvPr/>
        </p:nvPicPr>
        <p:blipFill>
          <a:blip r:embed="rId1"/>
          <a:stretch/>
        </p:blipFill>
        <p:spPr>
          <a:xfrm>
            <a:off x="2987640" y="1125360"/>
            <a:ext cx="34225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i="1" lang="ru-RU" sz="2800" spc="-1" strike="noStrike">
                <a:solidFill>
                  <a:srgbClr val="ffcc00"/>
                </a:solidFill>
                <a:latin typeface="Georgia"/>
              </a:rPr>
              <a:t>Начиная с 1966 года Терешкова ведёт активную государственную и общественную деятельност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120960799_Tereshkova_VV11a"/>
          <p:cNvPicPr/>
          <p:nvPr/>
        </p:nvPicPr>
        <p:blipFill>
          <a:blip r:embed="rId1"/>
          <a:stretch/>
        </p:blipFill>
        <p:spPr>
          <a:xfrm>
            <a:off x="2268360" y="1125360"/>
            <a:ext cx="4762800" cy="318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17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   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Georgia"/>
              </a:rPr>
              <a:t>Именем В.В. Терешковой назван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"/>
              </a:rPr>
              <a:t>кратер на Лун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2"/>
              </a:rPr>
              <a:t>малая планета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3"/>
              </a:rPr>
              <a:t>1671 Chaika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(по её позывному - «Чайка»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улицы в разных городах, в том числе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4"/>
              </a:rPr>
              <a:t>Одесс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5"/>
              </a:rPr>
              <a:t>Улан-Удэ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6"/>
              </a:rPr>
              <a:t>Новосиби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7"/>
              </a:rPr>
              <a:t>Красноя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8"/>
              </a:rPr>
              <a:t>Костром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Кемерово, Ульяновске, Оренбурге, Балахне, Липецке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9"/>
              </a:rPr>
              <a:t>Иркут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Новочебоксарске, Витебске, проспект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0"/>
              </a:rPr>
              <a:t>Гудермес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1"/>
              </a:rPr>
              <a:t>площадь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2"/>
              </a:rPr>
              <a:t>Твери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набережная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3"/>
              </a:rPr>
              <a:t>Евпатории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школы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4"/>
              </a:rPr>
              <a:t>Ярославл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(в которой она училась),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5"/>
              </a:rPr>
              <a:t>Новочебоксарск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, в 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6"/>
              </a:rPr>
              <a:t>Караганде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 и в городе Есик (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7"/>
              </a:rPr>
              <a:t>Алматинская область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музей «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eorgia"/>
                <a:hlinkClick r:id="rId18"/>
              </a:rPr>
              <a:t>Космос</a:t>
            </a: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» (недалеко от её деревни) и планетарий в Ярославле 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eorgia"/>
              </a:rPr>
              <a:t>Название гостиницы в Караганде дано по позывному «Чайка» после того, как В. Терешкова отдыхала там после полё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06:18:30Z</dcterms:created>
  <dc:creator>DokaKomp</dc:creator>
  <dc:description/>
  <dc:language>en-US</dc:language>
  <cp:lastModifiedBy>Наталья</cp:lastModifiedBy>
  <dcterms:modified xsi:type="dcterms:W3CDTF">2016-04-04T13:58:36Z</dcterms:modified>
  <cp:revision>5</cp:revision>
  <dc:subject/>
  <dc:title>Первая женщина - космонавт</dc:title>
</cp:coreProperties>
</file>