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A623C-9BD3-4196-A044-927CA6B0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2824-BADC-4425-B714-8F7E3B14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5DC3-AE3F-4B68-949A-DF20D8CB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B903-EF64-4B3A-B166-FC4D074A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E864-244B-41C4-96C0-22776E33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0D3B-675D-4A19-9305-292415C8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8B27-65D4-4268-ACC7-98BA9DB3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091E-60C9-4F71-B9FD-6CA01D9C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E5E4-15B6-4DFF-AC1A-54C75487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AD8E-4A0A-41A1-AC21-78ED88D9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8B28-F8C3-4A27-990E-3E2DEECD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6229-80EF-4FA6-949A-467D654E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067C-E258-4696-98C8-259ECA96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7AC4-4AF9-450F-AEB5-961296EA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9014-9FD2-4AD1-A715-ED1A2BD0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ACF2-1361-426F-BD0B-F14A13E7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30CC-1972-4A38-BC14-B0461BF3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358A-1DB8-4D14-BF61-D35BC7BE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F0A1-0F79-4280-B921-9AA2BC41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C9A62-99BF-4266-A5A9-56DDB145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AF6ED-9DCB-43CA-AD7F-73EF8643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ABE7-CE73-4264-B56F-252E99D8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72F8E-452E-49FB-B487-DD6687A3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C0252-0402-466A-9CA9-4DDBF0C2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0C49-183A-44F9-BBA4-F25D5D80F0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0FF5-D01C-4CF6-9C43-23C79EC562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0;&#1083;&#1083;&#1077;&#1103;_&#1082;&#1086;&#1089;&#1084;&#1086;&#1085;&#1072;&#1074;&#1090;&#1086;&#1074;" TargetMode="External"/><Relationship Id="rId2" Type="http://schemas.openxmlformats.org/officeDocument/2006/relationships/hyperlink" Target="https://ru.wikipedia.org/wiki/&#1041;&#1072;&#1077;&#1074;&#1089;&#1082;&#1080;&#1081;_&#1088;&#1072;&#1081;&#1086;&#1085;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8;&#1077;&#1088;&#1077;&#1096;&#1082;&#1086;&#1074;&#1072;_%28&#1083;&#1091;&#1085;&#1085;&#1099;&#1081;_&#1082;&#1088;&#1072;&#1090;&#1077;&#1088;%29" TargetMode="External"/><Relationship Id="rId2" Type="http://schemas.openxmlformats.org/officeDocument/2006/relationships/hyperlink" Target="https://ru.wikipedia.org/wiki/&#1040;&#1089;&#1090;&#1077;&#1088;&#1086;&#1080;&#1076;" TargetMode="External"/><Relationship Id="rId3" Type="http://schemas.openxmlformats.org/officeDocument/2006/relationships/hyperlink" Target="https://ru.wikipedia.org/wiki/&#1057;&#1087;&#1080;&#1089;&#1086;&#1082;_&#1072;&#1089;&#1090;&#1077;&#1088;&#1086;&#1080;&#1076;&#1086;&#1074;_%281601&#8212;1700%29" TargetMode="External"/><Relationship Id="rId4" Type="http://schemas.openxmlformats.org/officeDocument/2006/relationships/hyperlink" Target="https://ru.wikipedia.org/wiki/&#1054;&#1076;&#1077;&#1089;&#1089;&#1072;" TargetMode="External"/><Relationship Id="rId5" Type="http://schemas.openxmlformats.org/officeDocument/2006/relationships/hyperlink" Target="https://ru.wikipedia.org/wiki/&#1059;&#1083;&#1072;&#1085;-&#1059;&#1076;&#1101;" TargetMode="External"/><Relationship Id="rId6" Type="http://schemas.openxmlformats.org/officeDocument/2006/relationships/hyperlink" Target="https://ru.wikipedia.org/wiki/&#1053;&#1086;&#1074;&#1086;&#1089;&#1080;&#1073;&#1080;&#1088;&#1089;&#1082;" TargetMode="External"/><Relationship Id="rId7" Type="http://schemas.openxmlformats.org/officeDocument/2006/relationships/hyperlink" Target="https://ru.wikipedia.org/wiki/&#1050;&#1088;&#1072;&#1089;&#1085;&#1086;&#1103;&#1088;&#1089;&#1082;" TargetMode="External"/><Relationship Id="rId8" Type="http://schemas.openxmlformats.org/officeDocument/2006/relationships/hyperlink" Target="https://ru.wikipedia.org/wiki/&#1050;&#1086;&#1089;&#1090;&#1088;&#1086;&#1084;&#1072;" TargetMode="External"/><Relationship Id="rId9" Type="http://schemas.openxmlformats.org/officeDocument/2006/relationships/hyperlink" Target="https://ru.wikipedia.org/wiki/&#1048;&#1088;&#1082;&#1091;&#1090;&#1089;&#1082;" TargetMode="External"/><Relationship Id="rId10" Type="http://schemas.openxmlformats.org/officeDocument/2006/relationships/hyperlink" Target="https://ru.wikipedia.org/wiki/&#1043;&#1091;&#1076;&#1077;&#1088;&#1084;&#1077;&#1089;" TargetMode="External"/><Relationship Id="rId11" Type="http://schemas.openxmlformats.org/officeDocument/2006/relationships/hyperlink" Target="https://ru.wikipedia.org/w/index.php?title=&#1055;&#1083;&#1086;&#1097;&#1072;&#1076;&#1100;_&#1058;&#1077;&#1088;&#1077;&#1096;&#1082;&#1086;&#1074;&#1086;&#1081;&amp;action=edit&amp;redlink=1" TargetMode="External"/><Relationship Id="rId12" Type="http://schemas.openxmlformats.org/officeDocument/2006/relationships/hyperlink" Target="https://ru.wikipedia.org/wiki/&#1058;&#1074;&#1077;&#1088;&#1100;" TargetMode="External"/><Relationship Id="rId13" Type="http://schemas.openxmlformats.org/officeDocument/2006/relationships/hyperlink" Target="https://ru.wikipedia.org/wiki/&#1045;&#1074;&#1087;&#1072;&#1090;&#1086;&#1088;&#1080;&#1103;" TargetMode="External"/><Relationship Id="rId14" Type="http://schemas.openxmlformats.org/officeDocument/2006/relationships/hyperlink" Target="https://ru.wikipedia.org/wiki/&#1071;&#1088;&#1086;&#1089;&#1083;&#1072;&#1074;&#1083;&#1100;" TargetMode="External"/><Relationship Id="rId15" Type="http://schemas.openxmlformats.org/officeDocument/2006/relationships/hyperlink" Target="https://ru.wikipedia.org/wiki/&#1053;&#1086;&#1074;&#1086;&#1095;&#1077;&#1073;&#1086;&#1082;&#1089;&#1072;&#1088;&#1089;&#1082;" TargetMode="External"/><Relationship Id="rId16" Type="http://schemas.openxmlformats.org/officeDocument/2006/relationships/hyperlink" Target="https://ru.wikipedia.org/wiki/&#1050;&#1072;&#1088;&#1072;&#1075;&#1072;&#1085;&#1076;&#1072;" TargetMode="External"/><Relationship Id="rId17" Type="http://schemas.openxmlformats.org/officeDocument/2006/relationships/hyperlink" Target="https://ru.wikipedia.org/wiki/&#1040;&#1083;&#1084;&#1072;&#1090;&#1080;&#1085;&#1089;&#1082;&#1072;&#1103;_&#1086;&#1073;&#1083;&#1072;&#1089;&#1090;&#1100;" TargetMode="External"/><Relationship Id="rId18" Type="http://schemas.openxmlformats.org/officeDocument/2006/relationships/hyperlink" Target="https://ru.wikipedia.org/wiki/&#1050;&#1086;&#1089;&#1084;&#1086;&#1089;_%28&#1084;&#1091;&#1079;&#1077;&#1081;_&#1042;._&#1042;._&#1058;&#1077;&#1088;&#1077;&#1096;&#1082;&#1086;&#1074;&#1086;&#1081;%29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9900"/>
                </a:solidFill>
                <a:latin typeface="Georgia"/>
              </a:rPr>
              <a:t>Первая женщина - космонавт</a:t>
            </a:r>
            <a:endParaRPr b="1" lang="en-US" sz="4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558936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5" descr="big"/>
          <p:cNvPicPr/>
          <p:nvPr/>
        </p:nvPicPr>
        <p:blipFill>
          <a:blip r:embed="rId1"/>
          <a:stretch/>
        </p:blipFill>
        <p:spPr>
          <a:xfrm>
            <a:off x="2124000" y="2708280"/>
            <a:ext cx="4861080" cy="3240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4149360"/>
            <a:ext cx="87692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Установлено два памятника Терешковой: на 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Georgia"/>
                <a:hlinkClick r:id="rId1"/>
              </a:rPr>
              <a:t>Аллее космонавтов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в Москве и в 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Georgia"/>
                <a:hlinkClick r:id="rId2"/>
              </a:rPr>
              <a:t>Баевском районе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Алтайского края, на территории  которого она приземлилас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В 1983 году была выпущена памятная монета с изображением В. Терешковой. Валентина Терешкова стала единственным советским гражданином, чей портрет был при жизни помещён на советскую монет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В Ярославле проводится ежегодная городская легкоатлетическая эстафета на приз В. В.  Терешков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1280px-%D0%9F%D0%B0%D0%BC%D1%8F%D1%82%D0%BD%D0%B8%D0%BA_%D0%92%D0%B0%D0%BB%D0%B5%D0%BD%D1%82%D0%B8%D0%BD%D0%B5_%D0%A2%D0%B5%D1%80%D0%B5%D1%88%D0%BA%D0%BE%D0%B2%D0%BE%D0%B9_%D0%B2_%D0%91%D0%B0%D0%B5%D0%B2%D1%81%D0%BA%D0%BE%D0%BC_%D1%80%D0%B0%D0%B9%D0%BE%D0%BD%D0%B5"/>
          <p:cNvPicPr/>
          <p:nvPr/>
        </p:nvPicPr>
        <p:blipFill>
          <a:blip r:embed="rId3"/>
          <a:stretch/>
        </p:blipFill>
        <p:spPr>
          <a:xfrm>
            <a:off x="4684680" y="306360"/>
            <a:ext cx="4118040" cy="309096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  <p:pic>
        <p:nvPicPr>
          <p:cNvPr id="130" name="Picture 7" descr="%D0%A2%D0%B5%D1%80%D0%B5%D1%88%D0%BA%D0%BE%D0%B2%D0%B0_%D0%BC%D0%BE%D1%81%D0%BA%D0%B2%D0%B0"/>
          <p:cNvPicPr/>
          <p:nvPr/>
        </p:nvPicPr>
        <p:blipFill>
          <a:blip r:embed="rId4"/>
          <a:stretch/>
        </p:blipFill>
        <p:spPr>
          <a:xfrm>
            <a:off x="684360" y="189000"/>
            <a:ext cx="2808000" cy="374328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  <p:pic>
        <p:nvPicPr>
          <p:cNvPr id="131" name="Picture 9" descr="1_ruble_Tereshkova"/>
          <p:cNvPicPr/>
          <p:nvPr/>
        </p:nvPicPr>
        <p:blipFill>
          <a:blip r:embed="rId5"/>
          <a:stretch/>
        </p:blipFill>
        <p:spPr>
          <a:xfrm>
            <a:off x="3851280" y="2060640"/>
            <a:ext cx="1974960" cy="189072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Garamond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Garamond"/>
              </a:rPr>
              <a:t>за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Garamond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Georgia"/>
              </a:rPr>
              <a:t>16 июня 1963 года в 12 часов 30 минут</a:t>
            </a:r>
            <a:endParaRPr b="1" lang="en-US" sz="3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4546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  <a:ea typeface="Times New Roman"/>
              </a:rPr>
              <a:t>по мск в СССР на орбиту спутника Земли был выведен космический корабль «Восток-6», впервые в мире пилотируемый женщиной -гражданкой Советского Союза Валентиной Терешково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  <a:ea typeface="Times New Roman"/>
              </a:rPr>
              <a:t>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  <a:ea typeface="Times New Roman"/>
              </a:rPr>
              <a:t>Она является единственной в мире женщиной, совершившей космический полёт в одиночк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Продолжительность полета составила двое суток 22 часа 50 минут. За это время ее космический корабль 48 раз облетел вокруг Зем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4" descr="40531_900"/>
          <p:cNvPicPr/>
          <p:nvPr/>
        </p:nvPicPr>
        <p:blipFill>
          <a:blip r:embed="rId1"/>
          <a:stretch/>
        </p:blipFill>
        <p:spPr>
          <a:xfrm rot="326400">
            <a:off x="5076720" y="2060280"/>
            <a:ext cx="3633840" cy="331164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Georgia"/>
              </a:rPr>
              <a:t>Позывной Терешковой на время полёта - «Чайка»</a:t>
            </a:r>
            <a:endParaRPr b="1" lang="en-US" sz="3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7280" y="1700280"/>
            <a:ext cx="425916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  <a:ea typeface="Times New Roman"/>
              </a:rPr>
              <a:t>Фраза, которую она произнесла перед стартом: «Эй! Небо, сними шляпу!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  <a:ea typeface="Times New Roman"/>
              </a:rPr>
              <a:t>(изменённая цитата из поэмы В. Маяковского «Облако в штанах»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Times New Roman"/>
              </a:rPr>
              <a:t>-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«Я „Чайка“, я „Чайка“. В иллюминаторы вижу Землю. Вижу горизонт. От облаков идет голубая полоска. Все в порядке. Все в порядке. Я „Чайка“. Прием!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valentina-tereshkova-zvezda-kosmicheskogo-schastja-k-75-letiju-so-dnja-rozhdenija_32672"/>
          <p:cNvPicPr/>
          <p:nvPr/>
        </p:nvPicPr>
        <p:blipFill>
          <a:blip r:embed="rId1"/>
          <a:stretch/>
        </p:blipFill>
        <p:spPr>
          <a:xfrm rot="21182400">
            <a:off x="539640" y="2204640"/>
            <a:ext cx="3816360" cy="2854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3860640"/>
            <a:ext cx="83534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           </a:t>
            </a:r>
            <a:r>
              <a:rPr b="0" lang="ru-RU" sz="2000" spc="-1" strike="noStrike">
                <a:solidFill>
                  <a:srgbClr val="ffcc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Валентина Владимировна Терешкова родилась 6 марта 1937 года в деревне Масленниково Тутаевского района Ярославской област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Ее отец, Владимир Аксенович Терешков (1912-1940), работал трактористом, погиб во время советско‑финской войн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Мать, Елена Федоровна Терешкова (Круглова) (1913-1987), работала в колхозе. Летом 1945 года она с тремя детьми переехала в город Ярославль и стала работать на комбинате технических тканей «Красный Перекоп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5" descr="21568"/>
          <p:cNvPicPr/>
          <p:nvPr/>
        </p:nvPicPr>
        <p:blipFill>
          <a:blip r:embed="rId1"/>
          <a:stretch/>
        </p:blipFill>
        <p:spPr>
          <a:xfrm>
            <a:off x="2268360" y="333360"/>
            <a:ext cx="4238640" cy="332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   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5157360"/>
            <a:ext cx="8893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           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Валентина Терешкова с 1959 года занималась парашютным спортом в Ярославском аэроклубе, совершила 163 прыжка с парашют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5" descr="photo_04"/>
          <p:cNvPicPr/>
          <p:nvPr/>
        </p:nvPicPr>
        <p:blipFill>
          <a:blip r:embed="rId1"/>
          <a:stretch/>
        </p:blipFill>
        <p:spPr>
          <a:xfrm rot="21343800">
            <a:off x="900000" y="620640"/>
            <a:ext cx="3143520" cy="4307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21a8a35717dc3a8acaeab8de7f6ab0cebc5f6c179889724"/>
          <p:cNvPicPr/>
          <p:nvPr/>
        </p:nvPicPr>
        <p:blipFill>
          <a:blip r:embed="rId2"/>
          <a:stretch/>
        </p:blipFill>
        <p:spPr>
          <a:xfrm rot="314400">
            <a:off x="5284440" y="690480"/>
            <a:ext cx="2573280" cy="4164120"/>
          </a:xfrm>
          <a:prstGeom prst="rect">
            <a:avLst/>
          </a:prstGeom>
          <a:ln w="79200">
            <a:solidFill>
              <a:srgbClr val="ffffff"/>
            </a:solidFill>
            <a:miter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47530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 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В феврале 1962 года Валентина Терешкова была зачислена в космонавты-слушател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С марта по ноябрь 1962 года она проходила общекосмическую подготовку и после сдачи государственных экзаменов была зачислена в отряд космонавто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C января по май 1963 года готовилась к полету на космическом корабле "Восток-6" по программе женского полета в составе группы вместе с Ириной Соловьевой, Валентиной Пономаревой, Жанной Еркин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Была назначена основным кандидатом  на поле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943423716"/>
          <p:cNvPicPr/>
          <p:nvPr/>
        </p:nvPicPr>
        <p:blipFill>
          <a:blip r:embed="rId1"/>
          <a:stretch/>
        </p:blipFill>
        <p:spPr>
          <a:xfrm rot="219600">
            <a:off x="5292720" y="1557360"/>
            <a:ext cx="3060720" cy="432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856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Валентина Терешкова - первая в истории Российской армии женщина- генерал. </a:t>
            </a: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880" y="4581000"/>
            <a:ext cx="8821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Georgia"/>
              </a:rPr>
              <a:t>              </a:t>
            </a:r>
            <a:r>
              <a:rPr b="1" i="1" lang="ru-RU" sz="2200" spc="-1" strike="noStrike">
                <a:solidFill>
                  <a:srgbClr val="ffcc00"/>
                </a:solidFill>
                <a:latin typeface="Georgia"/>
              </a:rPr>
              <a:t>22 июня 1963 года В.В. Терешковой присвоено звание </a:t>
            </a:r>
            <a:r>
              <a:rPr b="1" i="1" lang="ru-RU" sz="2200" spc="-1" strike="noStrike" u="sng">
                <a:solidFill>
                  <a:srgbClr val="ffcc00"/>
                </a:solidFill>
                <a:uFillTx/>
                <a:latin typeface="Georgia"/>
              </a:rPr>
              <a:t>Героя Советского Союза</a:t>
            </a:r>
            <a:r>
              <a:rPr b="1" i="1" lang="ru-RU" sz="2200" spc="-1" strike="noStrike">
                <a:solidFill>
                  <a:srgbClr val="ffcc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cc00"/>
                </a:solidFill>
                <a:latin typeface="Georgia"/>
              </a:rPr>
              <a:t>           </a:t>
            </a:r>
            <a:r>
              <a:rPr b="1" i="1" lang="ru-RU" sz="2200" spc="-1" strike="noStrike">
                <a:solidFill>
                  <a:srgbClr val="ffcc00"/>
                </a:solidFill>
                <a:latin typeface="Georgia"/>
              </a:rPr>
              <a:t>В 2000-м году британской организацией «Ежегодная ассамблея женщин»</a:t>
            </a:r>
            <a:r>
              <a:rPr b="0" lang="ru-RU" sz="2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cc00"/>
                </a:solidFill>
                <a:latin typeface="Georgia"/>
              </a:rPr>
              <a:t> В.В. Терешковой присвоен титул </a:t>
            </a:r>
            <a:r>
              <a:rPr b="1" i="1" lang="ru-RU" sz="2200" spc="-1" strike="noStrike" u="sng">
                <a:solidFill>
                  <a:srgbClr val="ffcc00"/>
                </a:solidFill>
                <a:uFillTx/>
                <a:latin typeface="Georgia"/>
              </a:rPr>
              <a:t>«Величайшая женщина XX столетия»</a:t>
            </a:r>
            <a:r>
              <a:rPr b="0" lang="ru-RU" sz="2200" spc="-1" strike="noStrike">
                <a:solidFill>
                  <a:srgbClr val="ffcc00"/>
                </a:solidFill>
                <a:latin typeface="Georgia"/>
              </a:rPr>
              <a:t> 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891px-rian_archive_612748_valentina_tereshkova"/>
          <p:cNvPicPr/>
          <p:nvPr/>
        </p:nvPicPr>
        <p:blipFill>
          <a:blip r:embed="rId1"/>
          <a:stretch/>
        </p:blipFill>
        <p:spPr>
          <a:xfrm>
            <a:off x="2987640" y="1125360"/>
            <a:ext cx="3422520" cy="345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479736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          </a:t>
            </a:r>
            <a:r>
              <a:rPr b="1" i="1" lang="ru-RU" sz="2800" spc="-1" strike="noStrike">
                <a:solidFill>
                  <a:srgbClr val="ffcc00"/>
                </a:solidFill>
                <a:latin typeface="Georgia"/>
              </a:rPr>
              <a:t>Начиная с 1966 года Терешкова ведёт активную государственную и общественную деятельность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120960799_Tereshkova_VV11a"/>
          <p:cNvPicPr/>
          <p:nvPr/>
        </p:nvPicPr>
        <p:blipFill>
          <a:blip r:embed="rId1"/>
          <a:stretch/>
        </p:blipFill>
        <p:spPr>
          <a:xfrm>
            <a:off x="2268360" y="1125360"/>
            <a:ext cx="4762800" cy="318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17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       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Georgia"/>
              </a:rPr>
              <a:t>Именем В.В. Терешковой назван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"/>
              </a:rPr>
              <a:t>кратер на Лун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2"/>
              </a:rPr>
              <a:t>малая планета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3"/>
              </a:rPr>
              <a:t>1671 Chaika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 (по её позывному - «Чайка»)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улицы в разных городах, в том числе в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4"/>
              </a:rPr>
              <a:t>Одесс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5"/>
              </a:rPr>
              <a:t>Улан-Удэ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6"/>
              </a:rPr>
              <a:t>Новосибирск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7"/>
              </a:rPr>
              <a:t>Красноярск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8"/>
              </a:rPr>
              <a:t>Костром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Кемерово, Ульяновске, Оренбурге, Балахне, Липецке,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9"/>
              </a:rPr>
              <a:t>Иркутск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Новочебоксарске, Витебске, проспект в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0"/>
              </a:rPr>
              <a:t>Гудермес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1"/>
              </a:rPr>
              <a:t>площадь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 в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2"/>
              </a:rPr>
              <a:t>Твери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набережная в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3"/>
              </a:rPr>
              <a:t>Евпатории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школы в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4"/>
              </a:rPr>
              <a:t>Ярославл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 (в которой она училась), в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5"/>
              </a:rPr>
              <a:t>Новочебоксарск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в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6"/>
              </a:rPr>
              <a:t>Караганд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 и в городе Есик (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7"/>
              </a:rPr>
              <a:t>Алматинская область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музей «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8"/>
              </a:rPr>
              <a:t>Космос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» (недалеко от её деревни) и планетарий в Ярославле 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Название гостиницы в Караганде дано по позывному «Чайка» после того, как В. Терешкова отдыхала там после полёт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4T06:18:30Z</dcterms:created>
  <dc:creator>DokaKomp</dc:creator>
  <dc:description/>
  <dc:language>en-US</dc:language>
  <cp:lastModifiedBy>Наталья</cp:lastModifiedBy>
  <dcterms:modified xsi:type="dcterms:W3CDTF">2016-04-04T13:58:36Z</dcterms:modified>
  <cp:revision>5</cp:revision>
  <dc:subject/>
  <dc:title>Первая женщина - космонавт</dc:title>
</cp:coreProperties>
</file>