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15A-5D00-487B-8AF7-8EFFA6D2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EDD-19A5-4F8D-99F6-EB7066AB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2DC-0D14-4841-8F89-F9E32D00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2E8-4CB0-4C1A-9142-88D35BB0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8C00-C39D-43B5-8203-3DD9EAD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123A-2214-465E-A9B1-2BCDCCEC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D95D-3101-45A4-9546-B1554D0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3FF0-BF79-46C4-B213-18B4E30A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3C80-03A6-47BE-AD45-B179B15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BDA-6C82-4181-8842-233E9A8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94A7-9A4A-4984-A652-F2615DC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27B-13EE-4952-A152-6337582A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5832-3BE1-4851-B9B8-E0F9F28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1089-DF6E-426C-A3F5-C6FDD3A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00E9-DD4A-49E8-8F40-D66DB641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C689-8D76-48C4-8E88-96DAE148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47B3-6259-4E7C-927F-8ACB4432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F23-36BD-422D-AEFE-78E8B82E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8AA-F35C-470A-B9B0-E924461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CF0-E5DA-4992-8A11-2793A5E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8C5-6825-41B7-BE71-7955347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34F-C75D-4F01-BBEC-B094FC3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432-DC07-4FB6-8C61-50B79421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50B-58F7-44B1-A56E-F16B22A8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382-F7AC-430C-B075-2853D6EBE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C3C-685B-4A2D-951C-7080F2621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1214280" y="2071800"/>
            <a:ext cx="76438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ЕКТ  ПО  ПДД «БЕЗОПАСНАЯ ДОР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РУППА  №3  «КАРУСЕЛ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ководитель проекта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оспитатель 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РТАШОВА НАТАЛИ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102480" y="357120"/>
            <a:ext cx="546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Продуктивная деятельность.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ыставка рисун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I:\DCIM\Д. П. 2015\ПДД гр.3\DSCF9432.JPG"/>
          <p:cNvPicPr/>
          <p:nvPr/>
        </p:nvPicPr>
        <p:blipFill>
          <a:blip r:embed="rId1"/>
          <a:stretch/>
        </p:blipFill>
        <p:spPr>
          <a:xfrm>
            <a:off x="2571840" y="1500120"/>
            <a:ext cx="6000840" cy="501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857240" y="14292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Развлечения.  Досуги. Празд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714680" y="92880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блему БЖД невозможно решить только в рамках ДОУ, поэтому важно обеспечить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емственность в вопросах воспитания безопасного поведения детей между детским садом и социу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:\DCIM\ПДД гр.3\DSCF9410.JPG"/>
          <p:cNvPicPr/>
          <p:nvPr/>
        </p:nvPicPr>
        <p:blipFill>
          <a:blip r:embed="rId1"/>
          <a:stretch/>
        </p:blipFill>
        <p:spPr>
          <a:xfrm>
            <a:off x="3071880" y="2071800"/>
            <a:ext cx="4786200" cy="358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643120" y="58597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Развлечение «Азбука дорожного движени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совместно с родителями и сотрудниками службы ДП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286000" y="357120"/>
            <a:ext cx="54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Работ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C:\Users\STAR\Desktop\Материал на обл. конкурс ГИБДД\Информация для участия в Акции\DSC03717.JPG"/>
          <p:cNvPicPr/>
          <p:nvPr/>
        </p:nvPicPr>
        <p:blipFill>
          <a:blip r:embed="rId1"/>
          <a:stretch/>
        </p:blipFill>
        <p:spPr>
          <a:xfrm>
            <a:off x="2286000" y="1643040"/>
            <a:ext cx="58086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:\Desktop\Зам. заведующего\ПРЕЗЕНТАЦИИ\Все для презентаций\Папки с шаблонами\Шаблоны для презентац\шаблон 2\шаблон 2 в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0" y="285768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: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Таким образом, чтобы наши дети были счастливы и здоровы, необходимо адаптировать их к условиям окружающего мира,  научить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авильно относиться к своему здоровью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, через воспитание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требности к здоровому образу жизни,  формированию основ  безопасности  жизнедеятельности и использование здоровьесберегающи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928800" y="20001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ект был реализован пол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1857240" y="928800"/>
            <a:ext cx="70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формирование у детей практических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безопасного поведения на дор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428840" y="2857680"/>
            <a:ext cx="75009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дукты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исунки по тем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зентации и Интерактивные игры по ПДД  дл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- Практическая деятельность по дорож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зентация проекта по БЖ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Уголок безопасности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азвлечение по ПД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1908000" y="714240"/>
            <a:ext cx="7236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одготовительный эта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едложение идеи проекта самими детьми, определение актуальности темы, формулировка проблемы, обозначение цели и задач, составление плана проекта, обзор методической литературы, поиск пособий для детей, определение предполагаемых результатов проекта и е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3413160" y="18900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Этапы проек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2889360"/>
            <a:ext cx="8065800" cy="15174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1908000" y="4724280"/>
            <a:ext cx="72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3.Заключительный эта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рганизация выставки-конкурса продуктов художественной деятельности изготовленных совместно родителями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ведение развлечения «Азбука дорожного движения», совместно с родителями и сотрудниками полиции службы ДП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571760" y="2086200"/>
            <a:ext cx="726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ю дорож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и соблюдению ПД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у детей старшего дошкольного возра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857240" y="64764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  <a:ea typeface="Times New Roman"/>
              </a:rPr>
              <a:t>Организации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  <a:ea typeface="Times New Roman"/>
              </a:rPr>
              <a:t>п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3786120" y="2167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Центр дорожной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F:\Центры ОБЖ\DSCF9644.JPG"/>
          <p:cNvPicPr/>
          <p:nvPr/>
        </p:nvPicPr>
        <p:blipFill>
          <a:blip r:embed="rId1"/>
          <a:stretch/>
        </p:blipFill>
        <p:spPr>
          <a:xfrm>
            <a:off x="2054160" y="853920"/>
            <a:ext cx="684072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3786120" y="4287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бразовательная деятельнос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F:\ПДД\DSCF1344.JPG"/>
          <p:cNvPicPr/>
          <p:nvPr/>
        </p:nvPicPr>
        <p:blipFill>
          <a:blip r:embed="rId1"/>
          <a:stretch/>
        </p:blipFill>
        <p:spPr>
          <a:xfrm>
            <a:off x="2428920" y="1500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97520" y="121428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Игры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F:\ПДД\DSCF1311.JPG"/>
          <p:cNvPicPr/>
          <p:nvPr/>
        </p:nvPicPr>
        <p:blipFill>
          <a:blip r:embed="rId1"/>
          <a:stretch/>
        </p:blipFill>
        <p:spPr>
          <a:xfrm>
            <a:off x="1857240" y="3500280"/>
            <a:ext cx="3998880" cy="30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F:\ПДД\DSCF1271.JPG"/>
          <p:cNvPicPr/>
          <p:nvPr/>
        </p:nvPicPr>
        <p:blipFill>
          <a:blip r:embed="rId2"/>
          <a:stretch/>
        </p:blipFill>
        <p:spPr>
          <a:xfrm>
            <a:off x="4929120" y="2858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2286000" y="85716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Использование ИКТ – технол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:\DCIM\Д. П. 2015\ППБ в ДОУ\DSCF6881.JPG"/>
          <p:cNvPicPr/>
          <p:nvPr/>
        </p:nvPicPr>
        <p:blipFill>
          <a:blip r:embed="rId1"/>
          <a:stretch/>
        </p:blipFill>
        <p:spPr>
          <a:xfrm>
            <a:off x="5143680" y="19288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:\Разное\Гор. семинар по ПДД\БЖД. Фото\DSCF1545.JPG"/>
          <p:cNvPicPr/>
          <p:nvPr/>
        </p:nvPicPr>
        <p:blipFill>
          <a:blip r:embed="rId2"/>
          <a:stretch/>
        </p:blipFill>
        <p:spPr>
          <a:xfrm>
            <a:off x="1357200" y="2286000"/>
            <a:ext cx="3714840" cy="27874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214720" y="550080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Интерактивные игры.  Викторины. Просмотр мультфильмов, презентаций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 обучению детей ПДД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714840" y="57168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:\Аттестация 2016-2017\Высшая 2016\Карташова Н.А\Карташова Н\Новая папка\ПДД\DSC03547.JPG"/>
          <p:cNvPicPr/>
          <p:nvPr/>
        </p:nvPicPr>
        <p:blipFill>
          <a:blip r:embed="rId1"/>
          <a:stretch/>
        </p:blipFill>
        <p:spPr>
          <a:xfrm>
            <a:off x="2428920" y="1571760"/>
            <a:ext cx="581004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STAR</cp:lastModifiedBy>
  <dcterms:modified xsi:type="dcterms:W3CDTF">2016-10-03T09:02:20Z</dcterms:modified>
  <cp:revision>238</cp:revision>
  <dc:subject/>
  <dc:title>Слайд 1</dc:title>
</cp:coreProperties>
</file>