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DE43-EE4C-496D-A2A1-06B111824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2118-89CF-4FA3-A4FF-E78B825C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7925-E6C8-43BB-961A-7A2D873D2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46D5-108F-44E5-A9EE-01F88488B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7F78-758B-425F-8BE6-4880F9479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437A-8ED7-4B7D-9304-28A0D81B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2C9A-1FC9-4260-9DFD-7767571F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0417-FF2D-4D58-9C6A-A0287236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FE2C-E32D-4BDE-A465-DF030096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3D64-0292-4E8C-BDEC-EF7E4572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2C5D-3862-4EA6-B217-CA4F028F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C0BD-E07A-45DA-B05E-2053BAAE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7585-D53A-41C5-99C7-EAE18B47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AF92-701E-4CE9-A2AA-77989158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B49A-C7B9-4A75-995C-7D6D531B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DFF7-E838-4B50-A6BD-503B03AA3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4DC2-7CFF-4E68-8000-450C1FB9E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410E-367E-4811-80A1-068EC81A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CA46-FC2A-451D-BA79-4DFB9236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42EB-EAE3-4F37-915B-52D133F0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3961-B24B-49C4-8F07-073B7093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063E-437E-4914-9927-45E249C3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E631-2DFB-4685-9A10-4375EA38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F53E-8762-4BE2-A7E6-F13683F9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D791-F1B1-4BBC-801B-C4866BEF76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447B-9A1B-4B21-A371-2F8C7F798B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3"/>
          <p:cNvSpPr/>
          <p:nvPr/>
        </p:nvSpPr>
        <p:spPr>
          <a:xfrm>
            <a:off x="1214280" y="2071800"/>
            <a:ext cx="764388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РОЕКТ  ПО  ПДД «БЕЗОПАСНАЯ ДОРОГ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ГРУППА  №3  «КАРУСЕЛЬ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уководитель проекта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оспитатель 1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КАРТАШОВА НАТАЛИЯ АЛЕКСАНД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3102480" y="357120"/>
            <a:ext cx="546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Продуктивная деятельность.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Выставка рисун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I:\DCIM\Д. П. 2015\ПДД гр.3\DSCF9432.JPG"/>
          <p:cNvPicPr/>
          <p:nvPr/>
        </p:nvPicPr>
        <p:blipFill>
          <a:blip r:embed="rId1"/>
          <a:stretch/>
        </p:blipFill>
        <p:spPr>
          <a:xfrm>
            <a:off x="2571840" y="1500120"/>
            <a:ext cx="6000840" cy="5016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1857240" y="142920"/>
            <a:ext cx="728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Развлечения.  Досуги. Праздн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1714680" y="928800"/>
            <a:ext cx="742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Проблему БЖД невозможно решить только в рамках ДОУ, поэтому важно обеспечить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преемственность в вопросах воспитания безопасного поведения детей между детским садом и социум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H:\DCIM\ПДД гр.3\DSCF9410.JPG"/>
          <p:cNvPicPr/>
          <p:nvPr/>
        </p:nvPicPr>
        <p:blipFill>
          <a:blip r:embed="rId1"/>
          <a:stretch/>
        </p:blipFill>
        <p:spPr>
          <a:xfrm>
            <a:off x="3071880" y="2071800"/>
            <a:ext cx="4786200" cy="35892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>
            <a:off x="2643120" y="5859720"/>
            <a:ext cx="62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Calibri"/>
              </a:rPr>
              <a:t>Развлечение «Азбука дорожного движения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Calibri"/>
              </a:rPr>
              <a:t>совместно с родителями и сотрудниками службы ДП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2286000" y="357120"/>
            <a:ext cx="549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Работа с родител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C:\Users\STAR\Desktop\Материал на обл. конкурс ГИБДД\Информация для участия в Акции\DSC03717.JPG"/>
          <p:cNvPicPr/>
          <p:nvPr/>
        </p:nvPicPr>
        <p:blipFill>
          <a:blip r:embed="rId1"/>
          <a:stretch/>
        </p:blipFill>
        <p:spPr>
          <a:xfrm>
            <a:off x="2286000" y="1643040"/>
            <a:ext cx="5808600" cy="4357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D:\Desktop\Зам. заведующего\ПРЕЗЕНТАЦИИ\Все для презентаций\Папки с шаблонами\Шаблоны для презентац\шаблон 2\шаблон 2 в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2"/>
          <p:cNvSpPr/>
          <p:nvPr/>
        </p:nvSpPr>
        <p:spPr>
          <a:xfrm>
            <a:off x="0" y="2857680"/>
            <a:ext cx="896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Вывод: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  <a:ea typeface="Times New Roman"/>
              </a:rPr>
              <a:t>Таким образом, чтобы наши дети были счастливы и здоровы, необходимо адаптировать их к условиям окружающего мира,  научить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правильно относиться к своему здоровью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  <a:ea typeface="Times New Roman"/>
              </a:rPr>
              <a:t>, через воспитание 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потребности к здоровому образу жизни,  формированию основ  безопасности  жизнедеятельности и использование здоровьесберегающих технолог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"/>
          <p:cNvSpPr/>
          <p:nvPr/>
        </p:nvSpPr>
        <p:spPr>
          <a:xfrm>
            <a:off x="928800" y="200016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роект был реализован полность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2"/>
          <p:cNvSpPr/>
          <p:nvPr/>
        </p:nvSpPr>
        <p:spPr>
          <a:xfrm>
            <a:off x="1857240" y="928800"/>
            <a:ext cx="70930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Цель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формирование у детей практических навы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безопасного поведения на дорог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1428840" y="2857680"/>
            <a:ext cx="7500960" cy="23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Продукты проект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Рисунки по теме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Презентации и Интерактивные игры по ПДД  для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- Практическая деятельность по дорожной без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Презентация проекта по БЖ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Уголок безопасности в групп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Развлечение по ПД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2"/>
          <p:cNvSpPr/>
          <p:nvPr/>
        </p:nvSpPr>
        <p:spPr>
          <a:xfrm>
            <a:off x="1908000" y="714240"/>
            <a:ext cx="72360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Подготовительный этап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редложение идеи проекта самими детьми, определение актуальности темы, формулировка проблемы, обозначение цели и задач, составление плана проекта, обзор методической литературы, поиск пособий для детей, определение предполагаемых результатов проекта и его зна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3"/>
          <p:cNvSpPr/>
          <p:nvPr/>
        </p:nvSpPr>
        <p:spPr>
          <a:xfrm>
            <a:off x="3413160" y="189000"/>
            <a:ext cx="29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Этапы проек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Прямоугольник 4" descr=""/>
          <p:cNvPicPr/>
          <p:nvPr/>
        </p:nvPicPr>
        <p:blipFill>
          <a:blip r:embed="rId1"/>
          <a:stretch/>
        </p:blipFill>
        <p:spPr>
          <a:xfrm>
            <a:off x="1133640" y="2889360"/>
            <a:ext cx="8065800" cy="151740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5"/>
          <p:cNvSpPr/>
          <p:nvPr/>
        </p:nvSpPr>
        <p:spPr>
          <a:xfrm>
            <a:off x="1908000" y="4724280"/>
            <a:ext cx="72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6600"/>
                </a:solidFill>
                <a:uFillTx/>
                <a:latin typeface="Arial"/>
              </a:rPr>
              <a:t>3.Заключительный этап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Организация выставки-конкурса продуктов художественной деятельности изготовленных совместно родителями с деть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роведение развлечения «Азбука дорожного движения», совместно с родителями и сотрудниками полиции службы ДП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1571760" y="2086200"/>
            <a:ext cx="7267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формированию дорожной безопас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и соблюдению ПД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у детей старшего дошкольного возрас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857240" y="647640"/>
            <a:ext cx="66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  <a:ea typeface="Times New Roman"/>
              </a:rPr>
              <a:t>Организации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  <a:ea typeface="Times New Roman"/>
              </a:rPr>
              <a:t>п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9"/>
          <p:cNvSpPr/>
          <p:nvPr/>
        </p:nvSpPr>
        <p:spPr>
          <a:xfrm>
            <a:off x="3786120" y="216720"/>
            <a:ext cx="520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Центр дорожной безопас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F:\Центры ОБЖ\DSCF9644.JPG"/>
          <p:cNvPicPr/>
          <p:nvPr/>
        </p:nvPicPr>
        <p:blipFill>
          <a:blip r:embed="rId1"/>
          <a:stretch/>
        </p:blipFill>
        <p:spPr>
          <a:xfrm>
            <a:off x="2054160" y="853920"/>
            <a:ext cx="6840720" cy="5181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3"/>
          <p:cNvSpPr/>
          <p:nvPr/>
        </p:nvSpPr>
        <p:spPr>
          <a:xfrm>
            <a:off x="3786120" y="42876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Образовательная деятельность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F:\ПДД\DSCF1344.JPG"/>
          <p:cNvPicPr/>
          <p:nvPr/>
        </p:nvPicPr>
        <p:blipFill>
          <a:blip r:embed="rId1"/>
          <a:stretch/>
        </p:blipFill>
        <p:spPr>
          <a:xfrm>
            <a:off x="2428920" y="15001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2297520" y="1214280"/>
            <a:ext cx="221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Игры д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F:\ПДД\DSCF1311.JPG"/>
          <p:cNvPicPr/>
          <p:nvPr/>
        </p:nvPicPr>
        <p:blipFill>
          <a:blip r:embed="rId1"/>
          <a:stretch/>
        </p:blipFill>
        <p:spPr>
          <a:xfrm>
            <a:off x="1857240" y="3500280"/>
            <a:ext cx="3998880" cy="3000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F:\ПДД\DSCF1271.JPG"/>
          <p:cNvPicPr/>
          <p:nvPr/>
        </p:nvPicPr>
        <p:blipFill>
          <a:blip r:embed="rId2"/>
          <a:stretch/>
        </p:blipFill>
        <p:spPr>
          <a:xfrm>
            <a:off x="4929120" y="285840"/>
            <a:ext cx="4094280" cy="30718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2"/>
          <p:cNvSpPr/>
          <p:nvPr/>
        </p:nvSpPr>
        <p:spPr>
          <a:xfrm>
            <a:off x="2286000" y="857160"/>
            <a:ext cx="66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Использование ИКТ – технолог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I:\DCIM\Д. П. 2015\ППБ в ДОУ\DSCF6881.JPG"/>
          <p:cNvPicPr/>
          <p:nvPr/>
        </p:nvPicPr>
        <p:blipFill>
          <a:blip r:embed="rId1"/>
          <a:stretch/>
        </p:blipFill>
        <p:spPr>
          <a:xfrm>
            <a:off x="5143680" y="1928880"/>
            <a:ext cx="3744720" cy="2808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H:\Разное\Гор. семинар по ПДД\БЖД. Фото\DSCF1545.JPG"/>
          <p:cNvPicPr/>
          <p:nvPr/>
        </p:nvPicPr>
        <p:blipFill>
          <a:blip r:embed="rId2"/>
          <a:stretch/>
        </p:blipFill>
        <p:spPr>
          <a:xfrm>
            <a:off x="1357200" y="2286000"/>
            <a:ext cx="3714840" cy="27874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2"/>
          <p:cNvSpPr/>
          <p:nvPr/>
        </p:nvSpPr>
        <p:spPr>
          <a:xfrm>
            <a:off x="2214720" y="5500800"/>
            <a:ext cx="692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  <a:ea typeface="Times New Roman"/>
              </a:rPr>
              <a:t>Интерактивные игры.  Викторины. Просмотр мультфильмов, презентаций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о обучению детей ПДД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3714840" y="571680"/>
            <a:ext cx="21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Экскур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L:\Аттестация 2016-2017\Высшая 2016\Карташова Н.А\Карташова Н\Новая папка\ПДД\DSC03547.JPG"/>
          <p:cNvPicPr/>
          <p:nvPr/>
        </p:nvPicPr>
        <p:blipFill>
          <a:blip r:embed="rId1"/>
          <a:stretch/>
        </p:blipFill>
        <p:spPr>
          <a:xfrm>
            <a:off x="2428920" y="1571760"/>
            <a:ext cx="5810040" cy="4357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0:28:03Z</dcterms:created>
  <dc:creator>Федотова Виктория Александровна</dc:creator>
  <dc:description/>
  <dc:language>en-US</dc:language>
  <cp:lastModifiedBy>STAR</cp:lastModifiedBy>
  <dcterms:modified xsi:type="dcterms:W3CDTF">2016-10-03T09:02:20Z</dcterms:modified>
  <cp:revision>238</cp:revision>
  <dc:subject/>
  <dc:title>Слайд 1</dc:title>
</cp:coreProperties>
</file>