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11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58A3-36DB-4A5C-822C-C5666918F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9EC6-199F-43E2-BD08-8FC269257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A578-9CC6-4737-9060-503E014C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7B8C-14E5-420E-8579-F5CF524A5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0DCB-41BE-4E49-A571-C77BA0F66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521F-58A1-4244-A292-DD81B9CDF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8DBF-9789-42D9-81AD-5FEB19D17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27AC-1A44-4E25-89AD-2F96CBC418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4D9E-D247-4945-88D3-5992DBCFA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0FFB-F5E0-4308-B4ED-A25110FF9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BE80-E5F6-4E6B-9263-CAB4E6A84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2AF0-1BCD-4A96-ABF7-706CB05DF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48AF-CC69-4D40-B9DA-85CF536D46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4D19-D5FD-46AF-8673-57C047C13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62CD-22A4-4BC3-AEC5-0B9D1A67EC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A39B-81F6-4C07-8F45-E9B42CF65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5865-9CB6-4F07-9A3A-A5DCD55C4C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59A8-367C-446C-AC6F-B241232F40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614F-AF72-47A2-AF9E-58F1AE438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E8BB-FF96-49C5-864D-188DDB3C5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881D-CE6A-4109-8632-17E93C1DC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2053-4F3D-4B4A-AC77-546BDA601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A8B3-7DCA-43D7-8930-712BE52CA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209B-98DF-4452-96AA-97F8DCE10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DDD6B-99F9-4D33-AC45-28C3674AF25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922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D683C4-62EA-479E-B5E7-503D62C830D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" Target="slide10.xm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43040" y="928800"/>
            <a:ext cx="60501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адылга казылгага аас –биле санаашкын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719600"/>
            <a:ext cx="48560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0360" y="3959280"/>
            <a:ext cx="19796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dur="indefinite" fill="hold">
                      <p:stCondLst>
                        <p:cond delay="0"/>
                      </p:stCondLst>
                      <p:childTnLst>
                        <p:par>
                          <p:cTn id="1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118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119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905120"/>
            <a:ext cx="8228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635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357880" y="285840"/>
            <a:ext cx="3392280" cy="27144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857920" y="3571920"/>
            <a:ext cx="2795400" cy="2795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428760" y="285840"/>
            <a:ext cx="385740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КОЛА  т. – 35 к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ЖЫН т. - ? Оон 20 кижи х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dur="indefinite" fill="hold">
                      <p:stCondLst>
                        <p:cond delay="0"/>
                      </p:stCondLst>
                      <p:childTnLst>
                        <p:par>
                          <p:cTn id="1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139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140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881000" cy="320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ннарны улгаткан аайы-биле 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213000"/>
            <a:ext cx="151164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3440" y="150984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7664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94172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508464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191628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92428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198900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йы сан артыгыл? Чуг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-тин мурнунда санны а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7-нин соонда санны 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 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 биле 5-тин ылгалы к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 биле 5-тин ылгалы к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-ти 3-ке эвээжедирге каш болуру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7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7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8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99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0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464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наалга хыналдаз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6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7 -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00 -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86064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4 -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3 -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198900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 -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3 -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8 -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378936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378936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924280"/>
            <a:ext cx="57636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98900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400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941720"/>
            <a:ext cx="86508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877160" y="4437000"/>
            <a:ext cx="1266840" cy="21589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вральдын 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ка аж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блицаны долду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20500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Эвээжеттин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278136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Казыкч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357720"/>
            <a:ext cx="266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Ылг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384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4500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dur="indefinite" fill="hold">
                      <p:stCondLst>
                        <p:cond delay="0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dur="indefinite" fill="hold">
                      <p:stCondLst>
                        <p:cond delay="indefinite"/>
                      </p:stCondLst>
                      <p:childTnLst>
                        <p:par>
                          <p:cTn id="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dur="indefinite" fill="hold">
                      <p:stCondLst>
                        <p:cond delay="indefinite"/>
                      </p:stCondLst>
                      <p:childTnLst>
                        <p:par>
                          <p:cTn id="5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dur="indefinite" fill="hold">
                      <p:stCondLst>
                        <p:cond delay="0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40464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одааш, состу тып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9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 + 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6 +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386064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6 –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1 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198900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 + 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 +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400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2 +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7 +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78936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378936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2924280"/>
            <a:ext cx="57636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198900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386064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400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4400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4941720"/>
            <a:ext cx="86508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9236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7160" y="4437000"/>
            <a:ext cx="1266840" cy="21589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012000" y="4797360"/>
            <a:ext cx="176832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dur="indefinite" fill="hold">
                      <p:stCondLst>
                        <p:cond delay="0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dur="indefinite" fill="hold">
                      <p:stCondLst>
                        <p:cond delay="indefinite"/>
                      </p:stCondLst>
                      <p:childTnLst>
                        <p:par>
                          <p:cTn id="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dur="indefinite" fill="hold">
                      <p:stCondLst>
                        <p:cond delay="indefinite"/>
                      </p:stCondLst>
                      <p:childTnLst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dur="indefinite" fill="hold">
                      <p:stCondLst>
                        <p:cond delay="indefinite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dur="indefinite" fill="hold">
                      <p:stCondLst>
                        <p:cond delay="indefinite"/>
                      </p:stCondLst>
                      <p:childTnLst>
                        <p:par>
                          <p:cTn id="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dur="indefinite" fill="hold">
                      <p:stCondLst>
                        <p:cond delay="indefinite"/>
                      </p:stCondLst>
                      <p:childTnLst>
                        <p:par>
                          <p:cTn id="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юн «Хунчугешке дуз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645000"/>
            <a:ext cx="935280" cy="93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198900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989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206064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2000" y="371628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5445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5445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544500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900000">
            <a:off x="1262160" y="31446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20000">
            <a:off x="7168320" y="49392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880000">
            <a:off x="7307640" y="313884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32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3800000">
            <a:off x="1043640" y="50166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3135240" y="58082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5367240" y="58082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3789360"/>
            <a:ext cx="645840" cy="649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3440" y="278136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000" y="515772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9800" y="609300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1800" y="609300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40360" y="4941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11640" y="25653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1844640"/>
            <a:ext cx="8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280" y="177336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96720" y="2060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6720" y="551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1800" y="551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05440" y="551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86520" y="37893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60720" y="21337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720" y="2060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800360" cy="1711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1971720" cy="1123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643280" y="4365720"/>
            <a:ext cx="122580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148360" y="3860640"/>
            <a:ext cx="1225440" cy="757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3492360" y="2997360"/>
            <a:ext cx="2463840" cy="218268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dur="indefinite" fill="hold">
                      <p:stCondLst>
                        <p:cond delay="0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94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9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5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6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9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9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3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0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7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8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1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98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98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99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6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99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0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4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8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2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5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3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6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dur="indefinite" fill="hold">
                      <p:stCondLst>
                        <p:cond delay="indefinite"/>
                      </p:stCondLst>
                      <p:childTnLst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dur="indefinite" fill="hold">
                      <p:stCondLst>
                        <p:cond delay="indefinite"/>
                      </p:stCondLst>
                      <p:childTnLst>
                        <p:par>
                          <p:cTn id="10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dur="indefinite" fill="hold">
                      <p:stCondLst>
                        <p:cond delay="indefinite"/>
                      </p:stCondLst>
                      <p:childTnLst>
                        <p:par>
                          <p:cTn id="10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dur="indefinite" fill="hold">
                      <p:stCondLst>
                        <p:cond delay="indefinite"/>
                      </p:stCondLst>
                      <p:childTnLst>
                        <p:par>
                          <p:cTn id="1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dur="indefinite" fill="hold">
                      <p:stCondLst>
                        <p:cond delay="indefinite"/>
                      </p:stCondLst>
                      <p:childTnLst>
                        <p:par>
                          <p:cTn id="10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dur="indefinite" fill="hold">
                      <p:stCondLst>
                        <p:cond delay="indefinite"/>
                      </p:stCondLst>
                      <p:childTnLst>
                        <p:par>
                          <p:cTn id="10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dur="indefinite" fill="hold">
                      <p:stCondLst>
                        <p:cond delay="indefinite"/>
                      </p:stCondLst>
                      <p:childTnLst>
                        <p:par>
                          <p:cTn id="10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dur="indefinite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082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83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4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7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02:13Z</dcterms:created>
  <dc:creator>1</dc:creator>
  <dc:description/>
  <dc:language>en-US</dc:language>
  <cp:lastModifiedBy>Пользователь</cp:lastModifiedBy>
  <dcterms:modified xsi:type="dcterms:W3CDTF">2012-08-23T10:13:38Z</dcterms:modified>
  <cp:revision>116</cp:revision>
  <dc:subject/>
  <dc:title>Устный счет по теме «Многозначные числа»</dc:title>
</cp:coreProperties>
</file>