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image8.png" ContentType="image/png"/>
  <Override PartName="/ppt/media/image11.jpeg" ContentType="image/jpeg"/>
  <Override PartName="/ppt/media/image5.png" ContentType="image/png"/>
  <Override PartName="/ppt/media/image6.wmf" ContentType="image/x-wmf"/>
  <Override PartName="/ppt/media/image12.png" ContentType="image/png"/>
  <Override PartName="/ppt/media/image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321E-C429-4BA7-B2F5-ECD822BC2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1D24-1FC1-4157-85C9-37617D466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8B20-936A-433D-85FF-2F7178D7E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F651-3407-41EE-B33A-FEF995A06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21B9-8507-4FEB-B9AB-2A16C10065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A4C0-14B5-4EB0-AF56-25C24406C8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6FA6-CF6E-44B5-927A-FFF53388D8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97F0-0C5C-485F-897F-BE88F55B39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852B-F7E6-419F-9A64-0D67DBB4C5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E836-0AD0-422E-B6D5-3E0BC59A94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E6CC-63A8-41EA-BB94-22597AEA1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11B8-4D27-4A96-A2AB-A2764B08C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83A0-6B0D-481D-AC47-4FA9E24DFA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9842-25FF-448D-AA66-31B0661758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B8F6-3D57-469A-9D1E-A1344E015E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99D7-C0DF-4BC5-8220-6350DA2D27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8159-1BA9-40E9-8305-898D8D9709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DDDE-EAB1-4405-8348-CBCBC26B6F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B67B-680C-4BF3-987D-459492D76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F620-F2D2-4AA9-BE0E-8054C2FA7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B673-7E7F-4C91-B20F-1506F0841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9244-81A2-4EC4-B047-942913CE8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5280-9C43-41DC-BB02-6E99FA2FB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AC91-77B0-47AA-A7B3-3E6568A35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C1A03-D23A-4551-AE02-AF02DE50575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9922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1CA897-EA39-4BDB-97E1-31E362F7576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0.xm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0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10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slide" Target="slide10.xml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43040" y="928800"/>
            <a:ext cx="605016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Times New Roman"/>
                <a:ea typeface="Arial Unicode MS"/>
              </a:rPr>
              <a:t>Кадылга казылгага аас –биле санаашкын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719600"/>
            <a:ext cx="48560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0360" y="3959280"/>
            <a:ext cx="19796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-хейле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2916360" y="3860640"/>
            <a:ext cx="2376360" cy="2737080"/>
            <a:chOff x="2916360" y="3860640"/>
            <a:chExt cx="2376360" cy="2737080"/>
          </a:xfrm>
        </p:grpSpPr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2916360" y="3860640"/>
              <a:ext cx="23763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916360" y="3860640"/>
              <a:ext cx="237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dur="indefinite" fill="hold">
                      <p:stCondLst>
                        <p:cond delay="0"/>
                      </p:stCondLst>
                      <p:childTnLst>
                        <p:par>
                          <p:cTn id="1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25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1118" dur="25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119" dur="250" autoRev="1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905120"/>
            <a:ext cx="8228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635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357880" y="285840"/>
            <a:ext cx="3392280" cy="27144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857920" y="3571920"/>
            <a:ext cx="2795400" cy="2795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428760" y="285840"/>
            <a:ext cx="385740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КОЛА  т. – 35 к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АЖЫН т. - ? Оон 20 кижи х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-хейле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2916360" y="3860640"/>
            <a:ext cx="2376360" cy="2737080"/>
            <a:chOff x="2916360" y="3860640"/>
            <a:chExt cx="2376360" cy="273708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916360" y="3860640"/>
              <a:ext cx="23763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916360" y="3860640"/>
              <a:ext cx="237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dur="indefinite" fill="hold">
                      <p:stCondLst>
                        <p:cond delay="0"/>
                      </p:stCondLst>
                      <p:childTnLst>
                        <p:par>
                          <p:cTn id="1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8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1139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140" dur="250" autoRev="1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32720" y="3284640"/>
            <a:ext cx="1881000" cy="320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аннарны улгаткан аайы-биле а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3213000"/>
            <a:ext cx="151164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3440" y="1509840"/>
            <a:ext cx="1511280" cy="1439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4076640"/>
            <a:ext cx="151128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941720"/>
            <a:ext cx="151128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5084640"/>
            <a:ext cx="151128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1916280"/>
            <a:ext cx="1511280" cy="1439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924280"/>
            <a:ext cx="1511280" cy="1439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1989000"/>
            <a:ext cx="1511280" cy="14400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йы сан артыгыл? Чуг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8-тин мурнунда санны а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7-нин соонда санны а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 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0 биле 5-тин ылгалы каш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 биле 5-тин ылгалы каш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0"/>
            <a:ext cx="7993080" cy="151272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-ти 3-ке эвээжедирге каш болуру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7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75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80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94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9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99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00" dur="250" autoRev="1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dur="indefinite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18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19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-хейле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2916360" y="3860640"/>
            <a:ext cx="2376360" cy="2737080"/>
            <a:chOff x="2916360" y="3860640"/>
            <a:chExt cx="2376360" cy="27370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916360" y="3860640"/>
              <a:ext cx="23763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916360" y="3860640"/>
              <a:ext cx="237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0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0464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наалга хыналдаз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98900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6 -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92428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7 -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386064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100 -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86064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4 -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292428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3 -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4000" y="198900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0 -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292428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3 -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198900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8 -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95640" y="2924280"/>
            <a:ext cx="57600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378936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3789360"/>
            <a:ext cx="57636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924280"/>
            <a:ext cx="57636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1989000"/>
            <a:ext cx="57636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44000" y="2924280"/>
            <a:ext cx="57600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4000" y="198900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941720"/>
            <a:ext cx="86508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877160" y="4437000"/>
            <a:ext cx="1266840" cy="21589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0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вральдын 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ка ажы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блицаны долду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205000"/>
            <a:ext cx="266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Эвээжеттини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2781360"/>
            <a:ext cx="266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Казыкч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357720"/>
            <a:ext cx="2664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Ылг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0" y="220500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220500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3528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2781360"/>
            <a:ext cx="576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2781360"/>
            <a:ext cx="576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357720"/>
            <a:ext cx="576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3357720"/>
            <a:ext cx="57600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3840" y="27813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220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8000" y="335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544500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dur="indefinite" fill="hold">
                      <p:stCondLst>
                        <p:cond delay="0"/>
                      </p:stCondLst>
                      <p:childTnLst>
                        <p:par>
                          <p:cTn id="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dur="indefinite" fill="hold">
                      <p:stCondLst>
                        <p:cond delay="indefinite"/>
                      </p:stCondLst>
                      <p:childTnLst>
                        <p:par>
                          <p:cTn id="5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dur="indefinite" fill="hold">
                      <p:stCondLst>
                        <p:cond delay="indefinite"/>
                      </p:stCondLst>
                      <p:childTnLst>
                        <p:par>
                          <p:cTn id="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dur="indefinite" fill="hold">
                      <p:stCondLst>
                        <p:cond delay="indefinite"/>
                      </p:stCondLst>
                      <p:childTnLst>
                        <p:par>
                          <p:cTn id="5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fill="hold">
                      <p:stCondLst>
                        <p:cond delay="indefinite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dur="indefinite" fill="hold">
                      <p:stCondLst>
                        <p:cond delay="indefinite"/>
                      </p:stCondLst>
                      <p:childTnLst>
                        <p:par>
                          <p:cTn id="5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-хейле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16048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2916360" y="3860640"/>
            <a:ext cx="2376360" cy="2737080"/>
            <a:chOff x="2916360" y="3860640"/>
            <a:chExt cx="2376360" cy="2737080"/>
          </a:xfrm>
        </p:grpSpPr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2916360" y="3860640"/>
              <a:ext cx="23763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916360" y="3860640"/>
              <a:ext cx="237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dur="indefinite" fill="hold">
                      <p:stCondLst>
                        <p:cond delay="0"/>
                      </p:stCondLst>
                      <p:childTnLst>
                        <p:par>
                          <p:cTn id="6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618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40464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одааш, состу тып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198900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9 +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292428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 + 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386064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6 +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64000" y="386064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6 –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0" y="292428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71 +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4000" y="1989000"/>
            <a:ext cx="1152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 + 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386064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7 + 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4000" y="292428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12 +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1989000"/>
            <a:ext cx="1152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7 +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198900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2924280"/>
            <a:ext cx="57600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78936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3789360"/>
            <a:ext cx="57636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19640" y="2924280"/>
            <a:ext cx="57636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1989000"/>
            <a:ext cx="57636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4000" y="386064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44000" y="2924280"/>
            <a:ext cx="576000" cy="57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44000" y="1989000"/>
            <a:ext cx="576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198900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292428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386064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198900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292428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386064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00720" y="386064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00720" y="292428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1989000"/>
            <a:ext cx="50472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4941720"/>
            <a:ext cx="86508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9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128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9236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4941720"/>
            <a:ext cx="720720" cy="574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9236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3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128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5516640"/>
            <a:ext cx="72072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877160" y="4437000"/>
            <a:ext cx="1266840" cy="215892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012000" y="4797360"/>
            <a:ext cx="176832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dur="indefinite" fill="hold">
                      <p:stCondLst>
                        <p:cond delay="0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7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dur="indefinite" fill="hold">
                      <p:stCondLst>
                        <p:cond delay="indefinite"/>
                      </p:stCondLst>
                      <p:childTnLst>
                        <p:par>
                          <p:cTn id="7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dur="indefinite" fill="hold">
                      <p:stCondLst>
                        <p:cond delay="indefinite"/>
                      </p:stCondLst>
                      <p:childTnLst>
                        <p:par>
                          <p:cTn id="7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dur="indefinite" fill="hold">
                      <p:stCondLst>
                        <p:cond delay="indefinite"/>
                      </p:stCondLst>
                      <p:childTnLst>
                        <p:par>
                          <p:cTn id="7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dur="indefinite" fill="hold">
                      <p:stCondLst>
                        <p:cond delay="indefinite"/>
                      </p:stCondLst>
                      <p:childTnLst>
                        <p:par>
                          <p:cTn id="8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dur="indefinite" fill="hold">
                      <p:stCondLst>
                        <p:cond delay="indefinite"/>
                      </p:stCondLst>
                      <p:childTnLst>
                        <p:par>
                          <p:cTn id="8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dur="indefinite" fill="hold">
                      <p:stCondLst>
                        <p:cond delay="indefinite"/>
                      </p:stCondLst>
                      <p:childTnLst>
                        <p:par>
                          <p:cTn id="8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dur="indefinite" fill="hold">
                      <p:stCondLst>
                        <p:cond delay="indefinite"/>
                      </p:stCondLst>
                      <p:childTnLst>
                        <p:par>
                          <p:cTn id="8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dur="indefinite" fill="hold">
                      <p:stCondLst>
                        <p:cond delay="indefinite"/>
                      </p:stCondLst>
                      <p:childTnLst>
                        <p:par>
                          <p:cTn id="8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dur="indefinite" fill="hold">
                      <p:stCondLst>
                        <p:cond delay="indefinite"/>
                      </p:stCondLst>
                      <p:childTnLst>
                        <p:par>
                          <p:cTn id="8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333360"/>
            <a:ext cx="7993080" cy="1513080"/>
          </a:xfrm>
          <a:prstGeom prst="horizont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юн «Хунчугешке дуз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3645000"/>
            <a:ext cx="935280" cy="93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1989000"/>
            <a:ext cx="93492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1989000"/>
            <a:ext cx="93528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16720" y="2060640"/>
            <a:ext cx="93492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2000" y="3716280"/>
            <a:ext cx="93528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0920" y="5445000"/>
            <a:ext cx="93528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5445000"/>
            <a:ext cx="93528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16720" y="5445000"/>
            <a:ext cx="93492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900000">
            <a:off x="1262160" y="314460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20000">
            <a:off x="7168320" y="4939200"/>
            <a:ext cx="1008000" cy="288720"/>
          </a:xfrm>
          <a:prstGeom prst="rightArrow">
            <a:avLst>
              <a:gd name="adj1" fmla="val 50000"/>
              <a:gd name="adj2" fmla="val 87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2880000">
            <a:off x="7307640" y="313884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234936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32000" y="234936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3800000">
            <a:off x="1043640" y="50166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0800000">
            <a:off x="3135240" y="580824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5367240" y="580824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3789360"/>
            <a:ext cx="645840" cy="649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3440" y="2781360"/>
            <a:ext cx="7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000" y="5157720"/>
            <a:ext cx="9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9800" y="6093000"/>
            <a:ext cx="7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81800" y="6093000"/>
            <a:ext cx="7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40360" y="49417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11640" y="256536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1844640"/>
            <a:ext cx="8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280" y="1773360"/>
            <a:ext cx="9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+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96720" y="2060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6720" y="5516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01800" y="5516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05440" y="5516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86520" y="37893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60720" y="21337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720" y="2060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800360" cy="17114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1971720" cy="1123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643280" y="4365720"/>
            <a:ext cx="1225800" cy="757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148360" y="3860640"/>
            <a:ext cx="1225440" cy="757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3492360" y="2997360"/>
            <a:ext cx="2463840" cy="218268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49636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dur="indefinite" fill="hold">
                      <p:stCondLst>
                        <p:cond delay="0"/>
                      </p:stCondLst>
                      <p:childTnLst>
                        <p:par>
                          <p:cTn id="9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93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94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6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9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95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6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9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9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3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6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0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4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97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8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1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98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5" dur="500" fill="hold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98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9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2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99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6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99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0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dur="indefinite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7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1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4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dur="indefinite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8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2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5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dur="indefinite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2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9" dur="5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3" dur="5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6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dur="indefinite" fill="hold">
                      <p:stCondLst>
                        <p:cond delay="indefinite"/>
                      </p:stCondLst>
                      <p:childTnLst>
                        <p:par>
                          <p:cTn id="10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dur="indefinite" fill="hold">
                      <p:stCondLst>
                        <p:cond delay="indefinite"/>
                      </p:stCondLst>
                      <p:childTnLst>
                        <p:par>
                          <p:cTn id="10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dur="indefinite" fill="hold">
                      <p:stCondLst>
                        <p:cond delay="indefinite"/>
                      </p:stCondLst>
                      <p:childTnLst>
                        <p:par>
                          <p:cTn id="10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dur="indefinite" fill="hold">
                      <p:stCondLst>
                        <p:cond delay="indefinite"/>
                      </p:stCondLst>
                      <p:childTnLst>
                        <p:par>
                          <p:cTn id="10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dur="indefinite" fill="hold">
                      <p:stCondLst>
                        <p:cond delay="indefinite"/>
                      </p:stCondLst>
                      <p:childTnLst>
                        <p:par>
                          <p:cTn id="10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dur="indefinite" fill="hold">
                      <p:stCondLst>
                        <p:cond delay="indefinite"/>
                      </p:stCondLst>
                      <p:childTnLst>
                        <p:par>
                          <p:cTn id="10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dur="indefinite" fill="hold">
                      <p:stCondLst>
                        <p:cond delay="indefinite"/>
                      </p:stCondLst>
                      <p:childTnLst>
                        <p:par>
                          <p:cTn id="10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dur="indefinite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500" autoRev="1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animClr clrSpc="rgb">
                                      <p:cBhvr>
                                        <p:cTn id="1082" dur="500" autoRev="1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2f"/>
                                      </p:to>
                                    </p:animClr>
                                    <p:set>
                                      <p:cBhvr>
                                        <p:cTn id="1083" dur="500" autoRev="1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6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4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7" dur="500" fill="hold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02:13Z</dcterms:created>
  <dc:creator>1</dc:creator>
  <dc:description/>
  <dc:language>en-US</dc:language>
  <cp:lastModifiedBy>Пользователь</cp:lastModifiedBy>
  <dcterms:modified xsi:type="dcterms:W3CDTF">2012-08-23T10:13:38Z</dcterms:modified>
  <cp:revision>116</cp:revision>
  <dc:subject/>
  <dc:title>Устный счет по теме «Многозначные числа»</dc:title>
</cp:coreProperties>
</file>