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CBB-A430-45AC-B400-738B5684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1E09-1DEA-43B9-9470-AB4AEBB1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7A47-CC60-4B1F-85AD-357C6ECA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A27-DCA2-4C2C-BBE5-D95F56FE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EF42-419B-4CBF-ABCF-9D4F0CC0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10C-6B8C-4329-8557-6B420B6D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8CAE-1D4A-4EEE-989A-85DF32C4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139-4045-4B6F-8AA9-56D320EB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5E3B-D8F4-460B-9053-37FACA58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311-DFA4-4852-B9BB-7D0E1DA9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FF81-D58C-4AD8-B943-C8642CA8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A4A-279F-4893-BE7F-D57020A3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D3A6-DCBD-4421-9E49-68FB765764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Картинки по запросу особенности резьбы татьянки"/>
          <p:cNvPicPr/>
          <p:nvPr/>
        </p:nvPicPr>
        <p:blipFill>
          <a:blip r:embed="rId1"/>
          <a:stretch/>
        </p:blipFill>
        <p:spPr>
          <a:xfrm>
            <a:off x="250920" y="26028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Bookman Old Style"/>
              </a:rPr>
              <a:t>ВИДЫ </a:t>
            </a:r>
            <a:r>
              <a:rPr b="0" i="1" lang="ru-RU" sz="4800" spc="-1" strike="noStrike">
                <a:solidFill>
                  <a:srgbClr val="ffcc00"/>
                </a:solidFill>
                <a:latin typeface="Bookman Old Style"/>
              </a:rPr>
              <a:t>РЕЗЬБЫ</a:t>
            </a:r>
            <a:r>
              <a:rPr b="0" lang="ru-RU" sz="4800" spc="-1" strike="noStrike">
                <a:solidFill>
                  <a:srgbClr val="ffcc00"/>
                </a:solidFill>
                <a:latin typeface="Bookman Old Style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ffcc00"/>
                </a:solidFill>
                <a:latin typeface="Bookman Old Style"/>
              </a:rPr>
              <a:t>по ДЕРЕВУ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90560" y="510552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работчик презентации: мастер производственного обуч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БПОУ МО «Можайский техникум» (профессия: Плотник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Пацук Алесей Станислав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572000" y="696240"/>
            <a:ext cx="4321080" cy="194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b5481"/>
                </a:solidFill>
                <a:latin typeface="Times New Roman"/>
              </a:rPr>
              <a:t>Этот вид резьбы по дереву наиболее простой и доступный многим умельцам. Геометрическая резьба представляет собой особые клинорезные выемки, различной направленности и глубины. Количество граней, в каждой отдельной выемке, также может быть различным. Но, наиболее распространённые – это с двумя и тремя выемка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10" descr="Картинки по запросу геометрическая резьба"/>
          <p:cNvPicPr/>
          <p:nvPr/>
        </p:nvPicPr>
        <p:blipFill>
          <a:blip r:embed="rId1"/>
          <a:stretch/>
        </p:blipFill>
        <p:spPr>
          <a:xfrm>
            <a:off x="179280" y="3500280"/>
            <a:ext cx="4643640" cy="3056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Картинки по запросу геометрическая резьба"/>
          <p:cNvPicPr/>
          <p:nvPr/>
        </p:nvPicPr>
        <p:blipFill>
          <a:blip r:embed="rId2"/>
          <a:stretch/>
        </p:blipFill>
        <p:spPr>
          <a:xfrm>
            <a:off x="138240" y="115920"/>
            <a:ext cx="3894120" cy="3271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80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ЕОМЕТРИЧЕСКАЯ РЕЗЬБ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8" descr="Картинки по запросу геометрическая резьба"/>
          <p:cNvPicPr/>
          <p:nvPr/>
        </p:nvPicPr>
        <p:blipFill>
          <a:blip r:embed="rId3"/>
          <a:stretch/>
        </p:blipFill>
        <p:spPr>
          <a:xfrm>
            <a:off x="5076720" y="2868480"/>
            <a:ext cx="3564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3995640" y="757080"/>
            <a:ext cx="51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турная резьба относится к орнаментной резьбе. С 15 века она широко представлена в народном искусстве. Выполняется контурная резьба по дереву в виде прямолинейных линий, прорезаемых по контуру прилагаемого рисун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6" descr="Картинки по запросу контурная резьба по дереву"/>
          <p:cNvPicPr/>
          <p:nvPr/>
        </p:nvPicPr>
        <p:blipFill>
          <a:blip r:embed="rId1"/>
          <a:stretch/>
        </p:blipFill>
        <p:spPr>
          <a:xfrm>
            <a:off x="0" y="0"/>
            <a:ext cx="4067280" cy="3973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Картинки по запросу контурная резьба по дереву"/>
          <p:cNvPicPr/>
          <p:nvPr/>
        </p:nvPicPr>
        <p:blipFill>
          <a:blip r:embed="rId2"/>
          <a:stretch/>
        </p:blipFill>
        <p:spPr>
          <a:xfrm>
            <a:off x="0" y="4241880"/>
            <a:ext cx="4427640" cy="2616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Картинки по запросу контурная резьба по дереву"/>
          <p:cNvPicPr/>
          <p:nvPr/>
        </p:nvPicPr>
        <p:blipFill>
          <a:blip r:embed="rId3"/>
          <a:stretch/>
        </p:blipFill>
        <p:spPr>
          <a:xfrm>
            <a:off x="4005360" y="3003480"/>
            <a:ext cx="513864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Картинки по запросу домовая резьба"/>
          <p:cNvPicPr/>
          <p:nvPr/>
        </p:nvPicPr>
        <p:blipFill>
          <a:blip r:embed="rId1"/>
          <a:stretch/>
        </p:blipFill>
        <p:spPr>
          <a:xfrm>
            <a:off x="142920" y="136440"/>
            <a:ext cx="4357800" cy="2927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4427640" y="120600"/>
            <a:ext cx="45720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Основной характеристикой </a:t>
            </a:r>
            <a:r>
              <a:rPr b="0" i="1" lang="ru-RU" sz="2400" spc="-1" strike="noStrike">
                <a:solidFill>
                  <a:srgbClr val="ffffff"/>
                </a:solidFill>
                <a:latin typeface="Bookman Old Style"/>
              </a:rPr>
              <a:t>домовой резьбы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 по дереву является её крупномасштабность. Она выполняется с помощью простейшего инструмента: топора, долото и пилы. Используется дерево хвойных пород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0" descr="Картинки по запросу домовая резьба"/>
          <p:cNvPicPr/>
          <p:nvPr/>
        </p:nvPicPr>
        <p:blipFill>
          <a:blip r:embed="rId2"/>
          <a:stretch/>
        </p:blipFill>
        <p:spPr>
          <a:xfrm>
            <a:off x="3059280" y="3114720"/>
            <a:ext cx="529272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851280" y="261360"/>
            <a:ext cx="511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бъёмн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езьба по дереву наиболее сложный вид обработки древесины. Ещё её называют – скульптурной. Этот вид характеризуется тем, что изготавливаемое изображение как бы отдалено от общего фона. Образует рельеф, скульптуру или целую скульптурную групп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6" descr="Картинки по запросу объемная резьба по дереву"/>
          <p:cNvPicPr/>
          <p:nvPr/>
        </p:nvPicPr>
        <p:blipFill>
          <a:blip r:embed="rId1"/>
          <a:stretch/>
        </p:blipFill>
        <p:spPr>
          <a:xfrm>
            <a:off x="0" y="0"/>
            <a:ext cx="3902040" cy="3933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Картинки по запросу объемная резьба по дереву"/>
          <p:cNvPicPr/>
          <p:nvPr/>
        </p:nvPicPr>
        <p:blipFill>
          <a:blip r:embed="rId2"/>
          <a:stretch/>
        </p:blipFill>
        <p:spPr>
          <a:xfrm>
            <a:off x="4140360" y="2565360"/>
            <a:ext cx="500364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4716360" y="259200"/>
            <a:ext cx="442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резная резьба называется также сквозной, или пропильной. При этом способе резьбы удаляют фон. В сочетании с рельефной или геометрической резьбой создается впечатление воздушности изделия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6" descr="Картинки по запросу прорезная резьба"/>
          <p:cNvPicPr/>
          <p:nvPr/>
        </p:nvPicPr>
        <p:blipFill>
          <a:blip r:embed="rId1"/>
          <a:stretch/>
        </p:blipFill>
        <p:spPr>
          <a:xfrm>
            <a:off x="0" y="0"/>
            <a:ext cx="4624560" cy="479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Картинки по запросу прорезная резьба"/>
          <p:cNvPicPr/>
          <p:nvPr/>
        </p:nvPicPr>
        <p:blipFill>
          <a:blip r:embed="rId2"/>
          <a:stretch/>
        </p:blipFill>
        <p:spPr>
          <a:xfrm>
            <a:off x="4284720" y="2565360"/>
            <a:ext cx="4859280" cy="3645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Картинки по запросу прорезная резьба"/>
          <p:cNvPicPr/>
          <p:nvPr/>
        </p:nvPicPr>
        <p:blipFill>
          <a:blip r:embed="rId3"/>
          <a:stretch/>
        </p:blipFill>
        <p:spPr>
          <a:xfrm>
            <a:off x="0" y="3633840"/>
            <a:ext cx="42991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2" descr="Картинки по запросу богородская резьба"/>
          <p:cNvPicPr/>
          <p:nvPr/>
        </p:nvPicPr>
        <p:blipFill>
          <a:blip r:embed="rId1"/>
          <a:stretch/>
        </p:blipFill>
        <p:spPr>
          <a:xfrm>
            <a:off x="4788000" y="3322800"/>
            <a:ext cx="4356000" cy="35352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4211640" y="261360"/>
            <a:ext cx="493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ображения людей и зверей были в обычаях восточных славян еще с глубочайшей древности. Фигурки имели символическое значение: медведь – символ могущества, козёл – покровитель урожая, баран и корова – плодородия, олень — изобилия. Деревянная игрушка благодаря обилию лесов существовала в России почти повсеместно. Центром же производства деревянной игрушки считаются село Богородское и Сергиев Посад, а временем возникновения в привычном нам виде – XV век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8" descr="Картинки по запросу богородская резьба"/>
          <p:cNvPicPr/>
          <p:nvPr/>
        </p:nvPicPr>
        <p:blipFill>
          <a:blip r:embed="rId2">
            <a:alphaModFix amt="9000"/>
          </a:blip>
          <a:stretch/>
        </p:blipFill>
        <p:spPr>
          <a:xfrm>
            <a:off x="0" y="0"/>
            <a:ext cx="3865680" cy="3865680"/>
          </a:xfrm>
          <a:prstGeom prst="rect">
            <a:avLst/>
          </a:prstGeom>
          <a:ln w="82440">
            <a:solidFill>
              <a:srgbClr val="808080"/>
            </a:solidFill>
            <a:miter/>
          </a:ln>
        </p:spPr>
      </p:pic>
      <p:pic>
        <p:nvPicPr>
          <p:cNvPr id="66" name="Picture 10" descr="Картинки по запросу богородская резьба"/>
          <p:cNvPicPr/>
          <p:nvPr/>
        </p:nvPicPr>
        <p:blipFill>
          <a:blip r:embed="rId3"/>
          <a:stretch/>
        </p:blipFill>
        <p:spPr>
          <a:xfrm>
            <a:off x="0" y="3691080"/>
            <a:ext cx="4716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0" descr="Картинки по запросу особенности абрамцево-кудринской резьбы"/>
          <p:cNvPicPr/>
          <p:nvPr/>
        </p:nvPicPr>
        <p:blipFill>
          <a:blip r:embed="rId1"/>
          <a:stretch/>
        </p:blipFill>
        <p:spPr>
          <a:xfrm>
            <a:off x="2016000" y="3830760"/>
            <a:ext cx="3851280" cy="2889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5867280" y="185040"/>
            <a:ext cx="3027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дринская резьба относится к плоскорельефным видам резьбы. Плоскорельефная резьба имеет несколько разновидностей: резьба с заоваленным контуром, резьба с подушечным контуром и резьба с подобранным (выборным) фоном. Общее для них – невысокий условный рельеф, расположенный в одной плоскости на уровне украшаемой поверхности. Плоскорельефная резьба является как бы переходным видом от контурной к рельефной резьб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6" descr="Картинки по запросу особенности абрамцево-кудринской резьбы"/>
          <p:cNvPicPr/>
          <p:nvPr/>
        </p:nvPicPr>
        <p:blipFill>
          <a:blip r:embed="rId2"/>
          <a:stretch/>
        </p:blipFill>
        <p:spPr>
          <a:xfrm>
            <a:off x="123840" y="115920"/>
            <a:ext cx="39196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4" descr="Картинки по запросу особенности резьбы татьянки"/>
          <p:cNvPicPr/>
          <p:nvPr/>
        </p:nvPicPr>
        <p:blipFill>
          <a:blip r:embed="rId1"/>
          <a:stretch/>
        </p:blipFill>
        <p:spPr>
          <a:xfrm>
            <a:off x="0" y="0"/>
            <a:ext cx="4932360" cy="32846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419640" y="397080"/>
            <a:ext cx="57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обенностью техники «Татьянка» является единичность и уникальность каждой операции резания, что требует использования специальных инструментов и применения оригинальных приемов. Большинство изделий, украшенных этой резьбой, являются авторскими, дизайнерскими работами, а предметы, украшенные ей, являются настоящими произведениями искусст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12" descr="Картинки по запросу особенности резьбы татьянки"/>
          <p:cNvPicPr/>
          <p:nvPr/>
        </p:nvPicPr>
        <p:blipFill>
          <a:blip r:embed="rId2"/>
          <a:stretch/>
        </p:blipFill>
        <p:spPr>
          <a:xfrm>
            <a:off x="971640" y="3357720"/>
            <a:ext cx="676908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3T05:56:33Z</dcterms:created>
  <dc:creator>WinXPProSP3</dc:creator>
  <dc:description/>
  <dc:language>en-US</dc:language>
  <cp:lastModifiedBy>alex.pacuk@outlook.com</cp:lastModifiedBy>
  <dcterms:modified xsi:type="dcterms:W3CDTF">2016-10-03T19:30:44Z</dcterms:modified>
  <cp:revision>7</cp:revision>
  <dc:subject/>
  <dc:title>Слайд 1</dc:title>
</cp:coreProperties>
</file>