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170-D553-4CDB-A5C7-F4130B62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4AD-C36C-4922-B94B-7098D82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011-C40A-4A9F-BE1E-9E297402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070-6350-4CDB-93D8-540F73C7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E17-B468-45C9-A249-C4FFE1B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0DF-6630-4CCF-B167-390EA30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66C-8080-4C49-A4EE-E1794423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934-C27F-4E36-911C-98447048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56E-2509-468B-822F-1006CD0E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792-5AA8-4DC7-AD9D-9AB9FFC4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994-C55B-4976-BFC6-D29BD5DB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A4E-C5A0-4A94-A746-A6AD9A9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BD1-7F13-4FC2-863E-9000D4BE13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ртинки по запросу особенности резьбы татьянки"/>
          <p:cNvPicPr/>
          <p:nvPr/>
        </p:nvPicPr>
        <p:blipFill>
          <a:blip r:embed="rId1"/>
          <a:stretch/>
        </p:blipFill>
        <p:spPr>
          <a:xfrm>
            <a:off x="250920" y="26028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Bookman Old Style"/>
              </a:rPr>
              <a:t>ВИДЫ </a:t>
            </a:r>
            <a:r>
              <a:rPr b="0" i="1" lang="ru-RU" sz="4800" spc="-1" strike="noStrike">
                <a:solidFill>
                  <a:srgbClr val="ffcc00"/>
                </a:solidFill>
                <a:latin typeface="Bookman Old Style"/>
              </a:rPr>
              <a:t>РЕЗЬБЫ</a:t>
            </a:r>
            <a:r>
              <a:rPr b="0" lang="ru-RU" sz="4800" spc="-1" strike="noStrike">
                <a:solidFill>
                  <a:srgbClr val="ffcc00"/>
                </a:solidFill>
                <a:latin typeface="Bookman Old Style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Bookman Old Style"/>
              </a:rPr>
              <a:t>по ДЕРЕВУ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90560" y="5105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отчик презентации: мастер производственного обу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БПОУ МО «Можайский техникум» (профессия: Плотни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ацук Алесей Станислав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572000" y="696240"/>
            <a:ext cx="4321080" cy="194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imes New Roman"/>
              </a:rPr>
              <a:t>Этот вид резьбы по дереву наиболее простой и доступный многим умельцам. Геометрическая резьба представляет собой особые клинорезные выемки, различной направленности и глубины. Количество граней, в каждой отдельной выемке, также может быть различным. Но, наиболее распространённые – это с двумя и тремя выемк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0" descr="Картинки по запросу геометрическая резьба"/>
          <p:cNvPicPr/>
          <p:nvPr/>
        </p:nvPicPr>
        <p:blipFill>
          <a:blip r:embed="rId1"/>
          <a:stretch/>
        </p:blipFill>
        <p:spPr>
          <a:xfrm>
            <a:off x="179280" y="3500280"/>
            <a:ext cx="4643640" cy="305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артинки по запросу геометрическая резьба"/>
          <p:cNvPicPr/>
          <p:nvPr/>
        </p:nvPicPr>
        <p:blipFill>
          <a:blip r:embed="rId2"/>
          <a:stretch/>
        </p:blipFill>
        <p:spPr>
          <a:xfrm>
            <a:off x="138240" y="115920"/>
            <a:ext cx="3894120" cy="3271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ЕОМЕТРИЧЕСКАЯ РЕЗЬБ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8" descr="Картинки по запросу геометрическая резьба"/>
          <p:cNvPicPr/>
          <p:nvPr/>
        </p:nvPicPr>
        <p:blipFill>
          <a:blip r:embed="rId3"/>
          <a:stretch/>
        </p:blipFill>
        <p:spPr>
          <a:xfrm>
            <a:off x="5076720" y="2868480"/>
            <a:ext cx="356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95640" y="75708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урная резьба относится к орнаментной резьбе. С 15 века она широко представлена в народном искусстве. Выполняется контурная резьба по дереву в виде прямолинейных линий, прорезаемых по контуру прилагаемого рису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6" descr="Картинки по запросу контурная резьба по дереву"/>
          <p:cNvPicPr/>
          <p:nvPr/>
        </p:nvPicPr>
        <p:blipFill>
          <a:blip r:embed="rId1"/>
          <a:stretch/>
        </p:blipFill>
        <p:spPr>
          <a:xfrm>
            <a:off x="0" y="0"/>
            <a:ext cx="4067280" cy="397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Картинки по запросу контурная резьба по дереву"/>
          <p:cNvPicPr/>
          <p:nvPr/>
        </p:nvPicPr>
        <p:blipFill>
          <a:blip r:embed="rId2"/>
          <a:stretch/>
        </p:blipFill>
        <p:spPr>
          <a:xfrm>
            <a:off x="0" y="4241880"/>
            <a:ext cx="4427640" cy="2616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Картинки по запросу контурная резьба по дереву"/>
          <p:cNvPicPr/>
          <p:nvPr/>
        </p:nvPicPr>
        <p:blipFill>
          <a:blip r:embed="rId3"/>
          <a:stretch/>
        </p:blipFill>
        <p:spPr>
          <a:xfrm>
            <a:off x="4005360" y="3003480"/>
            <a:ext cx="51386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Картинки по запросу домовая резьба"/>
          <p:cNvPicPr/>
          <p:nvPr/>
        </p:nvPicPr>
        <p:blipFill>
          <a:blip r:embed="rId1"/>
          <a:stretch/>
        </p:blipFill>
        <p:spPr>
          <a:xfrm>
            <a:off x="142920" y="136440"/>
            <a:ext cx="4357800" cy="2927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427640" y="120600"/>
            <a:ext cx="457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Основной характеристикой </a:t>
            </a:r>
            <a:r>
              <a:rPr b="0" i="1" lang="ru-RU" sz="2400" spc="-1" strike="noStrike">
                <a:solidFill>
                  <a:srgbClr val="ffffff"/>
                </a:solidFill>
                <a:latin typeface="Bookman Old Style"/>
              </a:rPr>
              <a:t>домовой резьбы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 по дереву является её крупномасштабность. Она выполняется с помощью простейшего инструмента: топора, долото и пилы. Используется дерево хвойных пор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Картинки по запросу домовая резьба"/>
          <p:cNvPicPr/>
          <p:nvPr/>
        </p:nvPicPr>
        <p:blipFill>
          <a:blip r:embed="rId2"/>
          <a:stretch/>
        </p:blipFill>
        <p:spPr>
          <a:xfrm>
            <a:off x="3059280" y="3114720"/>
            <a:ext cx="52927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851280" y="26136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бъём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езьба по дереву наиболее сложный вид обработки древесины. Ещё её называют – скульптурной. Этот вид характеризуется тем, что изготавливаемое изображение как бы отдалено от общего фона. Образует рельеф, скульптуру или целую скульптурную групп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Картинки по запросу объемная резьба по дереву"/>
          <p:cNvPicPr/>
          <p:nvPr/>
        </p:nvPicPr>
        <p:blipFill>
          <a:blip r:embed="rId1"/>
          <a:stretch/>
        </p:blipFill>
        <p:spPr>
          <a:xfrm>
            <a:off x="0" y="0"/>
            <a:ext cx="3902040" cy="39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Картинки по запросу объемная резьба по дереву"/>
          <p:cNvPicPr/>
          <p:nvPr/>
        </p:nvPicPr>
        <p:blipFill>
          <a:blip r:embed="rId2"/>
          <a:stretch/>
        </p:blipFill>
        <p:spPr>
          <a:xfrm>
            <a:off x="4140360" y="2565360"/>
            <a:ext cx="50036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716360" y="259200"/>
            <a:ext cx="442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резная резьба называется также сквозной, или пропильной. При этом способе резьбы удаляют фон. В сочетании с рельефной или геометрической резьбой создается впечатление воздушности издел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Картинки по запросу прорезная резьба"/>
          <p:cNvPicPr/>
          <p:nvPr/>
        </p:nvPicPr>
        <p:blipFill>
          <a:blip r:embed="rId1"/>
          <a:stretch/>
        </p:blipFill>
        <p:spPr>
          <a:xfrm>
            <a:off x="0" y="0"/>
            <a:ext cx="4624560" cy="479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по запросу прорезная резьба"/>
          <p:cNvPicPr/>
          <p:nvPr/>
        </p:nvPicPr>
        <p:blipFill>
          <a:blip r:embed="rId2"/>
          <a:stretch/>
        </p:blipFill>
        <p:spPr>
          <a:xfrm>
            <a:off x="4284720" y="256536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Картинки по запросу прорезная резьба"/>
          <p:cNvPicPr/>
          <p:nvPr/>
        </p:nvPicPr>
        <p:blipFill>
          <a:blip r:embed="rId3"/>
          <a:stretch/>
        </p:blipFill>
        <p:spPr>
          <a:xfrm>
            <a:off x="0" y="3633840"/>
            <a:ext cx="4299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Картинки по запросу богородская резьба"/>
          <p:cNvPicPr/>
          <p:nvPr/>
        </p:nvPicPr>
        <p:blipFill>
          <a:blip r:embed="rId1"/>
          <a:stretch/>
        </p:blipFill>
        <p:spPr>
          <a:xfrm>
            <a:off x="4788000" y="3322800"/>
            <a:ext cx="4356000" cy="3535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4211640" y="261360"/>
            <a:ext cx="49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я людей и зверей были в обычаях восточных славян еще с глубочайшей древности. Фигурки имели символическое значение: медведь – символ могущества, козёл – покровитель урожая, баран и корова – плодородия, олень — изобилия. Деревянная игрушка благодаря обилию лесов существовала в России почти повсеместно. Центром же производства деревянной игрушки считаются село Богородское и Сергиев Посад, а временем возникновения в привычном нам виде – XV ве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8" descr="Картинки по запросу богородская резьба"/>
          <p:cNvPicPr/>
          <p:nvPr/>
        </p:nvPicPr>
        <p:blipFill>
          <a:blip r:embed="rId2">
            <a:alphaModFix amt="9000"/>
          </a:blip>
          <a:stretch/>
        </p:blipFill>
        <p:spPr>
          <a:xfrm>
            <a:off x="0" y="0"/>
            <a:ext cx="3865680" cy="3865680"/>
          </a:xfrm>
          <a:prstGeom prst="rect">
            <a:avLst/>
          </a:prstGeom>
          <a:ln w="82440">
            <a:solidFill>
              <a:srgbClr val="808080"/>
            </a:solidFill>
            <a:miter/>
          </a:ln>
        </p:spPr>
      </p:pic>
      <p:pic>
        <p:nvPicPr>
          <p:cNvPr id="66" name="Picture 10" descr="Картинки по запросу богородская резьба"/>
          <p:cNvPicPr/>
          <p:nvPr/>
        </p:nvPicPr>
        <p:blipFill>
          <a:blip r:embed="rId3"/>
          <a:stretch/>
        </p:blipFill>
        <p:spPr>
          <a:xfrm>
            <a:off x="0" y="3691080"/>
            <a:ext cx="4716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Картинки по запросу особенности абрамцево-кудринской резьбы"/>
          <p:cNvPicPr/>
          <p:nvPr/>
        </p:nvPicPr>
        <p:blipFill>
          <a:blip r:embed="rId1"/>
          <a:stretch/>
        </p:blipFill>
        <p:spPr>
          <a:xfrm>
            <a:off x="2016000" y="383076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85040"/>
            <a:ext cx="3027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дринская резьба относится к плоскорельефным видам резьбы. Плоскорельефная резьба имеет несколько разновидностей: резьба с заоваленным контуром, резьба с подушечным контуром и резьба с подобранным (выборным) фоном. Общее для них – невысокий условный рельеф, расположенный в одной плоскости на уровне украшаемой поверхности. Плоскорельефная резьба является как бы переходным видом от контурной к рельефной резь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Картинки по запросу особенности абрамцево-кудринской резьбы"/>
          <p:cNvPicPr/>
          <p:nvPr/>
        </p:nvPicPr>
        <p:blipFill>
          <a:blip r:embed="rId2"/>
          <a:stretch/>
        </p:blipFill>
        <p:spPr>
          <a:xfrm>
            <a:off x="123840" y="115920"/>
            <a:ext cx="39196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Картинки по запросу особенности резьбы татьянки"/>
          <p:cNvPicPr/>
          <p:nvPr/>
        </p:nvPicPr>
        <p:blipFill>
          <a:blip r:embed="rId1"/>
          <a:stretch/>
        </p:blipFill>
        <p:spPr>
          <a:xfrm>
            <a:off x="0" y="0"/>
            <a:ext cx="4932360" cy="3284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419640" y="397080"/>
            <a:ext cx="57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стью техники «Татьянка» является единичность и уникальность каждой операции резания, что требует использования специальных инструментов и применения оригинальных приемов. Большинство изделий, украшенных этой резьбой, являются авторскими, дизайнерскими работами, а предметы, украшенные ей, являются настоящими произведениями искус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2" descr="Картинки по запросу особенности резьбы татьянки"/>
          <p:cNvPicPr/>
          <p:nvPr/>
        </p:nvPicPr>
        <p:blipFill>
          <a:blip r:embed="rId2"/>
          <a:stretch/>
        </p:blipFill>
        <p:spPr>
          <a:xfrm>
            <a:off x="971640" y="3357720"/>
            <a:ext cx="67690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05:56:33Z</dcterms:created>
  <dc:creator>WinXPProSP3</dc:creator>
  <dc:description/>
  <dc:language>en-US</dc:language>
  <cp:lastModifiedBy>alex.pacuk@outlook.com</cp:lastModifiedBy>
  <dcterms:modified xsi:type="dcterms:W3CDTF">2016-10-03T19:30:44Z</dcterms:modified>
  <cp:revision>7</cp:revision>
  <dc:subject/>
  <dc:title>Слайд 1</dc:title>
</cp:coreProperties>
</file>