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B09-9371-46F0-A31C-239D22A2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B4A-786A-4994-850A-218A74D1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A6AE7-31E8-4AC3-8BA9-630B9CB4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643AF-D04E-47EC-A8CE-BE2D8853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A7A83-6AFF-46CD-83BB-F4391A63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F3ED6-B89C-4335-97FE-946A80E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3DDDE-0227-44F5-87AF-3DEFB50D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82FCD-9FE9-4466-90DA-F2EEC4CF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DCED0-2DF3-425F-BF03-A6D249A4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9B522-39E1-4727-B66B-DCEBBBBF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ABA15-5E6B-42C6-B57D-7B712E67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655-6E5F-4F84-BED6-715B1776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C8F-1BD7-48D3-BAA9-B6FAA17C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028-8AE1-4F27-9A1F-07581260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49D-A5E0-4BBE-9330-E3A56526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172B-B5B9-4C0C-96E4-C249907B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FDC4-0F10-463A-B50D-1DC3B1A5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DC0A-906F-4523-9040-E50B5100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186A-1F21-4DAC-BA9C-1B623249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9B28-F603-4116-A2AE-D5114064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320-B1B0-46EE-AF93-E8CC8485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F9C-B28D-4362-AC2B-366B0008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F6C-3B79-49C5-8DAE-72C7EB7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E632-E0E1-457E-924F-1215C221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D2B1-D998-4F94-8196-77EAA5D3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6F3B-DABA-4CC1-81CD-A394320C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BCBF-ED66-47D0-AA49-940ED7BB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C618-A056-443D-A7B1-0569B1A4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90BB-7A19-4599-ABC9-40D14020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D6ED-7BA2-4CC1-AF26-43EA4C0A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DB16-2DB8-45E1-9B53-B9A1DED7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8F9-5105-476A-A66E-90114DC5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9FE5-2028-4AEB-B21C-2547F42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C258-5B73-4D0A-A657-6E0ECDE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FECC-92A0-4E0C-8814-0526E6E4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E209-EE80-4FDB-83B1-AF40E739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9D81-FCF5-4DBA-AE18-66C2DBFC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9AF4-1434-4E6F-BEA1-E80EECF9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3D1C-A7C8-4D6C-A046-C9686616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D326-3187-4D41-AD5F-2DD4072E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51F9-235B-490B-A331-A7EDCE1B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6EA4-88C8-44B0-9D96-7988A623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06D-EDC8-47B0-8E8F-9234066A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C53D-0179-4527-976C-ACDE590B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A12EA-63A4-46DC-B5C7-414AE669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E5F1D-BBBB-45DE-9DDD-202B737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43DE-E86C-4878-949A-48F325E2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9565-FF0C-4CF3-9425-ED11866D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1C5A-587A-417F-B772-D8B241A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4EC3-B575-4D8D-9FD4-D1A83700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42AE-8832-44EB-9289-EB83FDE6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1E08-6AD2-46C7-A034-18032765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3B9A-27EE-4E40-8D45-783EF1E4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6AA-E259-4197-BE18-B3291963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7195E-7FB2-46A1-ABA7-8CEC5928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BBCA-50B0-4A3A-BE91-1592297B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9AB1-F770-4C53-A2AE-6F5DD905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743B-9B8C-45E8-AE6D-7AB2AB5C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83F89-D424-4EB7-AD26-9A8C87B8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F7F9B-5E48-489A-B2EB-9542BBDD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DE48-A3DE-4AA0-82E1-137D92CB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9CA1-D814-4534-835F-48C7E99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F1841-DD94-4B7A-989F-90098AE9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96164-B248-4ED5-83DC-C5F83538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C4A-561C-4399-A619-438E9F21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265B9-B358-47CF-920D-3FCFE05F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AD3AC-394A-48D7-87BE-4F79F2B1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14D74-165D-4C9F-AA71-F5FC0766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A0067-8410-40DD-BFE3-8093BE3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70B21-FF10-46AB-BFB7-C00EA96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960C-AD91-4C5C-A6D4-1D799126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FBABE-67A5-442B-AC5C-757EAC31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F874C-06FF-406A-8A0F-03E96EC6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1C291-3A1C-47EE-8281-E37048B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E7A9E-1F29-47B3-B130-897D26B5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545-2419-4022-BA24-FA0E00A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3D82-7E69-4ECC-A3AA-65E9A70F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FE49-25AA-453B-9216-6E3C4483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17933-4E85-4398-A47F-824580CE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41F4E-C7B5-4423-9A67-67909491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1DE80-165E-466B-9C31-C17D9DAD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9EB91-51BD-4928-9021-FE4755AC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B817-1759-44FC-A7F3-8897160B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6D470-A2AB-4538-BB1C-F7A0A91F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DB3E0-1EC4-46DF-BF80-D6F6952C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6AA5D-FC55-4FEE-9089-8B2330E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D30-B7F0-4397-9BBD-B224D972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DE45-9A4A-45D2-938E-D2A44E78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43650-FC95-4AA6-89BE-6A1915B3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0047-7634-4EE9-BBE0-F7288F0A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A4B76-258C-4694-8740-3E96DAF9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EACD8-7829-45DF-A663-90F9F3B3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932B-7E6B-4A2B-B4A8-C14770D6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AA158-B3F9-4E50-8A75-B6D267D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0B9F-3460-4587-B417-901140E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DEBDB-F937-46DB-9753-39CD3FE1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76FA-E334-40DE-8F5E-DA55870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14C-240A-4F3F-A8DE-E988EEB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1F72-4054-4DF0-930A-D1651964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AC740-E7C2-414E-B305-992E1639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CCCE6-550B-483B-A333-6C0C522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B23BD-7855-4109-B09A-399027F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428A-7300-4550-8F45-C20B730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3BEE8-86CB-47F4-B013-E6664CBC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24C88-A9D0-4040-82EB-1BF84D4C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7F334-8694-4465-81B8-8FCAE3A7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940CA-71BF-4181-8C2F-CBE4238D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E2DBF-2BD1-4E15-9622-038C446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AC22-A3C1-495B-B14F-4DB126D44AD2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8522-992E-4C42-804D-FE9C47D56830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822F-7DF7-4E3A-BE27-54E92D2DA314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0227-C481-46F1-B394-E8191507356B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0845-EBC7-451B-9F02-B95393E381A9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0022-C50B-49BF-A258-E8B9F333DD19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6CB2-E20F-4C5A-93A0-49A1E9A15575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C277-C6DC-48C4-BEFD-B76A9BB58B0F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DD32-C2CB-4965-800E-55335F545E71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261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C:\Users\Учитель\Desktop\елена ивановна\P1030338.JPG"/>
          <p:cNvPicPr/>
          <p:nvPr/>
        </p:nvPicPr>
        <p:blipFill>
          <a:blip r:embed="rId2"/>
          <a:stretch/>
        </p:blipFill>
        <p:spPr>
          <a:xfrm>
            <a:off x="457200" y="1616040"/>
            <a:ext cx="4038480" cy="4498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Franklin Gothic Book"/>
              </a:rPr>
              <a:t>«</a:t>
            </a:r>
            <a:r>
              <a:rPr b="1" lang="ru-RU" sz="2000" spc="-1" strike="noStrike">
                <a:solidFill>
                  <a:srgbClr val="006600"/>
                </a:solidFill>
                <a:latin typeface="Franklin Gothic Book"/>
              </a:rPr>
              <a:t>Изучение русского языка и литературы в полиэтнической школе</a:t>
            </a:r>
            <a:r>
              <a:rPr b="1" i="1" lang="ru-RU" sz="2000" spc="-1" strike="noStrike">
                <a:solidFill>
                  <a:srgbClr val="0066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Franklin Gothic Book"/>
              </a:rPr>
              <a:t>РАЗНОУРОВНЕВОЕ ОБУЧЕНИЕ».</a:t>
            </a:r>
            <a:r>
              <a:rPr b="0" i="1" lang="ru-RU" sz="2000" spc="-1" strike="noStrike">
                <a:solidFill>
                  <a:srgbClr val="006600"/>
                </a:solidFill>
                <a:latin typeface="Franklin Gothic Book"/>
              </a:rPr>
              <a:t>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4b38"/>
                </a:solidFill>
                <a:latin typeface="Franklin Gothic Book"/>
              </a:rPr>
              <a:t>Карпенко Е.И.                </a:t>
            </a:r>
            <a:r>
              <a:rPr b="0" i="1" lang="ru-RU" sz="2000" spc="-1" strike="noStrike">
                <a:solidFill>
                  <a:srgbClr val="002060"/>
                </a:solidFill>
                <a:latin typeface="Franklin Gothic Book"/>
              </a:rPr>
              <a:t>учитель МОУ ОСОШ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Franklin Gothic Book"/>
              </a:rPr>
              <a:t>х. Объединенны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438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Ц</a:t>
            </a:r>
            <a:r>
              <a:rPr b="1" lang="ru-RU" sz="2400" spc="-1" strike="noStrike">
                <a:solidFill>
                  <a:srgbClr val="00b0f0"/>
                </a:solidFill>
                <a:latin typeface="Franklin Gothic Book"/>
              </a:rPr>
              <a:t>ель мастер-класса: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казать приёмы активного осмысления текста на уроке русского языка через разноуровневое обучен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Franklin Gothic Book"/>
              </a:rPr>
              <a:t>Цель урока: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дготовить учащихся к написанию сочинения (часть С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164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Задач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 Уметь воспринимать содержащуюся в тексте информацию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Уметь определять  тему, основную мысль текс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Уметь работать над изобразительно – выразительными средствами и определять их рол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Уметь работать над характеристиками героев, определять отношение автора к ним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5. Научиться выявлять и формулировать проблему текс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6. Совершенствовать навыки анализа текста и навыки монологической реч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7. Воспитывать интерес к литературе  донского края, его истории и к истории России, определяя свое отношение к героям и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изображаемым события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Т</a:t>
            </a: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(о чем?)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ем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текс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И</a:t>
            </a: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(что хотел сказать автор? зачем автор написал этот текст?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де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Ф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Как автору удалось достичь своей цели?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изобразительно – выразительные средства)  -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фор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П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какие вопросы рассматривает автор? Что волнует его?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роблема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проблематик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    </a:t>
            </a: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УРОВЕНЬ А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. Герои отрывка. Что вы можете о них сказат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2. Определите отношение автора к своим героям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                                                                                                                                                            </a:t>
            </a: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УРОВЕНЬ В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1. Выпишите из текста ключевые слов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2. Определите роль ключевых слов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    </a:t>
            </a: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УРОВЕНЬ С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1. Найдите в тексте изобразительно – выразительные средств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2. Определите их роль в прочитанном вами тексте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умер (почти умер, помереть и т.д.) – 7 раз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2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освободиться (= умереть) – 2 раз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3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непонятное, обидное, страшное – 2 раз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4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слаб – 2 раз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СМЕР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светило (солнце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2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ясное (небо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3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не беспокоиться (спокойно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4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хлеб – 2 раз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5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жить, жизнь – 2 раза в одном предложен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ЖИЗН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560" y="1071360"/>
            <a:ext cx="41907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 u="sng">
                <a:solidFill>
                  <a:srgbClr val="00b050"/>
                </a:solidFill>
                <a:uFillTx/>
                <a:latin typeface="Franklin Gothic Book"/>
              </a:rPr>
              <a:t>антитеза</a:t>
            </a:r>
            <a:r>
              <a:rPr b="0" lang="ru-RU" sz="2000" spc="-1" strike="noStrike" u="sng">
                <a:solidFill>
                  <a:srgbClr val="00b050"/>
                </a:solidFill>
                <a:uFillTx/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(реализуется через систему антонимических пар: помереть – жить; непонятное, обидное, страшное – ясное</a:t>
            </a:r>
            <a:r>
              <a:rPr b="0" lang="ru-RU" sz="2000" spc="-1" strike="noStrike">
                <a:solidFill>
                  <a:srgbClr val="262626"/>
                </a:solidFill>
                <a:latin typeface="Franklin Gothic Book"/>
              </a:rPr>
              <a:t>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градация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( непонятное, обидное, страшно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питеты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(маленький, слабый, ясный, непонятное, обидное, страшно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метафора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(роскошное состоя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5.</a:t>
            </a:r>
            <a:r>
              <a:rPr b="0" lang="ru-RU" sz="2000" spc="-1" strike="noStrike">
                <a:solidFill>
                  <a:srgbClr val="262626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необычный</a:t>
            </a:r>
            <a:r>
              <a:rPr b="0" lang="ru-RU" sz="2000" spc="-1" strike="noStrike">
                <a:solidFill>
                  <a:srgbClr val="262626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фразеологизм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быть в трауре по самому себе: о своеобразном мышлении мальчика</a:t>
            </a:r>
            <a:r>
              <a:rPr b="1" lang="ru-RU" sz="1800" spc="-1" strike="noStrike">
                <a:solidFill>
                  <a:srgbClr val="262626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Вывод:</a:t>
            </a:r>
            <a:r>
              <a:rPr b="0" lang="ru-RU" sz="18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Franklin Gothic Book"/>
              </a:rPr>
              <a:t>слова этой группы передают нам состояние души ребенка: спокойно – равнодушно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7960" y="11426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олицетворение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Franklin Gothic Book"/>
              </a:rPr>
              <a:t>(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время шл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2.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метафора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(морозы упал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повторяющиеся слова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(жизнь, хлеб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эпитеты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(ясное неб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Вывод: 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несмотря на смерть, жизнь все – таки продолжается! «В жизни невозможно быть равнодушным к жизни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14264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1600" spc="-1" strike="noStrike">
                <a:solidFill>
                  <a:srgbClr val="00b050"/>
                </a:solidFill>
                <a:latin typeface="Franklin Gothic Book"/>
              </a:rPr>
              <a:t>Лейтенант</a:t>
            </a:r>
            <a:r>
              <a:rPr b="0" lang="ru-RU" sz="16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262626"/>
                </a:solidFill>
                <a:latin typeface="Franklin Gothic Book"/>
              </a:rPr>
              <a:t>( достает лекарство и спасает Юрку от смерти, отдает продуктовый аттестат Юркиной семье, полюбил Юркину сестру, которая была похожа на его погибшую доч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ожилой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Franklin Gothic Book"/>
              </a:rPr>
              <a:t>солдат</a:t>
            </a:r>
            <a:r>
              <a:rPr b="0" lang="ru-RU" sz="1600" spc="-1" strike="noStrike">
                <a:solidFill>
                  <a:srgbClr val="00b050"/>
                </a:solidFill>
                <a:latin typeface="Franklin Gothic Book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тдает Юрке самое дорогое, что у него есть: хлеб, символ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жизни на земле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1" lang="ru-RU" sz="1600" spc="-1" strike="noStrike">
                <a:solidFill>
                  <a:srgbClr val="00b050"/>
                </a:solidFill>
                <a:latin typeface="Franklin Gothic Book"/>
              </a:rPr>
              <a:t>Образ природы</a:t>
            </a:r>
            <a:r>
              <a:rPr b="0" lang="ru-RU" sz="16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есна, солнце, вода (закапало с крыш) – символы жизни, движения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b05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Вывод</a:t>
            </a: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герои без имен ( по мнению автора, так должен поступать каждый человек), не знают, будут ли живы завтра, но сегодня продолжают жить. И этим своим состоянием души, заботой о ближнем  ( по законам божьим) помогают мальчику «выйти» из его состояния: «непонятного, обидного,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трашного», виной которому является войн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7960" y="11426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Юрка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ережил очень много, потерял отца, сам чуть не умер, почти каждый день видел смерть други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Вывод:</a:t>
            </a:r>
            <a:r>
              <a:rPr b="0" lang="ru-RU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втор жалеет  Юрку, мальчик еще очень мал, чтобы разобраться в происходящем, война  «убила» в нем душу,  отсюда все непонятное, обидное, страшное). Поэтому взрослые должны помочь ребенку разобраться в себе и окружающем, что и происходит в конце эпизода: забота взрослых, совсем чужих Юрке людей, вернула мальчика в прежнее довоенное состояние. К нему возвращается желание жи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1. Проблема жестокости войны, которая калечит душу ребенка. (Как война убивает в человеке, особенно в ребенке,  любовь к жизни?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2. Проблема детей войны: у войны не детское лицо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3. Проблема  гуманного отношения людей друг к другу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4. Проблема жизни и смерт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5. Проблема загадочности души ребен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6. …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4312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5:14:49Z</dcterms:created>
  <dc:creator>User</dc:creator>
  <dc:description/>
  <dc:language>en-US</dc:language>
  <cp:lastModifiedBy>Елена</cp:lastModifiedBy>
  <dcterms:modified xsi:type="dcterms:W3CDTF">2016-10-04T13:36:59Z</dcterms:modified>
  <cp:revision>52</cp:revision>
  <dc:subject/>
  <dc:title>Слайд 1</dc:title>
</cp:coreProperties>
</file>