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3030-2D1C-4E9E-B3C5-C15D47FC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7698-9DA4-47EF-8112-D5013514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6CA-DE5F-4239-B195-53C91177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D10-122F-4348-AF16-79DE1D3E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7B18-1CBE-4492-9A69-0BEB9825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293-D5A2-46B8-A436-C18294FC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E70-A301-47FD-9A53-2EC7BD28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572-1D90-4BAF-83B6-E405BC79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1EC-23D6-4DA0-AB92-5B95DED9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CD6-22FE-46C3-856D-F0555F9B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0C2-2124-42E2-B71B-D4C99CED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7B2-7A3C-47CE-B8AF-35C36B01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6DC7-7313-48FA-80C6-65D2DC74B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С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4763" t="24901" r="7144" b="57544"/>
          <a:stretch/>
        </p:blipFill>
        <p:spPr>
          <a:xfrm>
            <a:off x="179280" y="1989000"/>
            <a:ext cx="878544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4763" t="41726" r="7144" b="40719"/>
          <a:stretch/>
        </p:blipFill>
        <p:spPr>
          <a:xfrm>
            <a:off x="1152360" y="2544840"/>
            <a:ext cx="66596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4763" t="58550" r="7144" b="23891"/>
          <a:stretch/>
        </p:blipFill>
        <p:spPr>
          <a:xfrm>
            <a:off x="1332000" y="2852640"/>
            <a:ext cx="66596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4763" t="75379" r="7144" b="7739"/>
          <a:stretch/>
        </p:blipFill>
        <p:spPr>
          <a:xfrm>
            <a:off x="1258920" y="3068640"/>
            <a:ext cx="66596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Найти правильно выполненное с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7620" t="14133" r="8573" b="67976"/>
          <a:stretch/>
        </p:blipFill>
        <p:spPr>
          <a:xfrm>
            <a:off x="468360" y="2276640"/>
            <a:ext cx="835164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Найти правильно выполненное с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7144" t="32640" r="11430" b="50811"/>
          <a:stretch/>
        </p:blipFill>
        <p:spPr>
          <a:xfrm>
            <a:off x="468360" y="2492280"/>
            <a:ext cx="82072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Найти правильно выполненное с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7144" t="49805" r="10001" b="33653"/>
          <a:stretch/>
        </p:blipFill>
        <p:spPr>
          <a:xfrm>
            <a:off x="395280" y="2924280"/>
            <a:ext cx="842472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Найти правильно выполненное с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7144" t="67303" r="32386" b="9085"/>
          <a:stretch/>
        </p:blipFill>
        <p:spPr>
          <a:xfrm>
            <a:off x="1403280" y="2421000"/>
            <a:ext cx="6121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Найти правильно выполненное с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4763" t="13796" r="10954" b="55525"/>
          <a:stretch/>
        </p:blipFill>
        <p:spPr>
          <a:xfrm>
            <a:off x="900000" y="1700280"/>
            <a:ext cx="74883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Обозначить фигуры  сеч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4763" t="50811" r="11906" b="8749"/>
          <a:stretch/>
        </p:blipFill>
        <p:spPr>
          <a:xfrm>
            <a:off x="1403280" y="1413000"/>
            <a:ext cx="629928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4763" t="33653" r="7144" b="42065"/>
          <a:stretch/>
        </p:blipFill>
        <p:spPr>
          <a:xfrm>
            <a:off x="108000" y="1557360"/>
            <a:ext cx="8856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Проанализировать чертёж детали «Валик», установить, каким частям детали соответствуют сечения. Обозначить фигуры сечений и секущие плоскости. На полках линий-выносок написать названия конструктивны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7144" t="18171" r="9525" b="56871"/>
          <a:stretch/>
        </p:blipFill>
        <p:spPr>
          <a:xfrm>
            <a:off x="684360" y="2565360"/>
            <a:ext cx="7777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Обозначить секущие плоскости и фигуры сечений. На полках линий-выносок написать названия конструктивны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7144" t="77061" r="9525" b="8076"/>
          <a:stretch/>
        </p:blipFill>
        <p:spPr>
          <a:xfrm>
            <a:off x="468360" y="2924280"/>
            <a:ext cx="8207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Заменить вид слева рациональными сечениями и обозначить их. Записать на полках линий-выносок названия конструктивных элементов детале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9051" t="44081" r="7146" b="29612"/>
          <a:stretch/>
        </p:blipFill>
        <p:spPr>
          <a:xfrm>
            <a:off x="1042920" y="1341360"/>
            <a:ext cx="63374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4763" t="57204" r="7144" b="21536"/>
          <a:stretch/>
        </p:blipFill>
        <p:spPr>
          <a:xfrm>
            <a:off x="179280" y="2349360"/>
            <a:ext cx="8785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7146" t="10768" r="4764" b="71004"/>
          <a:stretch/>
        </p:blipFill>
        <p:spPr>
          <a:xfrm>
            <a:off x="108000" y="2565360"/>
            <a:ext cx="885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7146" t="27929" r="4764" b="54852"/>
          <a:stretch/>
        </p:blipFill>
        <p:spPr>
          <a:xfrm>
            <a:off x="179280" y="2349360"/>
            <a:ext cx="87854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7146" t="44418" r="4764" b="38024"/>
          <a:stretch/>
        </p:blipFill>
        <p:spPr>
          <a:xfrm>
            <a:off x="108000" y="2147760"/>
            <a:ext cx="88567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7146" t="61579" r="4764" b="21199"/>
          <a:stretch/>
        </p:blipFill>
        <p:spPr>
          <a:xfrm>
            <a:off x="179280" y="2708280"/>
            <a:ext cx="878544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7146" t="78407" r="4764" b="4711"/>
          <a:stretch/>
        </p:blipFill>
        <p:spPr>
          <a:xfrm>
            <a:off x="179280" y="2349360"/>
            <a:ext cx="88567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4763" t="8076" r="7144" b="74369"/>
          <a:stretch/>
        </p:blipFill>
        <p:spPr>
          <a:xfrm>
            <a:off x="179280" y="2205000"/>
            <a:ext cx="878544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3:38:13Z</dcterms:created>
  <dc:creator>User</dc:creator>
  <dc:description/>
  <dc:language>en-US</dc:language>
  <cp:lastModifiedBy>User</cp:lastModifiedBy>
  <dcterms:modified xsi:type="dcterms:W3CDTF">2011-02-04T12:06:50Z</dcterms:modified>
  <cp:revision>7</cp:revision>
  <dc:subject/>
  <dc:title>СЕЧЕНИЯ</dc:title>
</cp:coreProperties>
</file>