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61E-5616-4289-8D4D-CAF8E96C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8A5-8036-4F30-905B-1AA60DB0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C02-342D-4CA1-8D77-49A9851B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20C-ED3B-4C37-8682-1DD96A0F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156-566F-475F-8B19-B3D50F3F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340-9C2D-4F38-BF5C-A3A73896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5EB-7EC2-4DC4-8AB3-E637BA4E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214-0CAF-4066-A40B-6B95A155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490-7A61-4B63-B6D7-16D3850F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923-8FAE-4AA1-A07B-847009AD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B7E-0636-4D40-87D5-A909859D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C15-977F-4499-ABF5-901C9911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AAE4-1290-4585-9ABA-E0918DD77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4763" t="24901" r="7144" b="57544"/>
          <a:stretch/>
        </p:blipFill>
        <p:spPr>
          <a:xfrm>
            <a:off x="179280" y="1989000"/>
            <a:ext cx="878544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4763" t="41726" r="7144" b="40719"/>
          <a:stretch/>
        </p:blipFill>
        <p:spPr>
          <a:xfrm>
            <a:off x="1152360" y="2544840"/>
            <a:ext cx="66596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4763" t="58550" r="7144" b="23891"/>
          <a:stretch/>
        </p:blipFill>
        <p:spPr>
          <a:xfrm>
            <a:off x="1332000" y="2852640"/>
            <a:ext cx="66596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4763" t="75379" r="7144" b="7739"/>
          <a:stretch/>
        </p:blipFill>
        <p:spPr>
          <a:xfrm>
            <a:off x="1258920" y="3068640"/>
            <a:ext cx="66596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Найти правильно выполненное с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7620" t="14133" r="8573" b="67976"/>
          <a:stretch/>
        </p:blipFill>
        <p:spPr>
          <a:xfrm>
            <a:off x="468360" y="2276640"/>
            <a:ext cx="835164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Найти правильно выполненное с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7144" t="32640" r="11430" b="50811"/>
          <a:stretch/>
        </p:blipFill>
        <p:spPr>
          <a:xfrm>
            <a:off x="468360" y="2492280"/>
            <a:ext cx="82072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Найти правильно выполненное с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7144" t="49805" r="10001" b="33653"/>
          <a:stretch/>
        </p:blipFill>
        <p:spPr>
          <a:xfrm>
            <a:off x="395280" y="2924280"/>
            <a:ext cx="842472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Найти правильно выполненное с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7144" t="67303" r="32386" b="9085"/>
          <a:stretch/>
        </p:blipFill>
        <p:spPr>
          <a:xfrm>
            <a:off x="1403280" y="2421000"/>
            <a:ext cx="6121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Найти правильно выполненное с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4763" t="13796" r="10954" b="55525"/>
          <a:stretch/>
        </p:blipFill>
        <p:spPr>
          <a:xfrm>
            <a:off x="900000" y="1700280"/>
            <a:ext cx="74883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Обозначить фигуры  сеч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4763" t="50811" r="11906" b="8749"/>
          <a:stretch/>
        </p:blipFill>
        <p:spPr>
          <a:xfrm>
            <a:off x="1403280" y="1413000"/>
            <a:ext cx="629928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4763" t="33653" r="7144" b="42065"/>
          <a:stretch/>
        </p:blipFill>
        <p:spPr>
          <a:xfrm>
            <a:off x="108000" y="1557360"/>
            <a:ext cx="8856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Проанализировать чертёж детали «Валик», установить, каким частям детали соответствуют сечения. Обозначить фигуры сечений и секущие плоскости. На полках линий-выносок написать названия конструктивны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7144" t="18171" r="9525" b="56871"/>
          <a:stretch/>
        </p:blipFill>
        <p:spPr>
          <a:xfrm>
            <a:off x="684360" y="2565360"/>
            <a:ext cx="7777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Обозначить секущие плоскости и фигуры сечений. На полках линий-выносок написать названия конструктивны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7144" t="77061" r="9525" b="8076"/>
          <a:stretch/>
        </p:blipFill>
        <p:spPr>
          <a:xfrm>
            <a:off x="468360" y="2924280"/>
            <a:ext cx="820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Заменить вид слева рациональными сечениями и обозначить их. Записать на полках линий-выносок названия конструктивных элементов детале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9051" t="44081" r="7146" b="29612"/>
          <a:stretch/>
        </p:blipFill>
        <p:spPr>
          <a:xfrm>
            <a:off x="1042920" y="1341360"/>
            <a:ext cx="63374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4763" t="57204" r="7144" b="21536"/>
          <a:stretch/>
        </p:blipFill>
        <p:spPr>
          <a:xfrm>
            <a:off x="179280" y="2349360"/>
            <a:ext cx="8785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7146" t="10768" r="4764" b="71004"/>
          <a:stretch/>
        </p:blipFill>
        <p:spPr>
          <a:xfrm>
            <a:off x="108000" y="2565360"/>
            <a:ext cx="885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7146" t="27929" r="4764" b="54852"/>
          <a:stretch/>
        </p:blipFill>
        <p:spPr>
          <a:xfrm>
            <a:off x="179280" y="2349360"/>
            <a:ext cx="87854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7146" t="44418" r="4764" b="38024"/>
          <a:stretch/>
        </p:blipFill>
        <p:spPr>
          <a:xfrm>
            <a:off x="108000" y="2147760"/>
            <a:ext cx="88567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7146" t="61579" r="4764" b="21199"/>
          <a:stretch/>
        </p:blipFill>
        <p:spPr>
          <a:xfrm>
            <a:off x="179280" y="2708280"/>
            <a:ext cx="878544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7146" t="78407" r="4764" b="4711"/>
          <a:stretch/>
        </p:blipFill>
        <p:spPr>
          <a:xfrm>
            <a:off x="179280" y="2349360"/>
            <a:ext cx="88567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b5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онструктивные элементы и их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4763" t="8076" r="7144" b="74369"/>
          <a:stretch/>
        </p:blipFill>
        <p:spPr>
          <a:xfrm>
            <a:off x="179280" y="2205000"/>
            <a:ext cx="87854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3:38:13Z</dcterms:created>
  <dc:creator>User</dc:creator>
  <dc:description/>
  <dc:language>en-US</dc:language>
  <cp:lastModifiedBy>User</cp:lastModifiedBy>
  <dcterms:modified xsi:type="dcterms:W3CDTF">2011-02-04T12:06:50Z</dcterms:modified>
  <cp:revision>7</cp:revision>
  <dc:subject/>
  <dc:title>СЕЧЕНИЯ</dc:title>
</cp:coreProperties>
</file>