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396-5270-4056-96CC-D3929EF0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67C-FAA5-4399-9F2E-C2470891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D59-CC9C-42C5-9976-510D3B48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0B7-B3A5-4DA2-BF1E-5F34D7F2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E7D-9F92-48B4-8042-A50FB65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E93-6276-4D84-B9AC-8C4926C7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A8E-7FBA-432A-ACC5-E885A24F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530-FEF8-43D4-A4F1-568E42FA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13B-0327-4E2D-B64C-D4E6F66A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7D3-FDE0-47EF-8B24-D7F7BBB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559-FC6B-411D-B1E1-8C964AB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135-3F30-4D2B-9C20-178DC16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df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9E2A-3164-4021-B1EB-DA43BBF92E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143000" y="0"/>
            <a:ext cx="708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Times New Roman"/>
              </a:rPr>
              <a:t>Посмотри на картинки и сравн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286160" cy="2847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80880" y="5562720"/>
            <a:ext cx="4572000" cy="703800"/>
          </a:xfrm>
          <a:prstGeom prst="rect">
            <a:avLst/>
          </a:prstGeom>
          <a:gradFill rotWithShape="0">
            <a:gsLst>
              <a:gs pos="0">
                <a:srgbClr val="f7f467"/>
              </a:gs>
              <a:gs pos="50000">
                <a:srgbClr val="fdfcd3"/>
              </a:gs>
              <a:gs pos="100000">
                <a:srgbClr val="f7f4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 мы пойдем на экскурсию в ………… с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AutoShape 10"/>
          <p:cNvCxnSpPr/>
          <p:nvPr/>
        </p:nvCxnSpPr>
        <p:spPr>
          <a:xfrm>
            <a:off x="3505320" y="380952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Line 11"/>
          <p:cNvSpPr/>
          <p:nvPr/>
        </p:nvSpPr>
        <p:spPr>
          <a:xfrm flipH="1">
            <a:off x="5257800" y="38098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038480" y="3962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3"/>
          <p:cNvSpPr/>
          <p:nvPr/>
        </p:nvSpPr>
        <p:spPr>
          <a:xfrm flipH="1">
            <a:off x="297144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2670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5029200" y="44956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219320" y="4343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63244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137124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64771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562720" y="5562720"/>
            <a:ext cx="3276360" cy="1008720"/>
          </a:xfrm>
          <a:prstGeom prst="rect">
            <a:avLst/>
          </a:prstGeom>
          <a:gradFill rotWithShape="0">
            <a:gsLst>
              <a:gs pos="0">
                <a:srgbClr val="fffb5f"/>
              </a:gs>
              <a:gs pos="50000">
                <a:srgbClr val="fffecc"/>
              </a:gs>
              <a:gs pos="100000">
                <a:srgbClr val="fffb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я бабушка собирается обустроить свой ………… с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1373040" y="43434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647712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4191120" y="4191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380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708660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авописание слов с одинаковым звучани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712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учиться различать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Научиться правильно писать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0"/>
          <p:cNvSpPr/>
          <p:nvPr/>
        </p:nvSpPr>
        <p:spPr>
          <a:xfrm>
            <a:off x="1371600" y="304920"/>
            <a:ext cx="6553080" cy="609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be"/>
              </a:gs>
              <a:gs pos="100000">
                <a:srgbClr val="ffff00"/>
              </a:gs>
            </a:gsLst>
            <a:lin ang="2700000"/>
          </a:gradFill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37160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азбей словосочетания на груп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380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ород Оре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тица ор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ланета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плодородная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уч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цвет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838080" y="1066680"/>
            <a:ext cx="3353040" cy="3962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ef2e5"/>
              </a:gs>
              <a:gs pos="100000">
                <a:srgbClr val="00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800600" y="1066680"/>
            <a:ext cx="3352680" cy="3962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bef2e5"/>
              </a:gs>
              <a:gs pos="100000">
                <a:srgbClr val="00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839880" y="144792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 Орё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4802760" y="14479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тица орё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842040" y="259092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ета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4803120" y="259092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дородная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842040" y="388620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4804560" y="388620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ок василё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3658320" y="510552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373400" y="57913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соб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5259960" y="57913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нариц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2514600" y="5029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9"/>
          <p:cNvSpPr/>
          <p:nvPr/>
        </p:nvSpPr>
        <p:spPr>
          <a:xfrm>
            <a:off x="6553080" y="5029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ewyear5"/>
          <p:cNvPicPr/>
          <p:nvPr/>
        </p:nvPicPr>
        <p:blipFill>
          <a:blip r:embed="rId1"/>
          <a:stretch/>
        </p:blipFill>
        <p:spPr>
          <a:xfrm>
            <a:off x="380880" y="228600"/>
            <a:ext cx="34290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4"/>
          <p:cNvGraphicFramePr/>
          <p:nvPr/>
        </p:nvGraphicFramePr>
        <p:xfrm>
          <a:off x="5105520" y="228600"/>
          <a:ext cx="347508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28600"/>
                    <a:ext cx="3475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5"/>
          <p:cNvSpPr/>
          <p:nvPr/>
        </p:nvSpPr>
        <p:spPr>
          <a:xfrm>
            <a:off x="6478920" y="438768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тач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11600" y="438768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тач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otkr20"/>
          <p:cNvPicPr/>
          <p:nvPr/>
        </p:nvPicPr>
        <p:blipFill>
          <a:blip r:embed="rId4"/>
          <a:stretch/>
        </p:blipFill>
        <p:spPr>
          <a:xfrm>
            <a:off x="0" y="3805200"/>
            <a:ext cx="3657600" cy="2446200"/>
          </a:xfrm>
          <a:prstGeom prst="rect">
            <a:avLst/>
          </a:prstGeom>
          <a:ln w="0">
            <a:noFill/>
          </a:ln>
        </p:spPr>
      </p:pic>
      <p:sp>
        <p:nvSpPr>
          <p:cNvPr id="85" name="Oval 9"/>
          <p:cNvSpPr/>
          <p:nvPr/>
        </p:nvSpPr>
        <p:spPr>
          <a:xfrm>
            <a:off x="3124080" y="4495680"/>
            <a:ext cx="381240" cy="3812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orel-leto-3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anml07"/>
          <p:cNvPicPr/>
          <p:nvPr/>
        </p:nvPicPr>
        <p:blipFill>
          <a:blip r:embed="rId2"/>
          <a:stretch/>
        </p:blipFill>
        <p:spPr>
          <a:xfrm>
            <a:off x="4419720" y="3305160"/>
            <a:ext cx="4597200" cy="3448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879080" y="1295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ё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973600" y="47084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ё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866960" y="4572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19320" y="1219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таю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886200" y="1676520"/>
            <a:ext cx="1371600" cy="609480"/>
          </a:xfrm>
          <a:prstGeom prst="downArrow">
            <a:avLst>
              <a:gd name="adj1" fmla="val 7037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8002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ышляю над смыслом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4"/>
          <p:cNvSpPr/>
          <p:nvPr/>
        </p:nvSpPr>
        <p:spPr>
          <a:xfrm>
            <a:off x="3886200" y="3048120"/>
            <a:ext cx="1371600" cy="609480"/>
          </a:xfrm>
          <a:prstGeom prst="downArrow">
            <a:avLst>
              <a:gd name="adj1" fmla="val 70370"/>
              <a:gd name="adj2" fmla="val 5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224784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имя собственно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6"/>
          <p:cNvSpPr/>
          <p:nvPr/>
        </p:nvSpPr>
        <p:spPr>
          <a:xfrm flipH="1">
            <a:off x="3123720" y="4343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5257800" y="4343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9810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2705040" y="5181480"/>
            <a:ext cx="8384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1981080" y="5715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шу с большой бук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48769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5600880" y="518148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4781520" y="5715000"/>
            <a:ext cx="24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шу с маленькой бук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7204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05" name="AutoShape 4"/>
          <p:cNvCxnSpPr/>
          <p:nvPr/>
        </p:nvCxnSpPr>
        <p:spPr>
          <a:xfrm>
            <a:off x="3657600" y="3657240"/>
            <a:ext cx="381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Line 5"/>
          <p:cNvSpPr/>
          <p:nvPr/>
        </p:nvSpPr>
        <p:spPr>
          <a:xfrm flipH="1">
            <a:off x="5410080" y="3657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9880" y="3809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е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2666520" y="4267080"/>
            <a:ext cx="11430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5638680" y="4267080"/>
            <a:ext cx="106704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1981080" y="5334120"/>
            <a:ext cx="457200" cy="609480"/>
          </a:xfrm>
          <a:prstGeom prst="downArrow">
            <a:avLst>
              <a:gd name="adj1" fmla="val 44444"/>
              <a:gd name="adj2" fmla="val 583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6858000" y="5334120"/>
            <a:ext cx="457200" cy="609480"/>
          </a:xfrm>
          <a:prstGeom prst="downArrow">
            <a:avLst>
              <a:gd name="adj1" fmla="val 44444"/>
              <a:gd name="adj2" fmla="val 583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3352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нариц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7913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соб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541008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  ицее Царского С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572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  ицее №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137124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5714640" y="4952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2952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638680" y="4572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25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25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22:18:33Z</dcterms:created>
  <dc:creator>home</dc:creator>
  <dc:description/>
  <dc:language>en-US</dc:language>
  <cp:lastModifiedBy>Windows User</cp:lastModifiedBy>
  <dcterms:modified xsi:type="dcterms:W3CDTF">2016-10-04T20:00:56Z</dcterms:modified>
  <cp:revision>23</cp:revision>
  <dc:subject/>
  <dc:title>Презентация PowerPoint</dc:title>
</cp:coreProperties>
</file>