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9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22.jpeg" ContentType="image/jpeg"/>
  <Override PartName="/ppt/media/image39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8.jpeg" ContentType="image/jpeg"/>
  <Override PartName="/ppt/media/image8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CA7-C214-41EC-99BF-4C2F4926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5E9-EC68-409B-B5C3-E7F5AE2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F30D3-66DE-449C-A568-88F9D21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2F91E-1BAA-4857-A2E9-C0CBAA2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801D2-7063-4799-AC75-06A74E8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18ED1-B30A-4C2C-BF87-745CC54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BB80A-2BB6-4669-8558-BC8E2BA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242F3-1A26-4CF8-B3D7-2D4B1A9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17333-4D82-463A-BBDE-C418EFF8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73590-E7F2-4D24-821B-87AD59B2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E7387-AE43-4585-8B22-2A599F4F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8FA-4943-479B-A9AE-4248E47F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A47-BF00-4C6D-96A3-F0E99E33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B8A-764E-422C-AB16-621F9A16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4BF-8E83-4A23-A0DC-6F0AE9F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6168-CED5-4E84-AC24-F2CDAEF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C29-C2F6-43DB-BCD0-906C9A3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FCB-6F8D-4940-9332-01FF0218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4642-4862-400C-B73E-D83BCB5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1A30-500E-4F8D-8F2B-46EFF5E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3C6-3306-4D0E-9FEF-1542F96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D76-84A3-4154-BCFA-1008BCE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14B4-1102-443A-93DD-2D9D390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8F8-4CE6-4274-8B9C-6252184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7C2A-F812-430C-A686-3AC7F954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C775-6073-44FD-90DF-26E5F6EA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0CDC-3029-4D0E-8D43-7DFA635A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2C03-6F30-4AD7-AC9C-D5252D41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C45A-DC35-4CC7-9C6D-A819B12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A9FF-EBD5-4F66-81D8-3FD6836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6E77-57B3-47D0-BDCA-010C4BCE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30A-ACCF-4D63-9185-9CF3D9C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7106-50E2-4764-95DB-BB5A7F6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2C09-0AB5-41DA-9FF7-7037C52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97CF-E5CE-49BC-B651-758DE56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47E3-02C6-42E6-931A-DCEDDB3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5306-4570-4F75-8F36-1379258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5392-58C1-4A25-BE31-D5F891E7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CF25-6086-4176-B6B7-6A4219B2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FCB9-10FD-4261-AA63-12786391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2D3E-E8ED-417C-9A2E-DFB870E8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DCDA-2873-41E6-A598-A04E147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64F-6637-47B8-A96D-7322BB33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ED3D-B37F-4C01-86DD-30978A97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60BB-CD5F-4DBB-A5CB-9781E10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C18C-2B4C-4258-BD12-3EE7C5D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35F2-D590-4F93-AAB6-7AFE9E19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99CB-7AC0-4FD7-BD29-5D64BC9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BB34-C461-46C1-9C0A-D748796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2053-1ACF-4BC2-B9D0-0508853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221F-72C8-4EC6-80BB-1A6706A1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CCF3-E3BE-4763-9960-66D4D7F6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A0C3-58D1-4209-AA86-701E36D0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558-A5B5-4367-AC7F-31A0AE6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C31F-906D-43CD-BDEE-4728259B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B745-0B87-447F-B1BA-E6FF327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4D43-275C-4117-823F-38EDC9B4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15BF-1AD5-4898-A91E-D3B688D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93BC-44B8-45BF-8D09-B6E797ED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E9AF-24AF-4FF1-8A5E-CA688F5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DE2B-59A2-4A91-833B-DAC54F2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1984-1FE4-4F71-85C8-901B28E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C40F-4AC7-40BE-B107-1CC108AC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17957-A07B-4208-8966-6C161582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ECE-F9D1-4FA4-A567-EB521BE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8BF3-C214-43CF-BB14-3DF75D13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D3D2-8207-4A84-BDAC-55891F8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6C20-625D-4488-86FC-4FF99A6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48E3-EDB7-4B96-9438-49F26D3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D0E0-8FE0-4AAB-9650-884EB9A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E5F4-EF41-4374-84DD-8B25CCE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1E79-F5F6-41DC-AFF7-4379540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D117-A833-4C62-BDE3-4B9B531D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F289-788F-4AC2-8225-0A5DEBE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1D91-79DF-4209-A756-C35EBE2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29A-C274-4790-8DF5-159B1D6C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D5AF-F1C2-4984-BEA1-BD316B9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DAA8-86D1-4E83-8E2D-BB680CC1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F782-13AE-4E66-83DC-9F43A94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57FB-CCF6-46F4-B409-68BC898E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DCE5-EE97-42CC-A7B3-FD9A2E3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214F4-E633-4001-AD40-7ADE7D5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58C8-2667-4087-A727-1CBF2B79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9D7E-9A24-4AD2-8385-F63D646B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96E9-4452-4E66-833A-682F82E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89553-4064-4235-B56D-BC732408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2DE-8099-4BD1-A202-316BCD7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7319-C98A-4214-8073-FB9BE4C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65176-1410-43FE-8759-F3152AC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AEE5-A2C9-4982-9FDC-8BDE546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010D-E952-4D4D-BF85-2E2A6C28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F6E8-CFFE-48A8-9267-E80E1459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0C44-4A83-43BF-B648-7974E224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B74FA-F930-4C22-9CCE-DDA45D1F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8C04E-7FBC-48EF-B813-D971B1A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9CB61-C5BA-4DD9-8BFE-2EB5CA5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088D-1C6B-4823-8010-5802D0CD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6C6-1F45-4FD8-B60C-90F800C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A430-C133-422B-9CB7-10406AC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7FA8-1A8C-4D81-944F-3BD5B4A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F3F8-ACF7-4832-9BD2-0E1D0FB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F73E-A6E4-4B02-9F45-CFD620D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37194-1453-4746-8A9A-D22868A5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C117-A928-4521-88F5-EE76AE4F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3879-04B6-45E6-AD4A-400D4AA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9269E-CAB4-4B06-993A-E11DD10B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AFF46-355E-4781-B25B-526C73B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2E320-67F1-417E-8FA1-52B080FF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93C-E52D-4B15-8471-B1826769F5B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CE82-B7CE-4C41-9ACE-9767A06FB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7C75-4B09-4CBF-A58D-94B3EBAA80B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51F4-D9C1-4C6C-BF3E-9A0253FB2B3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3885-514D-4DAD-8B93-7A14F5FBD24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771-9D3C-467A-987A-3DAEB6C76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BA8B-07E6-4141-B763-DC49382877E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7DAC-3179-45A7-B1A4-746BE47611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637-7869-494A-9E60-59C914BABCD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3EC5-3B4A-4982-BE31-6CAE28115B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3C5-961D-41D4-AA15-60DAC80DACC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B229-1908-430E-ACDE-F22DC2514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DBC-7A69-49E1-A3EB-2DA3129B53D0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969-409C-4316-BAE3-E981F836C5C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1263-FB13-44BC-83E7-0864AF750907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A31-E51C-4E46-9A5C-E9F9D1D34D9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4EB-B4DB-4C33-AFF2-4246279BB5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dt" idx="2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6E4F-D36B-4858-A08A-69CFBED61AD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83;&#1100;&#1090;&#1084;&#1077;&#1090;&#1088;&amp;spsite=fake-022-6839811.ru&amp;img_url=dic.academic.ru/pictures/wiki/files/86/VoltimetroPY5aal.gif&amp;rpt=simage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506520" y="622440"/>
            <a:ext cx="8240760" cy="137160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7" descr=""/>
          <p:cNvPicPr/>
          <p:nvPr/>
        </p:nvPicPr>
        <p:blipFill>
          <a:blip r:embed="rId2"/>
          <a:stretch/>
        </p:blipFill>
        <p:spPr>
          <a:xfrm>
            <a:off x="603360" y="2457360"/>
            <a:ext cx="7937280" cy="1371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планета"/>
          <p:cNvPicPr/>
          <p:nvPr/>
        </p:nvPicPr>
        <p:blipFill>
          <a:blip r:embed="rId3"/>
          <a:stretch/>
        </p:blipFill>
        <p:spPr>
          <a:xfrm>
            <a:off x="3357720" y="3786120"/>
            <a:ext cx="265248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8686800" cy="1109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499920" y="1643040"/>
            <a:ext cx="5286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сновные законы классической механики были открыты в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еке  английским учёным Исааком Ньютоно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5" name="Рисунок 4" descr="Рисунок1.JPG"/>
          <p:cNvPicPr/>
          <p:nvPr/>
        </p:nvPicPr>
        <p:blipFill>
          <a:blip r:embed="rId2"/>
          <a:stretch/>
        </p:blipFill>
        <p:spPr>
          <a:xfrm>
            <a:off x="714240" y="1714680"/>
            <a:ext cx="258624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573120" y="487440"/>
            <a:ext cx="7931160" cy="1627200"/>
          </a:xfrm>
          <a:prstGeom prst="rect">
            <a:avLst/>
          </a:prstGeom>
          <a:ln w="0">
            <a:noFill/>
          </a:ln>
        </p:spPr>
      </p:pic>
      <p:sp>
        <p:nvSpPr>
          <p:cNvPr id="427" name="Дата 1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F01-52B8-46DC-997A-4891F577783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D:\физика\оформление класса\74743.jpg"/>
          <p:cNvPicPr/>
          <p:nvPr/>
        </p:nvPicPr>
        <p:blipFill>
          <a:blip r:embed="rId2"/>
          <a:stretch/>
        </p:blipFill>
        <p:spPr>
          <a:xfrm>
            <a:off x="2071800" y="1857240"/>
            <a:ext cx="492912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2500200" y="1071720"/>
            <a:ext cx="60008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Ты открой мне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природа, объятья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Чтоб я слился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с красою твоей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И.БУНИ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Рисунок 3" descr="1.JPG"/>
          <p:cNvPicPr/>
          <p:nvPr/>
        </p:nvPicPr>
        <p:blipFill>
          <a:blip r:embed="rId1"/>
          <a:stretch/>
        </p:blipFill>
        <p:spPr>
          <a:xfrm>
            <a:off x="500040" y="357120"/>
            <a:ext cx="1943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500040" y="3822840"/>
            <a:ext cx="7931160" cy="250488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3" descr=""/>
          <p:cNvPicPr/>
          <p:nvPr/>
        </p:nvPicPr>
        <p:blipFill>
          <a:blip r:embed="rId2"/>
          <a:stretch/>
        </p:blipFill>
        <p:spPr>
          <a:xfrm>
            <a:off x="2928960" y="1214280"/>
            <a:ext cx="3000240" cy="271476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5"/>
          <p:cNvSpPr/>
          <p:nvPr/>
        </p:nvSpPr>
        <p:spPr>
          <a:xfrm>
            <a:off x="2159640" y="714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андр Степанович Попов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927000" y="3432240"/>
            <a:ext cx="7259760" cy="249876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3" descr="Шарль Кулон"/>
          <p:cNvPicPr/>
          <p:nvPr/>
        </p:nvPicPr>
        <p:blipFill>
          <a:blip r:embed="rId2"/>
          <a:stretch/>
        </p:blipFill>
        <p:spPr>
          <a:xfrm>
            <a:off x="3357720" y="1000080"/>
            <a:ext cx="2500200" cy="257184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3"/>
          <p:cNvSpPr/>
          <p:nvPr/>
        </p:nvSpPr>
        <p:spPr>
          <a:xfrm>
            <a:off x="1071720" y="5716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лон Шарль Огусти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073160" y="3638520"/>
            <a:ext cx="7405560" cy="24336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2" descr="Ампер.jpg"/>
          <p:cNvPicPr/>
          <p:nvPr/>
        </p:nvPicPr>
        <p:blipFill>
          <a:blip r:embed="rId2"/>
          <a:stretch/>
        </p:blipFill>
        <p:spPr>
          <a:xfrm>
            <a:off x="3500280" y="928800"/>
            <a:ext cx="2433960" cy="270180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2143080" y="428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пер Андре Мар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2857680" y="357120"/>
            <a:ext cx="60004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.-М. Ампер славился своей рассеянностью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днажды он варил свои часы с сосредоточенным видом, держа в руке яйцо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другой раз он шел по улице, производя в уме сложные расчеты. Он ничуть не удивился, когда перед ним возникла черная доска, спокойно достал из кармана мел и стал записывать результаты. Доска вдруг стала удаляться от него, и ему пришлось двигаться за ней. Доска оказалась задней стенкой кареты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Рисунок 2" descr="Ампер.jpg"/>
          <p:cNvPicPr/>
          <p:nvPr/>
        </p:nvPicPr>
        <p:blipFill>
          <a:blip r:embed="rId1"/>
          <a:stretch/>
        </p:blipFill>
        <p:spPr>
          <a:xfrm>
            <a:off x="142920" y="357120"/>
            <a:ext cx="2539800" cy="281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571680" y="4000680"/>
            <a:ext cx="1952280" cy="20761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0"/>
          <p:cNvSpPr/>
          <p:nvPr/>
        </p:nvSpPr>
        <p:spPr>
          <a:xfrm>
            <a:off x="857160" y="4071960"/>
            <a:ext cx="7429680" cy="21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3300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Самое древнее из известных счетных устройств создал Блез Паска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- французский физик, математик и философ. В 1642 году создал машину,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которая могла складывать числа. Машина Паскаля стала первым счетным механизмом. В 1970 году был создан язык программирования, названный в честь Блеза Паскаля - Pascal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14" descr="txt_паa"/>
          <p:cNvPicPr/>
          <p:nvPr/>
        </p:nvPicPr>
        <p:blipFill>
          <a:blip r:embed="rId1"/>
          <a:stretch/>
        </p:blipFill>
        <p:spPr>
          <a:xfrm>
            <a:off x="7308720" y="1484280"/>
            <a:ext cx="1552680" cy="190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Рисунок1.JPG"/>
          <p:cNvPicPr/>
          <p:nvPr/>
        </p:nvPicPr>
        <p:blipFill>
          <a:blip r:embed="rId2"/>
          <a:stretch/>
        </p:blipFill>
        <p:spPr>
          <a:xfrm>
            <a:off x="3071880" y="1428840"/>
            <a:ext cx="2643120" cy="3165480"/>
          </a:xfrm>
          <a:prstGeom prst="rect">
            <a:avLst/>
          </a:prstGeom>
          <a:ln w="0">
            <a:noFill/>
          </a:ln>
        </p:spPr>
      </p:pic>
      <p:sp>
        <p:nvSpPr>
          <p:cNvPr id="446" name="WordArt 13"/>
          <p:cNvSpPr txBox="1"/>
          <p:nvPr/>
        </p:nvSpPr>
        <p:spPr>
          <a:xfrm>
            <a:off x="3214800" y="500040"/>
            <a:ext cx="29034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ffccff"/>
                  </a:outerShdw>
                </a:effectLst>
                <a:latin typeface="Times New Roman"/>
              </a:rPr>
              <a:t>Блез Паска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ffcc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ffccff"/>
                  </a:outerShdw>
                </a:effectLst>
                <a:latin typeface="Times New Roman"/>
              </a:rPr>
              <a:t>(1623 - 1662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ffcc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Облако 1"/>
          <p:cNvSpPr/>
          <p:nvPr/>
        </p:nvSpPr>
        <p:spPr>
          <a:xfrm>
            <a:off x="357120" y="10000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Облако 2"/>
          <p:cNvSpPr/>
          <p:nvPr/>
        </p:nvSpPr>
        <p:spPr>
          <a:xfrm>
            <a:off x="2928960" y="17146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Облако 3"/>
          <p:cNvSpPr/>
          <p:nvPr/>
        </p:nvSpPr>
        <p:spPr>
          <a:xfrm>
            <a:off x="1285920" y="44290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Облако 5"/>
          <p:cNvSpPr/>
          <p:nvPr/>
        </p:nvSpPr>
        <p:spPr>
          <a:xfrm>
            <a:off x="5572080" y="364320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Облако 6"/>
          <p:cNvSpPr/>
          <p:nvPr/>
        </p:nvSpPr>
        <p:spPr>
          <a:xfrm>
            <a:off x="6072120" y="107172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Рисунок 7" descr="http://im4-tub.yandex.net/i?id=55023006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071720"/>
            <a:ext cx="1928880" cy="142848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8" descr="http://im3-tub.yandex.net/i?id=4412911&amp;tov=3"/>
          <p:cNvPicPr/>
          <p:nvPr/>
        </p:nvPicPr>
        <p:blipFill>
          <a:blip r:embed="rId3"/>
          <a:stretch/>
        </p:blipFill>
        <p:spPr>
          <a:xfrm>
            <a:off x="6357960" y="1285920"/>
            <a:ext cx="2112840" cy="12859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9" descr="http://im7-tub.yandex.net/i?id=206699963&amp;tov=7"/>
          <p:cNvPicPr/>
          <p:nvPr/>
        </p:nvPicPr>
        <p:blipFill>
          <a:blip r:embed="rId4"/>
          <a:stretch/>
        </p:blipFill>
        <p:spPr>
          <a:xfrm>
            <a:off x="3286080" y="1714680"/>
            <a:ext cx="2121120" cy="185868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0" descr="http://im8-tub.yandex.net/i?id=110855681&amp;tov=8"/>
          <p:cNvPicPr/>
          <p:nvPr/>
        </p:nvPicPr>
        <p:blipFill>
          <a:blip r:embed="rId5"/>
          <a:stretch/>
        </p:blipFill>
        <p:spPr>
          <a:xfrm>
            <a:off x="6000840" y="364320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1" descr="http://im2-tub.yandex.net/i?id=36930316&amp;tov=2"/>
          <p:cNvPicPr/>
          <p:nvPr/>
        </p:nvPicPr>
        <p:blipFill>
          <a:blip r:embed="rId6"/>
          <a:stretch/>
        </p:blipFill>
        <p:spPr>
          <a:xfrm>
            <a:off x="1643040" y="40006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1" descr=""/>
          <p:cNvPicPr/>
          <p:nvPr/>
        </p:nvPicPr>
        <p:blipFill>
          <a:blip r:embed="rId7"/>
          <a:stretch/>
        </p:blipFill>
        <p:spPr>
          <a:xfrm>
            <a:off x="2182680" y="-171360"/>
            <a:ext cx="4583160" cy="156204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2071800" y="1285920"/>
            <a:ext cx="657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читься надо весело…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тобы переваривать знания,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адо поглощать их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 аппетитом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9d9d"/>
                </a:solidFill>
                <a:latin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9d9d9d"/>
                </a:solidFill>
                <a:latin typeface="Times New Roman"/>
              </a:rPr>
              <a:t>Анатоль Фран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6" descr="аристотель.JPG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3511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285840" y="4071960"/>
            <a:ext cx="4143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Аристоте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(384 до н.э. – 322 до н.э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4071960" y="785880"/>
            <a:ext cx="42861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вое название </a:t>
            </a:r>
            <a:r>
              <a:rPr b="0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физика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получила от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еческ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hysis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- природа.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первые его употреби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ревнегреческий философ и ученый Аристотель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D:\физика\оформление класса\r68_071111.jpg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05280"/>
          </a:xfrm>
          <a:prstGeom prst="rect">
            <a:avLst/>
          </a:prstGeom>
          <a:ln w="0">
            <a:noFill/>
          </a:ln>
        </p:spPr>
      </p:pic>
      <p:pic>
        <p:nvPicPr>
          <p:cNvPr id="460" name="Овал 3" descr=""/>
          <p:cNvPicPr/>
          <p:nvPr/>
        </p:nvPicPr>
        <p:blipFill>
          <a:blip r:embed="rId2"/>
          <a:stretch/>
        </p:blipFill>
        <p:spPr>
          <a:xfrm>
            <a:off x="3565440" y="706320"/>
            <a:ext cx="5370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19"/>
          <p:cNvPicPr/>
          <p:nvPr/>
        </p:nvPicPr>
        <p:blipFill>
          <a:blip r:embed="rId2"/>
          <a:stretch/>
        </p:blipFill>
        <p:spPr>
          <a:xfrm>
            <a:off x="755640" y="692280"/>
            <a:ext cx="74692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Дата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28EE-5713-4E1B-BCF0-83F26FF6C5FE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3143160" y="4000680"/>
            <a:ext cx="2286000" cy="1143000"/>
          </a:xfrm>
          <a:prstGeom prst="rect">
            <a:avLst/>
          </a:prstGeom>
          <a:solidFill>
            <a:srgbClr val="999999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сем поведает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Хоть и без языка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гда будет ясно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когда – облак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785880" y="1428840"/>
            <a:ext cx="4643280" cy="1214280"/>
          </a:xfrm>
          <a:prstGeom prst="rect">
            <a:avLst/>
          </a:prstGeom>
          <a:solidFill>
            <a:srgbClr val="fcb99e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ве сестры кача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вды добива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когда доби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о остановились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785880" y="5214960"/>
            <a:ext cx="4643280" cy="571320"/>
          </a:xfrm>
          <a:prstGeom prst="rect">
            <a:avLst/>
          </a:prstGeom>
          <a:solidFill>
            <a:srgbClr val="ff99ff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 с земли не поднимешь?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785880" y="2714760"/>
            <a:ext cx="4643280" cy="1214280"/>
          </a:xfrm>
          <a:prstGeom prst="rect">
            <a:avLst/>
          </a:prstGeom>
          <a:solidFill>
            <a:srgbClr val="ffff71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икто его не видывал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слышать – каждый слыхивал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Без тела, а живет оно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Без языка – кричит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785880" y="4000680"/>
            <a:ext cx="2286000" cy="1143000"/>
          </a:xfrm>
          <a:prstGeom prst="rect">
            <a:avLst/>
          </a:prstGeom>
          <a:solidFill>
            <a:srgbClr val="99ff99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начала – блеск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а блеском – треск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а треском – плеск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5929200" y="1357200"/>
            <a:ext cx="20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ВЕС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ЭХ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МОЛНИЯ, ГРОМ, ДОЖД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БАРОМЕТР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ТЕН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71320" y="1571400"/>
            <a:ext cx="3143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зучение простых явлений позволяет открывать общие законы, по которым протекают различные физические явлени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Дата 4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2E23-6FA9-41BB-8640-ACC2696D905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Рисунок 5" descr="12.JPG"/>
          <p:cNvPicPr/>
          <p:nvPr/>
        </p:nvPicPr>
        <p:blipFill>
          <a:blip r:embed="rId2"/>
          <a:stretch/>
        </p:blipFill>
        <p:spPr>
          <a:xfrm>
            <a:off x="3500280" y="164304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570880" cy="16272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3" descr="7.JPG"/>
          <p:cNvPicPr/>
          <p:nvPr/>
        </p:nvPicPr>
        <p:blipFill>
          <a:blip r:embed="rId2"/>
          <a:stretch/>
        </p:blipFill>
        <p:spPr>
          <a:xfrm>
            <a:off x="1500120" y="1214280"/>
            <a:ext cx="621504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6327720" cy="1049400"/>
          </a:xfrm>
          <a:prstGeom prst="rect">
            <a:avLst/>
          </a:prstGeom>
          <a:ln w="0">
            <a:noFill/>
          </a:ln>
        </p:spPr>
      </p:pic>
      <p:sp>
        <p:nvSpPr>
          <p:cNvPr id="413" name="Дата 3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904-60AF-4133-8124-A774421C890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Рисунок 4" descr="арх.JPG"/>
          <p:cNvPicPr/>
          <p:nvPr/>
        </p:nvPicPr>
        <p:blipFill>
          <a:blip r:embed="rId2"/>
          <a:stretch/>
        </p:blipFill>
        <p:spPr>
          <a:xfrm>
            <a:off x="3143160" y="1000080"/>
            <a:ext cx="2352600" cy="298620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7" descr=""/>
          <p:cNvPicPr/>
          <p:nvPr/>
        </p:nvPicPr>
        <p:blipFill>
          <a:blip r:embed="rId3"/>
          <a:stretch/>
        </p:blipFill>
        <p:spPr>
          <a:xfrm>
            <a:off x="334800" y="3645000"/>
            <a:ext cx="854100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4"/>
          <p:cNvSpPr/>
          <p:nvPr/>
        </p:nvSpPr>
        <p:spPr>
          <a:xfrm>
            <a:off x="2786040" y="214200"/>
            <a:ext cx="6072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коло 2200 лет назад величайший ученый Древней Греции Архимед, садясь в ванну, заметил, что вода переливается через край. Архимед определил, что вес воды, вытесненной из ванны, равен силе, выталкивающей плавающее тело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Рисунок 4" descr="Архимед картина.jpg"/>
          <p:cNvPicPr/>
          <p:nvPr/>
        </p:nvPicPr>
        <p:blipFill>
          <a:blip r:embed="rId1"/>
          <a:stretch/>
        </p:blipFill>
        <p:spPr>
          <a:xfrm>
            <a:off x="285840" y="285840"/>
            <a:ext cx="2438280" cy="3255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6643800" y="3000240"/>
            <a:ext cx="1500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=F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rebuchet MS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Рисунок 3" descr="Архимед.bmp"/>
          <p:cNvPicPr/>
          <p:nvPr/>
        </p:nvPicPr>
        <p:blipFill>
          <a:blip r:embed="rId2"/>
          <a:stretch/>
        </p:blipFill>
        <p:spPr>
          <a:xfrm>
            <a:off x="285840" y="3786120"/>
            <a:ext cx="853416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галилей"/>
          <p:cNvPicPr/>
          <p:nvPr/>
        </p:nvPicPr>
        <p:blipFill>
          <a:blip r:embed="rId1"/>
          <a:stretch/>
        </p:blipFill>
        <p:spPr>
          <a:xfrm>
            <a:off x="3357720" y="1214280"/>
            <a:ext cx="2357280" cy="31006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421" name="Скругленный прямоугольник 6">
            <a:hlinkClick r:id="rId2" action="ppaction://hlinksldjump"/>
          </p:cNvPr>
          <p:cNvSpPr/>
          <p:nvPr/>
        </p:nvSpPr>
        <p:spPr>
          <a:xfrm>
            <a:off x="2286000" y="714240"/>
            <a:ext cx="4714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алилео ГАЛИЛЕЙ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2214720" y="4429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1564-164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тальянский учёны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7:49:00Z</dcterms:created>
  <dc:creator>svg</dc:creator>
  <dc:description/>
  <dc:language>en-US</dc:language>
  <cp:lastModifiedBy>237</cp:lastModifiedBy>
  <cp:lastPrinted>1996-03-19T21:02:48Z</cp:lastPrinted>
  <dcterms:modified xsi:type="dcterms:W3CDTF">2016-10-05T18:50:01Z</dcterms:modified>
  <cp:revision>53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