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1.jpeg" ContentType="image/jpeg"/>
  <Override PartName="/ppt/media/image29.wmf" ContentType="image/x-wmf"/>
  <Override PartName="/ppt/media/image1.png" ContentType="image/png"/>
  <Override PartName="/ppt/media/image19.jpeg" ContentType="image/jpeg"/>
  <Override PartName="/ppt/media/image25.png" ContentType="image/png"/>
  <Override PartName="/ppt/media/image28.jpeg" ContentType="image/jpeg"/>
  <Override PartName="/ppt/media/image9.jpeg" ContentType="image/jpeg"/>
  <Override PartName="/ppt/media/image11.jpeg" ContentType="image/jpeg"/>
  <Override PartName="/ppt/media/image20.png" ContentType="image/png"/>
  <Override PartName="/ppt/media/image36.jpeg" ContentType="image/jpeg"/>
  <Override PartName="/ppt/media/image22.jpeg" ContentType="image/jpeg"/>
  <Override PartName="/ppt/media/image39.png" ContentType="image/png"/>
  <Override PartName="/ppt/media/image7.png" ContentType="image/png"/>
  <Override PartName="/ppt/media/image37.png" ContentType="image/png"/>
  <Override PartName="/ppt/media/image34.jpeg" ContentType="image/jpeg"/>
  <Override PartName="/ppt/media/image12.png" ContentType="image/png"/>
  <Override PartName="/ppt/media/image23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38.jpeg" ContentType="image/jpeg"/>
  <Override PartName="/ppt/media/image8.png" ContentType="image/png"/>
  <Override PartName="/ppt/media/image5.png" ContentType="image/png"/>
  <Override PartName="/ppt/media/image35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48CE-26DC-49D0-BE9A-5890FB6E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6F8A-CBEE-4E33-8166-7636C3E0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76E946-58BD-478F-91E8-0BF1AE3A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1CE0A7-8001-4818-A3F7-B584C8AB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73279B-FEC4-4E22-88EB-DEC321E8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F72F99-0CE6-49A0-B74A-DC42578B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48B88B-7994-4108-8B5F-E769963F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B04FB3-F9EA-465E-AAB8-60F538F4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57F2DC-310D-4EF0-9C49-C3845064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9AAFBB-8130-4C50-8436-B34DC7364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94472F-9DE7-4AD7-AD96-C3D9EDB88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E2F7-D0F6-4B41-AAAF-702766B0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A288-D839-4A95-84B9-8BA71C0EB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3C93-AD5E-4D9C-AF91-613089AAB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EDE2-8DA7-4F6E-9CCF-79539E1C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2385-E37E-4402-ABC9-94A9571D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32E5-21D3-4D8D-871C-EC45D13F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008D-BC1E-4AA6-8E29-88CCF28F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9E81-9194-4C1C-9E55-D0FBC214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D44A-2938-4484-8294-B9AAD030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87B9-065F-468C-8F71-308D45B7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82D9-7CA8-4405-858F-C2BAC520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A2BF-D6CA-4D0A-9314-4FE96672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7419-AA3A-411C-871C-F19D32E3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F0D8-231C-46B8-95C6-7B98B9D1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AB76-98E1-47D8-B970-4C0C882B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FAFAF-5CD8-474B-AAAA-F2608C625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060CC-A383-415F-99F1-8887C2A1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8D8C3-B832-4AC2-A388-299111E6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1792E-4B13-45FB-84BD-10552183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1F9D3-E2A2-44AA-A522-DAF75653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E3EC-0D51-4901-A932-D078517D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6E40F-8980-4D43-A62C-5382727D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E6C85-16F6-40C4-AD5C-0E36C4D1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1286A-9F9D-432A-96D0-0CC9D292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5A6ED-9110-46E6-BA6B-C82208EA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D2FD5-4F83-4262-9ECD-B8388FE9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486B0-7B45-4F6B-9193-8901AD283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3F901-63ED-4355-A8FC-FEB9E0417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A5244-37D6-48E1-A5E4-2B7B5F6BD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F8259-7022-4305-B012-3C0AB3CC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B5697-C430-45AC-B416-F88FC312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F7CC-792B-4293-A9A3-C5E0B49A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CE323-8AC8-41B2-83D1-9C087CBD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94DF7-B5F0-4205-8891-8A68FAFB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01D9E-5CB3-42CC-A31F-05BB0794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9448B-381D-4A4C-BD19-9D6AEC9F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C95F5-D66F-4C95-90A5-E548C4BF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341E9-287E-4034-BB7F-BBD65A23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7C80E-D9F7-4892-A177-C8D6FDD4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1D17C-A37A-4DD2-84EC-8CC33A4A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D49A7-6323-4920-BEC1-35F94EBF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5B374-FEDE-4816-ADFE-0ED227D8C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7A2C-A4FA-49C6-BF1A-4B8DC602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A8A40-0B5C-4A76-BD5F-C6C13291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C2DFE-223D-4935-9068-BAC2BE1A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C3F20-96BE-42A6-94C1-37185D27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F427E-C8DB-4324-9093-09649CFC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31A41-07DF-4100-8E6F-27F83D6E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B8CD2-97F6-4DDA-80B8-D5AD3116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1792F-A5FA-4086-B996-0ED58A8F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9FE21-CA17-4001-AAAF-91D24419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A643E-1B6C-43BA-8CEF-C5D3E728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B9408-D337-4D88-AEFC-CB4235224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F7BD-BBC4-46EE-9488-B7B9E927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9C860-0DA9-419A-985A-D2AF7C7D9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45C28-18F1-4598-A59D-1BBEB243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D6CE2-5F15-410B-A26C-11D1DF3B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61C04-9E67-4C17-9C47-81BCB02C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CC692-6908-44CA-BE99-FD9B4645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3AE52-670B-4D7F-9C3A-A0196469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80CC5-D0F1-4859-8912-ACF78243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283D3-91FF-4E76-ACE3-1B3BF523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0371F-0D93-4F99-A036-DBBC73B0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7DA66-9F6D-4EEA-9A31-A5A6CC7F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47B0-42DE-485B-B7A8-A7B7833A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EC55D-AAB9-4381-A143-5B97BC54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899DA-1914-436F-8314-EB8A58E77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B1C55-F0E3-46F9-A2F9-AFF9BCA0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ECD8D-425E-4C2F-A1B9-A6E23A98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6D568-C020-47C2-B6C5-A7A91196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04A63-70B1-4097-BD84-2631731E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ED9D4-6761-4471-988C-A3329848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9EDC8-CA34-4153-BE32-133034D8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86F45-FC56-45E7-87AF-A8BBDD4A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B4E01-1E8E-4944-96B1-544E4C4B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3914-3EC4-45B7-93BF-355B0FB5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578BE-4D4D-4738-9073-80B32641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4A85E-D64B-42F7-9A60-3C7EFEFE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31F7E-B53F-4F6E-A238-F91AA25E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09733-A5DB-4FB8-B85E-BAF1517D6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99AF3-8937-4F91-8CA0-E5E2495B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5F2AE-B682-4541-9E0B-E4C75E74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F659B-7802-46ED-9EA2-4DDDB120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8A254-FE63-49B7-A150-478E31E2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00882-99AA-4B64-9E5E-582E6DF8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2C39E-C106-4146-8EE0-8EA821B1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5208-62A9-4224-A4DE-9B83E710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FC7D6-B0F3-4D2C-8BE6-316591E4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862B9-C4F4-482B-B53C-8575460C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A0D6E-9939-433A-8F3B-49DE86DE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22E03-776D-4C95-8531-4480DEC4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23698-591F-4FCF-99DE-2632F7F8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DBA97-EFD0-4612-AA45-872752C9B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F83C8-7230-456D-97A0-12298E9E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F25F9F-5614-4729-A2D8-0BEB7AE1B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AC876D-3092-4CCB-82E4-A0DC3BE9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644C2A-01D8-4807-B118-62E1820F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BB14-C3E4-4368-BCE6-4E0C62D7A6F9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8DCD-6245-45CD-9B07-60AB11C6AC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0237-32A6-4EC5-B5B1-69AD4F031F93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4F86-BF54-4D51-B4D1-E9B98C323559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240C-34F8-4A2D-93B0-47CDC5553904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BA79-FA70-47E4-9F5B-8EB28FBC88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07E6-4A54-40A1-9DF5-57A1E9D54B3F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127C-8095-48ED-B4B0-DBE57850C93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EFD3-BB01-4A98-AB54-92E243AFC1AD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E5B4-8283-4B9E-A0B1-F7EECF75BD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86A4-2A0A-4865-BFFD-66D4E763DFCD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164C-8BCE-4E66-9EE7-D0FA81367D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6C06-8824-49A3-9BA8-07AF956975ED}" type="datetime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6397-411D-4424-9FDD-87F6CD02BA2F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8701-E4FA-48B8-AC74-EE2CC780F776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6603-ED7C-4106-A89D-6EEE202362BB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Num" idx="2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FDE5-DA3C-4C78-9C21-69B8B0FC035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dt" idx="27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530B-DDEC-4330-BA52-64830529903B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&amp;ed=1&amp;text=&#1074;&#1086;&#1083;&#1100;&#1090;&#1084;&#1077;&#1090;&#1088;&amp;spsite=fake-022-6839811.ru&amp;img_url=dic.academic.ru/pictures/wiki/files/86/VoltimetroPY5aal.gif&amp;rpt=simage" TargetMode="External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506520" y="622440"/>
            <a:ext cx="8240760" cy="1371600"/>
          </a:xfrm>
          <a:prstGeom prst="rect">
            <a:avLst/>
          </a:prstGeom>
          <a:ln w="0">
            <a:noFill/>
          </a:ln>
        </p:spPr>
      </p:pic>
      <p:pic>
        <p:nvPicPr>
          <p:cNvPr id="390" name="WordArt 7" descr=""/>
          <p:cNvPicPr/>
          <p:nvPr/>
        </p:nvPicPr>
        <p:blipFill>
          <a:blip r:embed="rId2"/>
          <a:stretch/>
        </p:blipFill>
        <p:spPr>
          <a:xfrm>
            <a:off x="603360" y="2457360"/>
            <a:ext cx="7937280" cy="13716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планета"/>
          <p:cNvPicPr/>
          <p:nvPr/>
        </p:nvPicPr>
        <p:blipFill>
          <a:blip r:embed="rId3"/>
          <a:stretch/>
        </p:blipFill>
        <p:spPr>
          <a:xfrm>
            <a:off x="3357720" y="3786120"/>
            <a:ext cx="2652480" cy="252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457200" y="353880"/>
            <a:ext cx="8686800" cy="11098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499920" y="1643040"/>
            <a:ext cx="5286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 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сновные законы классической механики были открыты в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XVII</a:t>
            </a:r>
            <a:r>
              <a:rPr b="0" lang="ru-RU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веке  английским учёным Исааком Ньютоном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25" name="Рисунок 4" descr="Рисунок1.JPG"/>
          <p:cNvPicPr/>
          <p:nvPr/>
        </p:nvPicPr>
        <p:blipFill>
          <a:blip r:embed="rId2"/>
          <a:stretch/>
        </p:blipFill>
        <p:spPr>
          <a:xfrm>
            <a:off x="714240" y="1714680"/>
            <a:ext cx="2586240" cy="33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2" descr=""/>
          <p:cNvPicPr/>
          <p:nvPr/>
        </p:nvPicPr>
        <p:blipFill>
          <a:blip r:embed="rId1"/>
          <a:stretch/>
        </p:blipFill>
        <p:spPr>
          <a:xfrm>
            <a:off x="573120" y="487440"/>
            <a:ext cx="7931160" cy="1627200"/>
          </a:xfrm>
          <a:prstGeom prst="rect">
            <a:avLst/>
          </a:prstGeom>
          <a:ln w="0">
            <a:noFill/>
          </a:ln>
        </p:spPr>
      </p:pic>
      <p:sp>
        <p:nvSpPr>
          <p:cNvPr id="427" name="Дата 1"/>
          <p:cNvSpPr/>
          <p:nvPr/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9AD6-2C3F-4862-B9A4-FBE0FBDA1827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8" name="Picture 2" descr="D:\физика\оформление класса\74743.jpg"/>
          <p:cNvPicPr/>
          <p:nvPr/>
        </p:nvPicPr>
        <p:blipFill>
          <a:blip r:embed="rId2"/>
          <a:stretch/>
        </p:blipFill>
        <p:spPr>
          <a:xfrm>
            <a:off x="2071800" y="1857240"/>
            <a:ext cx="4929120" cy="428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Box 2"/>
          <p:cNvSpPr/>
          <p:nvPr/>
        </p:nvSpPr>
        <p:spPr>
          <a:xfrm>
            <a:off x="2500200" y="1071720"/>
            <a:ext cx="6000840" cy="52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Ты открой мне,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44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природа, объятья,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Чтоб я слился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44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с красою твоей.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i="1" lang="ru-RU" sz="32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И.БУНИН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0" name="Рисунок 3" descr="1.JPG"/>
          <p:cNvPicPr/>
          <p:nvPr/>
        </p:nvPicPr>
        <p:blipFill>
          <a:blip r:embed="rId1"/>
          <a:stretch/>
        </p:blipFill>
        <p:spPr>
          <a:xfrm>
            <a:off x="500040" y="357120"/>
            <a:ext cx="1943280" cy="31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500040" y="3822840"/>
            <a:ext cx="7931160" cy="2504880"/>
          </a:xfrm>
          <a:prstGeom prst="rect">
            <a:avLst/>
          </a:prstGeom>
          <a:ln w="0">
            <a:noFill/>
          </a:ln>
        </p:spPr>
      </p:pic>
      <p:pic>
        <p:nvPicPr>
          <p:cNvPr id="432" name="Содержимое 3" descr=""/>
          <p:cNvPicPr/>
          <p:nvPr/>
        </p:nvPicPr>
        <p:blipFill>
          <a:blip r:embed="rId2"/>
          <a:stretch/>
        </p:blipFill>
        <p:spPr>
          <a:xfrm>
            <a:off x="2928960" y="1214280"/>
            <a:ext cx="3000240" cy="2714760"/>
          </a:xfrm>
          <a:prstGeom prst="rect">
            <a:avLst/>
          </a:prstGeom>
          <a:ln w="0">
            <a:noFill/>
          </a:ln>
        </p:spPr>
      </p:pic>
      <p:sp>
        <p:nvSpPr>
          <p:cNvPr id="433" name="Прямоугольник 5"/>
          <p:cNvSpPr/>
          <p:nvPr/>
        </p:nvSpPr>
        <p:spPr>
          <a:xfrm>
            <a:off x="2159640" y="714240"/>
            <a:ext cx="515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лександр Степанович Попов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927000" y="3432240"/>
            <a:ext cx="7259760" cy="2498760"/>
          </a:xfrm>
          <a:prstGeom prst="rect">
            <a:avLst/>
          </a:prstGeom>
          <a:ln w="0">
            <a:noFill/>
          </a:ln>
        </p:spPr>
      </p:pic>
      <p:pic>
        <p:nvPicPr>
          <p:cNvPr id="435" name="Содержимое 3" descr="Шарль Кулон"/>
          <p:cNvPicPr/>
          <p:nvPr/>
        </p:nvPicPr>
        <p:blipFill>
          <a:blip r:embed="rId2"/>
          <a:stretch/>
        </p:blipFill>
        <p:spPr>
          <a:xfrm>
            <a:off x="3357720" y="1000080"/>
            <a:ext cx="2500200" cy="2571840"/>
          </a:xfrm>
          <a:prstGeom prst="rect">
            <a:avLst/>
          </a:prstGeom>
          <a:ln w="0">
            <a:noFill/>
          </a:ln>
        </p:spPr>
      </p:pic>
      <p:sp>
        <p:nvSpPr>
          <p:cNvPr id="436" name="Прямоугольник 3"/>
          <p:cNvSpPr/>
          <p:nvPr/>
        </p:nvSpPr>
        <p:spPr>
          <a:xfrm>
            <a:off x="1071720" y="57168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улон Шарль Огустин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1"/>
          <a:stretch/>
        </p:blipFill>
        <p:spPr>
          <a:xfrm>
            <a:off x="1073160" y="3638520"/>
            <a:ext cx="7405560" cy="243360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2" descr="Ампер.jpg"/>
          <p:cNvPicPr/>
          <p:nvPr/>
        </p:nvPicPr>
        <p:blipFill>
          <a:blip r:embed="rId2"/>
          <a:stretch/>
        </p:blipFill>
        <p:spPr>
          <a:xfrm>
            <a:off x="3500280" y="928800"/>
            <a:ext cx="2433960" cy="2701800"/>
          </a:xfrm>
          <a:prstGeom prst="rect">
            <a:avLst/>
          </a:prstGeom>
          <a:ln w="0">
            <a:noFill/>
          </a:ln>
        </p:spPr>
      </p:pic>
      <p:sp>
        <p:nvSpPr>
          <p:cNvPr id="439" name="Прямоугольник 3"/>
          <p:cNvSpPr/>
          <p:nvPr/>
        </p:nvSpPr>
        <p:spPr>
          <a:xfrm>
            <a:off x="2143080" y="4287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мпер Андре Мари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Box 1"/>
          <p:cNvSpPr/>
          <p:nvPr/>
        </p:nvSpPr>
        <p:spPr>
          <a:xfrm>
            <a:off x="2857680" y="357120"/>
            <a:ext cx="600048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Century Gothic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А.-М. Ампер славился своей рассеянностью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Однажды он варил свои часы с сосредоточенным видом, держа в руке яйцо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В другой раз он шел по улице, производя в уме сложные расчеты. Он ничуть не удивился, когда перед ним возникла черная доска, спокойно достал из кармана мел и стал записывать результаты. Доска вдруг стала удаляться от него, и ему пришлось двигаться за ней. Доска оказалась задней стенкой кареты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1" name="Рисунок 2" descr="Ампер.jpg"/>
          <p:cNvPicPr/>
          <p:nvPr/>
        </p:nvPicPr>
        <p:blipFill>
          <a:blip r:embed="rId1"/>
          <a:stretch/>
        </p:blipFill>
        <p:spPr>
          <a:xfrm>
            <a:off x="142920" y="357120"/>
            <a:ext cx="2539800" cy="28195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" descr="C:\Program Files\Microsoft Office\MEDIA\CAGCAT10\j0234131.wmf"/>
          <p:cNvPicPr/>
          <p:nvPr/>
        </p:nvPicPr>
        <p:blipFill>
          <a:blip r:embed="rId2"/>
          <a:stretch/>
        </p:blipFill>
        <p:spPr>
          <a:xfrm>
            <a:off x="571680" y="4000680"/>
            <a:ext cx="1952280" cy="2076120"/>
          </a:xfrm>
          <a:prstGeom prst="rect">
            <a:avLst/>
          </a:prstGeom>
          <a:ln w="0">
            <a:noFill/>
          </a:ln>
        </p:spPr>
      </p:pic>
    </p:spTree>
  </p:cSld>
  <p:transition advTm="60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10"/>
          <p:cNvSpPr/>
          <p:nvPr/>
        </p:nvSpPr>
        <p:spPr>
          <a:xfrm>
            <a:off x="857160" y="4071960"/>
            <a:ext cx="7429680" cy="21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3300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8f8f8"/>
                </a:solidFill>
                <a:latin typeface="Times New Roman"/>
              </a:rPr>
              <a:t>Самое древнее из известных счетных устройств создал Блез Паскаль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8f8f8"/>
                </a:solidFill>
                <a:latin typeface="Times New Roman"/>
              </a:rPr>
              <a:t>- французский физик, математик и философ. В 1642 году создал машину,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8f8f8"/>
                </a:solidFill>
                <a:latin typeface="Times New Roman"/>
              </a:rPr>
              <a:t>которая могла складывать числа. Машина Паскаля стала первым счетным механизмом. В 1970 году был создан язык программирования, названный в честь Блеза Паскаля - Pascal.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4" name="Picture 14" descr="txt_паa"/>
          <p:cNvPicPr/>
          <p:nvPr/>
        </p:nvPicPr>
        <p:blipFill>
          <a:blip r:embed="rId1"/>
          <a:stretch/>
        </p:blipFill>
        <p:spPr>
          <a:xfrm>
            <a:off x="7308720" y="1484280"/>
            <a:ext cx="1552680" cy="19044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7" descr="Рисунок1.JPG"/>
          <p:cNvPicPr/>
          <p:nvPr/>
        </p:nvPicPr>
        <p:blipFill>
          <a:blip r:embed="rId2"/>
          <a:stretch/>
        </p:blipFill>
        <p:spPr>
          <a:xfrm>
            <a:off x="3071880" y="1428840"/>
            <a:ext cx="2643120" cy="3165480"/>
          </a:xfrm>
          <a:prstGeom prst="rect">
            <a:avLst/>
          </a:prstGeom>
          <a:ln w="0">
            <a:noFill/>
          </a:ln>
        </p:spPr>
      </p:pic>
      <p:sp>
        <p:nvSpPr>
          <p:cNvPr id="446" name="WordArt 13"/>
          <p:cNvSpPr txBox="1"/>
          <p:nvPr/>
        </p:nvSpPr>
        <p:spPr>
          <a:xfrm>
            <a:off x="3214800" y="500040"/>
            <a:ext cx="29034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ffccff"/>
                  </a:outerShdw>
                </a:effectLst>
                <a:latin typeface="Times New Roman"/>
              </a:rPr>
              <a:t>Блез Паскаль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ffcc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ffccff"/>
                  </a:outerShdw>
                </a:effectLst>
                <a:latin typeface="Times New Roman"/>
              </a:rPr>
              <a:t>(1623 - 1662)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ffccff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Облако 1"/>
          <p:cNvSpPr/>
          <p:nvPr/>
        </p:nvSpPr>
        <p:spPr>
          <a:xfrm>
            <a:off x="357120" y="1000080"/>
            <a:ext cx="2714760" cy="1643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Облако 2"/>
          <p:cNvSpPr/>
          <p:nvPr/>
        </p:nvSpPr>
        <p:spPr>
          <a:xfrm>
            <a:off x="2928960" y="1714680"/>
            <a:ext cx="2714760" cy="1643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Облако 3"/>
          <p:cNvSpPr/>
          <p:nvPr/>
        </p:nvSpPr>
        <p:spPr>
          <a:xfrm>
            <a:off x="1285920" y="4429080"/>
            <a:ext cx="2714760" cy="1643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Облако 5"/>
          <p:cNvSpPr/>
          <p:nvPr/>
        </p:nvSpPr>
        <p:spPr>
          <a:xfrm>
            <a:off x="5572080" y="3643200"/>
            <a:ext cx="2714760" cy="1643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Облако 6"/>
          <p:cNvSpPr/>
          <p:nvPr/>
        </p:nvSpPr>
        <p:spPr>
          <a:xfrm>
            <a:off x="6072120" y="1071720"/>
            <a:ext cx="2714760" cy="1643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2" name="Рисунок 7" descr="http://im4-tub.yandex.net/i?id=55023006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7160" y="1071720"/>
            <a:ext cx="1928880" cy="1428480"/>
          </a:xfrm>
          <a:prstGeom prst="rect">
            <a:avLst/>
          </a:prstGeom>
          <a:ln w="0">
            <a:noFill/>
          </a:ln>
        </p:spPr>
      </p:pic>
      <p:pic>
        <p:nvPicPr>
          <p:cNvPr id="453" name="Рисунок 8" descr="http://im3-tub.yandex.net/i?id=4412911&amp;tov=3"/>
          <p:cNvPicPr/>
          <p:nvPr/>
        </p:nvPicPr>
        <p:blipFill>
          <a:blip r:embed="rId3"/>
          <a:stretch/>
        </p:blipFill>
        <p:spPr>
          <a:xfrm>
            <a:off x="6357960" y="1285920"/>
            <a:ext cx="2112840" cy="128592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9" descr="http://im7-tub.yandex.net/i?id=206699963&amp;tov=7"/>
          <p:cNvPicPr/>
          <p:nvPr/>
        </p:nvPicPr>
        <p:blipFill>
          <a:blip r:embed="rId4"/>
          <a:stretch/>
        </p:blipFill>
        <p:spPr>
          <a:xfrm>
            <a:off x="3286080" y="1714680"/>
            <a:ext cx="2121120" cy="1858680"/>
          </a:xfrm>
          <a:prstGeom prst="rect">
            <a:avLst/>
          </a:prstGeom>
          <a:ln w="0">
            <a:noFill/>
          </a:ln>
        </p:spPr>
      </p:pic>
      <p:pic>
        <p:nvPicPr>
          <p:cNvPr id="455" name="Рисунок 10" descr="http://im8-tub.yandex.net/i?id=110855681&amp;tov=8"/>
          <p:cNvPicPr/>
          <p:nvPr/>
        </p:nvPicPr>
        <p:blipFill>
          <a:blip r:embed="rId5"/>
          <a:stretch/>
        </p:blipFill>
        <p:spPr>
          <a:xfrm>
            <a:off x="6000840" y="3643200"/>
            <a:ext cx="1928880" cy="171468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11" descr="http://im2-tub.yandex.net/i?id=36930316&amp;tov=2"/>
          <p:cNvPicPr/>
          <p:nvPr/>
        </p:nvPicPr>
        <p:blipFill>
          <a:blip r:embed="rId6"/>
          <a:stretch/>
        </p:blipFill>
        <p:spPr>
          <a:xfrm>
            <a:off x="1643040" y="4000680"/>
            <a:ext cx="1857240" cy="2214360"/>
          </a:xfrm>
          <a:prstGeom prst="rect">
            <a:avLst/>
          </a:prstGeom>
          <a:ln w="0">
            <a:noFill/>
          </a:ln>
        </p:spPr>
      </p:pic>
      <p:pic>
        <p:nvPicPr>
          <p:cNvPr id="457" name="Прямоугольник 11" descr=""/>
          <p:cNvPicPr/>
          <p:nvPr/>
        </p:nvPicPr>
        <p:blipFill>
          <a:blip r:embed="rId7"/>
          <a:stretch/>
        </p:blipFill>
        <p:spPr>
          <a:xfrm>
            <a:off x="2182680" y="-171360"/>
            <a:ext cx="4583160" cy="1562040"/>
          </a:xfrm>
          <a:prstGeom prst="rect">
            <a:avLst/>
          </a:prstGeom>
          <a:ln w="0">
            <a:noFill/>
          </a:ln>
        </p:spPr>
      </p:pic>
    </p:spTree>
  </p:cSld>
  <p:transition spd="med" advTm="60000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Box 1"/>
          <p:cNvSpPr/>
          <p:nvPr/>
        </p:nvSpPr>
        <p:spPr>
          <a:xfrm>
            <a:off x="2071800" y="1285920"/>
            <a:ext cx="657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Учиться надо весело…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Чтобы переваривать знания,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надо поглощать их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с аппетитом.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d9d9d"/>
                </a:solidFill>
                <a:latin typeface="Times New Roman"/>
              </a:rPr>
              <a:t>                           </a:t>
            </a:r>
            <a:r>
              <a:rPr b="1" lang="ru-RU" sz="3600" spc="-1" strike="noStrike">
                <a:solidFill>
                  <a:srgbClr val="9d9d9d"/>
                </a:solidFill>
                <a:latin typeface="Times New Roman"/>
              </a:rPr>
              <a:t>Анатоль Франс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Рисунок 6" descr="аристотель.JPG"/>
          <p:cNvPicPr/>
          <p:nvPr/>
        </p:nvPicPr>
        <p:blipFill>
          <a:blip r:embed="rId1"/>
          <a:stretch/>
        </p:blipFill>
        <p:spPr>
          <a:xfrm>
            <a:off x="1000080" y="857160"/>
            <a:ext cx="2857680" cy="351180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2"/>
          <p:cNvSpPr/>
          <p:nvPr/>
        </p:nvSpPr>
        <p:spPr>
          <a:xfrm>
            <a:off x="285840" y="4071960"/>
            <a:ext cx="414324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c2305"/>
                </a:solidFill>
                <a:latin typeface="Arial Unicode MS"/>
              </a:rPr>
              <a:t>Аристотель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c2305"/>
                </a:solidFill>
                <a:latin typeface="Arial Unicode MS"/>
              </a:rPr>
              <a:t> </a:t>
            </a:r>
            <a:r>
              <a:rPr b="0" lang="ru-RU" sz="2400" spc="-1" strike="noStrike">
                <a:solidFill>
                  <a:srgbClr val="5c2305"/>
                </a:solidFill>
                <a:latin typeface="Arial Unicode MS"/>
              </a:rPr>
              <a:t>(384 до н.э. – 322 до н.э.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4071960" y="785880"/>
            <a:ext cx="428616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Свое название </a:t>
            </a:r>
            <a:r>
              <a:rPr b="0" lang="ru-RU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физика</a:t>
            </a:r>
            <a:r>
              <a:rPr b="0" lang="ru-RU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получила от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греческого слова </a:t>
            </a:r>
            <a:r>
              <a:rPr b="0" lang="ru-RU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physis</a:t>
            </a:r>
            <a:r>
              <a:rPr b="0" lang="ru-RU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- природа. 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Впервые его употребил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древнегреческий философ и ученый Аристотель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2" descr="D:\физика\оформление класса\r68_071111.jpg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05280"/>
          </a:xfrm>
          <a:prstGeom prst="rect">
            <a:avLst/>
          </a:prstGeom>
          <a:ln w="0">
            <a:noFill/>
          </a:ln>
        </p:spPr>
      </p:pic>
      <p:pic>
        <p:nvPicPr>
          <p:cNvPr id="460" name="Овал 3" descr=""/>
          <p:cNvPicPr/>
          <p:nvPr/>
        </p:nvPicPr>
        <p:blipFill>
          <a:blip r:embed="rId2"/>
          <a:stretch/>
        </p:blipFill>
        <p:spPr>
          <a:xfrm>
            <a:off x="3565440" y="706320"/>
            <a:ext cx="537048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19"/>
          <p:cNvPicPr/>
          <p:nvPr/>
        </p:nvPicPr>
        <p:blipFill>
          <a:blip r:embed="rId2"/>
          <a:stretch/>
        </p:blipFill>
        <p:spPr>
          <a:xfrm>
            <a:off x="755640" y="692280"/>
            <a:ext cx="746928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9" name="Дата 3"/>
          <p:cNvSpPr/>
          <p:nvPr/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25F1-7A9D-4992-B9CE-796E89FDD4E7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Прямоугольник 4"/>
          <p:cNvSpPr/>
          <p:nvPr/>
        </p:nvSpPr>
        <p:spPr>
          <a:xfrm>
            <a:off x="3143160" y="4000680"/>
            <a:ext cx="2286000" cy="1143000"/>
          </a:xfrm>
          <a:prstGeom prst="rect">
            <a:avLst/>
          </a:prstGeom>
          <a:solidFill>
            <a:srgbClr val="999999">
              <a:alpha val="50000"/>
            </a:srgbClr>
          </a:solidFill>
          <a:ln cap="sq" w="126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Всем поведает,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Хоть и без языка,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Когда будет ясно,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А когда – облака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Прямоугольник 5"/>
          <p:cNvSpPr/>
          <p:nvPr/>
        </p:nvSpPr>
        <p:spPr>
          <a:xfrm>
            <a:off x="785880" y="1428840"/>
            <a:ext cx="4643280" cy="1214280"/>
          </a:xfrm>
          <a:prstGeom prst="rect">
            <a:avLst/>
          </a:prstGeom>
          <a:solidFill>
            <a:srgbClr val="fcb99e">
              <a:alpha val="50000"/>
            </a:srgbClr>
          </a:solidFill>
          <a:ln cap="sq" w="126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Две сестры качались,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Правды добивались,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А когда добились,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То остановились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Прямоугольник 4"/>
          <p:cNvSpPr/>
          <p:nvPr/>
        </p:nvSpPr>
        <p:spPr>
          <a:xfrm>
            <a:off x="785880" y="5214960"/>
            <a:ext cx="4643280" cy="571320"/>
          </a:xfrm>
          <a:prstGeom prst="rect">
            <a:avLst/>
          </a:prstGeom>
          <a:solidFill>
            <a:srgbClr val="ff99ff">
              <a:alpha val="50000"/>
            </a:srgbClr>
          </a:solidFill>
          <a:ln cap="sq" w="126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Что с земли не поднимешь?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Прямоугольник 4"/>
          <p:cNvSpPr/>
          <p:nvPr/>
        </p:nvSpPr>
        <p:spPr>
          <a:xfrm>
            <a:off x="785880" y="2714760"/>
            <a:ext cx="4643280" cy="1214280"/>
          </a:xfrm>
          <a:prstGeom prst="rect">
            <a:avLst/>
          </a:prstGeom>
          <a:solidFill>
            <a:srgbClr val="ffff71">
              <a:alpha val="50000"/>
            </a:srgbClr>
          </a:solidFill>
          <a:ln cap="sq" w="126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Никто его не видывал,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А слышать – каждый слыхивал,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Без тела, а живет оно,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Без языка – кричит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Прямоугольник 5"/>
          <p:cNvSpPr/>
          <p:nvPr/>
        </p:nvSpPr>
        <p:spPr>
          <a:xfrm>
            <a:off x="785880" y="4000680"/>
            <a:ext cx="2286000" cy="1143000"/>
          </a:xfrm>
          <a:prstGeom prst="rect">
            <a:avLst/>
          </a:prstGeom>
          <a:solidFill>
            <a:srgbClr val="99ff99">
              <a:alpha val="50000"/>
            </a:srgbClr>
          </a:solidFill>
          <a:ln cap="sq" w="126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Сначала – блеск,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За блеском – треск,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За треском – плеск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Box 10"/>
          <p:cNvSpPr/>
          <p:nvPr/>
        </p:nvSpPr>
        <p:spPr>
          <a:xfrm>
            <a:off x="5929200" y="1357200"/>
            <a:ext cx="2071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 Unicode MS"/>
                <a:ea typeface="Arial Unicode MS"/>
              </a:rPr>
              <a:t>ВЕСЫ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 Unicode MS"/>
                <a:ea typeface="Arial Unicode MS"/>
              </a:rPr>
              <a:t>ЭХО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 Unicode MS"/>
                <a:ea typeface="Arial Unicode MS"/>
              </a:rPr>
              <a:t>МОЛНИЯ, ГРОМ, ДОЖДЬ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 Unicode MS"/>
                <a:ea typeface="Arial Unicode MS"/>
              </a:rPr>
              <a:t>БАРОМЕТР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 Unicode MS"/>
                <a:ea typeface="Arial Unicode MS"/>
              </a:rPr>
              <a:t>ТЕНЬ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571320" y="1571400"/>
            <a:ext cx="3143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Изучение простых явлений позволяет открывать общие законы, по которым протекают различные физические явления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8" name="Дата 4"/>
          <p:cNvSpPr/>
          <p:nvPr/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3092-3DC4-423C-A31C-3D38A6CF37E0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9" name="Рисунок 5" descr="12.JPG"/>
          <p:cNvPicPr/>
          <p:nvPr/>
        </p:nvPicPr>
        <p:blipFill>
          <a:blip r:embed="rId2"/>
          <a:stretch/>
        </p:blipFill>
        <p:spPr>
          <a:xfrm>
            <a:off x="3500280" y="1643040"/>
            <a:ext cx="48578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212760" y="225360"/>
            <a:ext cx="8570880" cy="162720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3" descr="7.JPG"/>
          <p:cNvPicPr/>
          <p:nvPr/>
        </p:nvPicPr>
        <p:blipFill>
          <a:blip r:embed="rId2"/>
          <a:stretch/>
        </p:blipFill>
        <p:spPr>
          <a:xfrm>
            <a:off x="1500120" y="1214280"/>
            <a:ext cx="6215040" cy="492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4" descr=""/>
          <p:cNvPicPr/>
          <p:nvPr/>
        </p:nvPicPr>
        <p:blipFill>
          <a:blip r:embed="rId1"/>
          <a:stretch/>
        </p:blipFill>
        <p:spPr>
          <a:xfrm>
            <a:off x="1212840" y="225360"/>
            <a:ext cx="6327720" cy="1049400"/>
          </a:xfrm>
          <a:prstGeom prst="rect">
            <a:avLst/>
          </a:prstGeom>
          <a:ln w="0">
            <a:noFill/>
          </a:ln>
        </p:spPr>
      </p:pic>
      <p:sp>
        <p:nvSpPr>
          <p:cNvPr id="413" name="Дата 3"/>
          <p:cNvSpPr/>
          <p:nvPr/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D238-8793-40B3-BACE-2214EA75134C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4" name="Рисунок 4" descr="арх.JPG"/>
          <p:cNvPicPr/>
          <p:nvPr/>
        </p:nvPicPr>
        <p:blipFill>
          <a:blip r:embed="rId2"/>
          <a:stretch/>
        </p:blipFill>
        <p:spPr>
          <a:xfrm>
            <a:off x="3143160" y="1000080"/>
            <a:ext cx="2352600" cy="2986200"/>
          </a:xfrm>
          <a:prstGeom prst="rect">
            <a:avLst/>
          </a:prstGeom>
          <a:ln w="0">
            <a:noFill/>
          </a:ln>
        </p:spPr>
      </p:pic>
      <p:pic>
        <p:nvPicPr>
          <p:cNvPr id="415" name="Прямоугольник 7" descr=""/>
          <p:cNvPicPr/>
          <p:nvPr/>
        </p:nvPicPr>
        <p:blipFill>
          <a:blip r:embed="rId3"/>
          <a:stretch/>
        </p:blipFill>
        <p:spPr>
          <a:xfrm>
            <a:off x="334800" y="3645000"/>
            <a:ext cx="8541000" cy="27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4"/>
          <p:cNvSpPr/>
          <p:nvPr/>
        </p:nvSpPr>
        <p:spPr>
          <a:xfrm>
            <a:off x="2786040" y="214200"/>
            <a:ext cx="6072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Около 2200 лет назад величайший ученый Древней Греции Архимед, садясь в ванну, заметил, что вода переливается через край. Архимед определил, что вес воды, вытесненной из ванны, равен силе, выталкивающей плавающее тело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7" name="Рисунок 4" descr="Архимед картина.jpg"/>
          <p:cNvPicPr/>
          <p:nvPr/>
        </p:nvPicPr>
        <p:blipFill>
          <a:blip r:embed="rId1"/>
          <a:stretch/>
        </p:blipFill>
        <p:spPr>
          <a:xfrm>
            <a:off x="285840" y="285840"/>
            <a:ext cx="2438280" cy="3255840"/>
          </a:xfrm>
          <a:prstGeom prst="rect">
            <a:avLst/>
          </a:prstGeom>
          <a:ln w="0">
            <a:noFill/>
          </a:ln>
        </p:spPr>
      </p:pic>
      <p:sp>
        <p:nvSpPr>
          <p:cNvPr id="418" name="TextBox 6"/>
          <p:cNvSpPr/>
          <p:nvPr/>
        </p:nvSpPr>
        <p:spPr>
          <a:xfrm>
            <a:off x="6643800" y="3000240"/>
            <a:ext cx="15001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P=F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rebuchet MS"/>
              </a:rPr>
              <a:t>A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9" name="Рисунок 3" descr="Архимед.bmp"/>
          <p:cNvPicPr/>
          <p:nvPr/>
        </p:nvPicPr>
        <p:blipFill>
          <a:blip r:embed="rId2"/>
          <a:stretch/>
        </p:blipFill>
        <p:spPr>
          <a:xfrm>
            <a:off x="285840" y="3786120"/>
            <a:ext cx="8534160" cy="28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8" descr="галилей"/>
          <p:cNvPicPr/>
          <p:nvPr/>
        </p:nvPicPr>
        <p:blipFill>
          <a:blip r:embed="rId1"/>
          <a:stretch/>
        </p:blipFill>
        <p:spPr>
          <a:xfrm>
            <a:off x="3357720" y="1214280"/>
            <a:ext cx="2357280" cy="310068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sp>
        <p:nvSpPr>
          <p:cNvPr id="421" name="Скругленный прямоугольник 6">
            <a:hlinkClick r:id="rId2" action="ppaction://hlinksldjump"/>
          </p:cNvPr>
          <p:cNvSpPr/>
          <p:nvPr/>
        </p:nvSpPr>
        <p:spPr>
          <a:xfrm>
            <a:off x="2286000" y="714240"/>
            <a:ext cx="471492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162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Галилео ГАЛИЛЕЙ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Прямоугольник 4"/>
          <p:cNvSpPr/>
          <p:nvPr/>
        </p:nvSpPr>
        <p:spPr>
          <a:xfrm>
            <a:off x="2214720" y="44290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(1564-1642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итальянский учёный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7T07:49:00Z</dcterms:created>
  <dc:creator>svg</dc:creator>
  <dc:description/>
  <dc:language>en-US</dc:language>
  <cp:lastModifiedBy>237</cp:lastModifiedBy>
  <cp:lastPrinted>1996-03-19T21:02:48Z</cp:lastPrinted>
  <dcterms:modified xsi:type="dcterms:W3CDTF">2016-10-05T18:50:01Z</dcterms:modified>
  <cp:revision>53</cp:revision>
  <dc:subject/>
  <dc:title>Добро пожаловать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871049</vt:lpwstr>
  </property>
</Properties>
</file>