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7357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99912-CE90-4360-964F-F228A96D6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7D0EC-2B3F-44CA-A16B-34393DA51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2C4FD-A275-4362-92DC-A868C232D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43649-A872-40F1-AE1A-9C3F2BB7E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C5ACA-1ED6-4DD7-9213-F61E373D5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63E56-EA8C-40D6-95FB-89C149ABF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E4B9B-0ECB-4148-B4B1-4A4250874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A501B-6BA9-4DE2-83F2-E45683372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02FC6-BB2E-47FA-B204-34D8C2521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5C5A9-75BA-41DE-9513-16FE2F872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12D1D-DA55-4F0B-A99E-362BC1799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9ECD6-E867-4266-B827-5393DC0E6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A6A8B-1F2B-409C-A43C-DF2402A6848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 rot="21168000">
            <a:off x="684000" y="620640"/>
            <a:ext cx="446544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олжен быть всегда в кармане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 Надюши, Бори, Тани,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ти Веры, дяди Пети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у всех людей на свете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ез него никак нельзя!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до брать с собой, друзья,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театр, парк иль на каток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истый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5" descr="платок"/>
          <p:cNvPicPr/>
          <p:nvPr/>
        </p:nvPicPr>
        <p:blipFill>
          <a:blip r:embed="rId1"/>
          <a:stretch/>
        </p:blipFill>
        <p:spPr>
          <a:xfrm rot="751200">
            <a:off x="4589280" y="2405160"/>
            <a:ext cx="4300200" cy="32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1332000" y="2006640"/>
            <a:ext cx="6167520" cy="4626000"/>
          </a:xfrm>
          <a:prstGeom prst="rect">
            <a:avLst/>
          </a:prstGeom>
          <a:ln w="0">
            <a:noFill/>
          </a:ln>
        </p:spPr>
      </p:pic>
      <p:pic>
        <p:nvPicPr>
          <p:cNvPr id="44" name="Прямоугольник 3" descr=""/>
          <p:cNvPicPr/>
          <p:nvPr/>
        </p:nvPicPr>
        <p:blipFill>
          <a:blip r:embed="rId2"/>
          <a:stretch/>
        </p:blipFill>
        <p:spPr>
          <a:xfrm>
            <a:off x="-317520" y="353880"/>
            <a:ext cx="9637560" cy="15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5" descr="мойдодыр 1"/>
          <p:cNvPicPr/>
          <p:nvPr/>
        </p:nvPicPr>
        <p:blipFill>
          <a:blip r:embed="rId1"/>
          <a:stretch/>
        </p:blipFill>
        <p:spPr>
          <a:xfrm>
            <a:off x="179280" y="2637000"/>
            <a:ext cx="5545080" cy="4020840"/>
          </a:xfrm>
          <a:prstGeom prst="rect">
            <a:avLst/>
          </a:prstGeom>
          <a:ln w="0">
            <a:noFill/>
          </a:ln>
        </p:spPr>
      </p:pic>
      <p:sp>
        <p:nvSpPr>
          <p:cNvPr id="46" name="AutoShape 6"/>
          <p:cNvSpPr/>
          <p:nvPr/>
        </p:nvSpPr>
        <p:spPr>
          <a:xfrm>
            <a:off x="3238560" y="260280"/>
            <a:ext cx="5905440" cy="2160720"/>
          </a:xfrm>
          <a:prstGeom prst="wedgeEllipseCallout">
            <a:avLst>
              <a:gd name="adj1" fmla="val -61342"/>
              <a:gd name="adj2" fmla="val 6712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7"/>
          <p:cNvSpPr/>
          <p:nvPr/>
        </p:nvSpPr>
        <p:spPr>
          <a:xfrm>
            <a:off x="3814920" y="692280"/>
            <a:ext cx="493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одружись с носовым платком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со лба"/>
          <p:cNvPicPr/>
          <p:nvPr/>
        </p:nvPicPr>
        <p:blipFill>
          <a:blip r:embed="rId1"/>
          <a:stretch/>
        </p:blipFill>
        <p:spPr>
          <a:xfrm rot="20744400">
            <a:off x="468360" y="3213000"/>
            <a:ext cx="4176720" cy="27766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5" descr="рот"/>
          <p:cNvPicPr/>
          <p:nvPr/>
        </p:nvPicPr>
        <p:blipFill>
          <a:blip r:embed="rId2"/>
          <a:stretch/>
        </p:blipFill>
        <p:spPr>
          <a:xfrm rot="610800">
            <a:off x="4211280" y="549360"/>
            <a:ext cx="4729320" cy="31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8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3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при дворе"/>
          <p:cNvPicPr/>
          <p:nvPr/>
        </p:nvPicPr>
        <p:blipFill>
          <a:blip r:embed="rId1"/>
          <a:stretch/>
        </p:blipFill>
        <p:spPr>
          <a:xfrm rot="20097600">
            <a:off x="684000" y="620280"/>
            <a:ext cx="3384360" cy="25495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с кружевом"/>
          <p:cNvPicPr/>
          <p:nvPr/>
        </p:nvPicPr>
        <p:blipFill>
          <a:blip r:embed="rId2"/>
          <a:stretch/>
        </p:blipFill>
        <p:spPr>
          <a:xfrm rot="527400">
            <a:off x="4459320" y="241200"/>
            <a:ext cx="3732120" cy="56167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часть приданого"/>
          <p:cNvPicPr/>
          <p:nvPr/>
        </p:nvPicPr>
        <p:blipFill>
          <a:blip r:embed="rId3"/>
          <a:stretch/>
        </p:blipFill>
        <p:spPr>
          <a:xfrm rot="997800">
            <a:off x="826920" y="3284640"/>
            <a:ext cx="266544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носовой"/>
          <p:cNvPicPr/>
          <p:nvPr/>
        </p:nvPicPr>
        <p:blipFill>
          <a:blip r:embed="rId1"/>
          <a:stretch/>
        </p:blipFill>
        <p:spPr>
          <a:xfrm>
            <a:off x="3924360" y="3467160"/>
            <a:ext cx="3174840" cy="33908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6" descr="слезы"/>
          <p:cNvPicPr/>
          <p:nvPr/>
        </p:nvPicPr>
        <p:blipFill>
          <a:blip r:embed="rId2"/>
          <a:stretch/>
        </p:blipFill>
        <p:spPr>
          <a:xfrm rot="20791800">
            <a:off x="178920" y="1557000"/>
            <a:ext cx="4302360" cy="32274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7" descr="от слез"/>
          <p:cNvPicPr/>
          <p:nvPr/>
        </p:nvPicPr>
        <p:blipFill>
          <a:blip r:embed="rId3"/>
          <a:stretch/>
        </p:blipFill>
        <p:spPr>
          <a:xfrm rot="763200">
            <a:off x="3995640" y="333360"/>
            <a:ext cx="4195800" cy="312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в кармане"/>
          <p:cNvPicPr/>
          <p:nvPr/>
        </p:nvPicPr>
        <p:blipFill>
          <a:blip r:embed="rId1"/>
          <a:stretch/>
        </p:blipFill>
        <p:spPr>
          <a:xfrm rot="20822400">
            <a:off x="324000" y="620640"/>
            <a:ext cx="4032000" cy="35528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нагрудный"/>
          <p:cNvPicPr/>
          <p:nvPr/>
        </p:nvPicPr>
        <p:blipFill>
          <a:blip r:embed="rId2"/>
          <a:stretch/>
        </p:blipFill>
        <p:spPr>
          <a:xfrm rot="1087800">
            <a:off x="3273480" y="2333520"/>
            <a:ext cx="5113440" cy="38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муж"/>
          <p:cNvPicPr/>
          <p:nvPr/>
        </p:nvPicPr>
        <p:blipFill>
          <a:blip r:embed="rId1"/>
          <a:stretch/>
        </p:blipFill>
        <p:spPr>
          <a:xfrm rot="20930400">
            <a:off x="395280" y="333000"/>
            <a:ext cx="4103640" cy="35910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" descr="жен"/>
          <p:cNvPicPr/>
          <p:nvPr/>
        </p:nvPicPr>
        <p:blipFill>
          <a:blip r:embed="rId2"/>
          <a:stretch/>
        </p:blipFill>
        <p:spPr>
          <a:xfrm rot="688800">
            <a:off x="4572000" y="404280"/>
            <a:ext cx="4025880" cy="3522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6" descr="детские"/>
          <p:cNvPicPr/>
          <p:nvPr/>
        </p:nvPicPr>
        <p:blipFill>
          <a:blip r:embed="rId3"/>
          <a:stretch/>
        </p:blipFill>
        <p:spPr>
          <a:xfrm rot="21010800">
            <a:off x="4921200" y="3344400"/>
            <a:ext cx="3952800" cy="31957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7" descr="одноразовые"/>
          <p:cNvPicPr/>
          <p:nvPr/>
        </p:nvPicPr>
        <p:blipFill>
          <a:blip r:embed="rId4"/>
          <a:stretch/>
        </p:blipFill>
        <p:spPr>
          <a:xfrm rot="1386000">
            <a:off x="1763280" y="3573360"/>
            <a:ext cx="280836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инициал"/>
          <p:cNvPicPr/>
          <p:nvPr/>
        </p:nvPicPr>
        <p:blipFill>
          <a:blip r:embed="rId1"/>
          <a:stretch/>
        </p:blipFill>
        <p:spPr>
          <a:xfrm rot="886200">
            <a:off x="610920" y="404640"/>
            <a:ext cx="3351240" cy="44672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6" descr="жен"/>
          <p:cNvPicPr/>
          <p:nvPr/>
        </p:nvPicPr>
        <p:blipFill>
          <a:blip r:embed="rId2"/>
          <a:stretch/>
        </p:blipFill>
        <p:spPr>
          <a:xfrm rot="21025200">
            <a:off x="3492000" y="1125000"/>
            <a:ext cx="5257800" cy="46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7T16:16:00Z</dcterms:created>
  <dc:creator>XTreme</dc:creator>
  <dc:description/>
  <dc:language>en-US</dc:language>
  <cp:lastModifiedBy>Admin</cp:lastModifiedBy>
  <dcterms:modified xsi:type="dcterms:W3CDTF">2016-10-05T18:15:51Z</dcterms:modified>
  <cp:revision>5</cp:revision>
  <dc:subject/>
  <dc:title>Слайд 1</dc:title>
</cp:coreProperties>
</file>