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C30-3A75-4DD9-A558-09667EF7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9E8-90BB-4126-9488-D2114C2C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D24-03B9-445F-AB5E-E80E5AC6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22E-3506-4767-AC7D-A4CD090C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177-9EC4-42A6-8D52-18235798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41D-025B-4034-8ACE-5BD33C9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0FD-7053-4903-B01D-F2E5624E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9AD-4EAE-47CF-9857-81A9A74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3C9-DCD7-4CAC-B4C9-37795DDB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735-58EA-4E32-913A-12A5466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08F-6A88-43AF-B400-243A13E4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755-BECB-4B89-BBED-F83E582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76AA-C6E0-4239-BC70-BAE1F2DBA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 rot="21168000">
            <a:off x="684000" y="620640"/>
            <a:ext cx="446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ен быть всегда в карман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адюши, Бори, Тан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и Веры, дяди Пе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у всех людей на све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него никак нельзя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брать с собой, друзь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атр, парк иль на кат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ый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латок"/>
          <p:cNvPicPr/>
          <p:nvPr/>
        </p:nvPicPr>
        <p:blipFill>
          <a:blip r:embed="rId1"/>
          <a:stretch/>
        </p:blipFill>
        <p:spPr>
          <a:xfrm rot="751200">
            <a:off x="4589280" y="2405160"/>
            <a:ext cx="43002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332000" y="2006640"/>
            <a:ext cx="6167520" cy="4626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-317520" y="353880"/>
            <a:ext cx="96375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мойдодыр 1"/>
          <p:cNvPicPr/>
          <p:nvPr/>
        </p:nvPicPr>
        <p:blipFill>
          <a:blip r:embed="rId1"/>
          <a:stretch/>
        </p:blipFill>
        <p:spPr>
          <a:xfrm>
            <a:off x="179280" y="2637000"/>
            <a:ext cx="5545080" cy="40208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3238560" y="260280"/>
            <a:ext cx="5905440" cy="2160720"/>
          </a:xfrm>
          <a:prstGeom prst="wedgeEllipseCallout">
            <a:avLst>
              <a:gd name="adj1" fmla="val -61342"/>
              <a:gd name="adj2" fmla="val 6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814920" y="692280"/>
            <a:ext cx="49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ружись с носовым платк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 лба"/>
          <p:cNvPicPr/>
          <p:nvPr/>
        </p:nvPicPr>
        <p:blipFill>
          <a:blip r:embed="rId1"/>
          <a:stretch/>
        </p:blipFill>
        <p:spPr>
          <a:xfrm rot="20744400">
            <a:off x="468360" y="3213000"/>
            <a:ext cx="4176720" cy="277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от"/>
          <p:cNvPicPr/>
          <p:nvPr/>
        </p:nvPicPr>
        <p:blipFill>
          <a:blip r:embed="rId2"/>
          <a:stretch/>
        </p:blipFill>
        <p:spPr>
          <a:xfrm rot="610800">
            <a:off x="4211280" y="549360"/>
            <a:ext cx="47293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ри дворе"/>
          <p:cNvPicPr/>
          <p:nvPr/>
        </p:nvPicPr>
        <p:blipFill>
          <a:blip r:embed="rId1"/>
          <a:stretch/>
        </p:blipFill>
        <p:spPr>
          <a:xfrm rot="20097600">
            <a:off x="684000" y="620280"/>
            <a:ext cx="3384360" cy="254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с кружевом"/>
          <p:cNvPicPr/>
          <p:nvPr/>
        </p:nvPicPr>
        <p:blipFill>
          <a:blip r:embed="rId2"/>
          <a:stretch/>
        </p:blipFill>
        <p:spPr>
          <a:xfrm rot="527400">
            <a:off x="4459320" y="241200"/>
            <a:ext cx="3732120" cy="561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часть приданого"/>
          <p:cNvPicPr/>
          <p:nvPr/>
        </p:nvPicPr>
        <p:blipFill>
          <a:blip r:embed="rId3"/>
          <a:stretch/>
        </p:blipFill>
        <p:spPr>
          <a:xfrm rot="997800">
            <a:off x="826920" y="3284640"/>
            <a:ext cx="2665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носовой"/>
          <p:cNvPicPr/>
          <p:nvPr/>
        </p:nvPicPr>
        <p:blipFill>
          <a:blip r:embed="rId1"/>
          <a:stretch/>
        </p:blipFill>
        <p:spPr>
          <a:xfrm>
            <a:off x="3924360" y="3467160"/>
            <a:ext cx="3174840" cy="339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слезы"/>
          <p:cNvPicPr/>
          <p:nvPr/>
        </p:nvPicPr>
        <p:blipFill>
          <a:blip r:embed="rId2"/>
          <a:stretch/>
        </p:blipFill>
        <p:spPr>
          <a:xfrm rot="20791800">
            <a:off x="178920" y="1557000"/>
            <a:ext cx="4302360" cy="322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от слез"/>
          <p:cNvPicPr/>
          <p:nvPr/>
        </p:nvPicPr>
        <p:blipFill>
          <a:blip r:embed="rId3"/>
          <a:stretch/>
        </p:blipFill>
        <p:spPr>
          <a:xfrm rot="763200">
            <a:off x="3995640" y="333360"/>
            <a:ext cx="41958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в кармане"/>
          <p:cNvPicPr/>
          <p:nvPr/>
        </p:nvPicPr>
        <p:blipFill>
          <a:blip r:embed="rId1"/>
          <a:stretch/>
        </p:blipFill>
        <p:spPr>
          <a:xfrm rot="20822400">
            <a:off x="324000" y="620640"/>
            <a:ext cx="403200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нагрудный"/>
          <p:cNvPicPr/>
          <p:nvPr/>
        </p:nvPicPr>
        <p:blipFill>
          <a:blip r:embed="rId2"/>
          <a:stretch/>
        </p:blipFill>
        <p:spPr>
          <a:xfrm rot="1087800">
            <a:off x="3273480" y="2333520"/>
            <a:ext cx="51134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муж"/>
          <p:cNvPicPr/>
          <p:nvPr/>
        </p:nvPicPr>
        <p:blipFill>
          <a:blip r:embed="rId1"/>
          <a:stretch/>
        </p:blipFill>
        <p:spPr>
          <a:xfrm rot="20930400">
            <a:off x="395280" y="333000"/>
            <a:ext cx="4103640" cy="359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жен"/>
          <p:cNvPicPr/>
          <p:nvPr/>
        </p:nvPicPr>
        <p:blipFill>
          <a:blip r:embed="rId2"/>
          <a:stretch/>
        </p:blipFill>
        <p:spPr>
          <a:xfrm rot="688800">
            <a:off x="4572000" y="404280"/>
            <a:ext cx="4025880" cy="3522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детские"/>
          <p:cNvPicPr/>
          <p:nvPr/>
        </p:nvPicPr>
        <p:blipFill>
          <a:blip r:embed="rId3"/>
          <a:stretch/>
        </p:blipFill>
        <p:spPr>
          <a:xfrm rot="21010800">
            <a:off x="4921200" y="3344400"/>
            <a:ext cx="3952800" cy="319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одноразовые"/>
          <p:cNvPicPr/>
          <p:nvPr/>
        </p:nvPicPr>
        <p:blipFill>
          <a:blip r:embed="rId4"/>
          <a:stretch/>
        </p:blipFill>
        <p:spPr>
          <a:xfrm rot="1386000">
            <a:off x="1763280" y="357336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нициал"/>
          <p:cNvPicPr/>
          <p:nvPr/>
        </p:nvPicPr>
        <p:blipFill>
          <a:blip r:embed="rId1"/>
          <a:stretch/>
        </p:blipFill>
        <p:spPr>
          <a:xfrm rot="886200">
            <a:off x="610920" y="404640"/>
            <a:ext cx="3351240" cy="44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жен"/>
          <p:cNvPicPr/>
          <p:nvPr/>
        </p:nvPicPr>
        <p:blipFill>
          <a:blip r:embed="rId2"/>
          <a:stretch/>
        </p:blipFill>
        <p:spPr>
          <a:xfrm rot="21025200">
            <a:off x="3492000" y="1125000"/>
            <a:ext cx="52578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6:16:00Z</dcterms:created>
  <dc:creator>XTreme</dc:creator>
  <dc:description/>
  <dc:language>en-US</dc:language>
  <cp:lastModifiedBy>Admin</cp:lastModifiedBy>
  <dcterms:modified xsi:type="dcterms:W3CDTF">2016-10-05T18:15:51Z</dcterms:modified>
  <cp:revision>5</cp:revision>
  <dc:subject/>
  <dc:title>Слайд 1</dc:title>
</cp:coreProperties>
</file>