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929-FA64-498A-A609-899C3A15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B37-5FDD-42D4-94E7-9A776C14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81D-B631-43C5-B2BE-3B5C935F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E31-03AA-4B75-9E26-3C060706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B45-F055-478D-9F84-76732E22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D9E-D49F-49E3-980A-B9335DA2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AE6-65BC-4D8D-899F-AA451660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A86-7DA7-4C74-A0CB-8ED5AED3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AF7-4D98-4003-9607-2DEC9C00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277-BC79-42F2-9D26-62431C2D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C58-ECB3-468C-B07E-D41728A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DFB-D275-49A4-BF29-C08763B8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416B-A09C-4CB4-9913-23A95FBE4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76;&#1077;&#1083;&#1086;&#1074;&#1086;&#1081;%20&#1101;&#1090;&#1080;&#1082;&#1077;&#1090;.ppt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ЬТУРА ДЕЛОВОГО ОБЩ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того чтобы достигнуть высокой результативности в любом виде коммерческой деятельности, необходимо владеть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пределенным набором зна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равилах, формах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метода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едения предпринимательского дела, о принципах делового 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вести деловой разговор, эффективно общаться в условиях многократно возросших информационных нагрузок и дефицита времени, обсуждать конструктивные предложения, слушать и корректировать свои подходы с пользой для общего дела — все это профессиональные требования к менеджерам, руководителям всех уровней, референтам, служащ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ью делового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Регламентирова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егламен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ядок, устанавливаемый при проведении заседаний, собр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ы"/>
          <p:cNvPicPr/>
          <p:nvPr/>
        </p:nvPicPr>
        <p:blipFill>
          <a:blip r:embed="rId1"/>
          <a:stretch/>
        </p:blipFill>
        <p:spPr>
          <a:xfrm>
            <a:off x="6659640" y="4076640"/>
            <a:ext cx="2027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ные регламентом правила и ограничения определяются: типом делового общения, формой, степенью официальности, конкретными целями и задачами, которые стоят перед общающимися, а также национально-культурными традициями и общественными нормами пове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ccecff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чевая коммуникация считается эффективной, если передаваемо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бщение правильно интерпретируется и восприним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бходимым условием эффективности в деловом общении является  умение слушать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лена4_0004"/>
          <p:cNvPicPr/>
          <p:nvPr/>
        </p:nvPicPr>
        <p:blipFill>
          <a:blip r:embed="rId1"/>
          <a:stretch/>
        </p:blipFill>
        <p:spPr>
          <a:xfrm>
            <a:off x="6443640" y="2349360"/>
            <a:ext cx="20052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туация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го официаль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ротокольные виды делового общ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фициаль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протоколируемое деловое общ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фициаль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ловое общение в рабочей и в нерабочей обстанов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3851280" y="4797360"/>
            <a:ext cx="18176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льтур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авила, которые могут повысить эффективн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ной связи в процессе общ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правила необходимо зна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му руководителю, который в процессе своей деятель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оянно общается с людьми — подчиненными, коллегами, вышестоящими началь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этик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правила фиксируются в вид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елового (дипломатического) этике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в виде общепринятых норм поведения, этикетных требований, ограничений временных рамок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ab"/>
          <p:cNvPicPr/>
          <p:nvPr/>
        </p:nvPicPr>
        <p:blipFill>
          <a:blip r:embed="rId2"/>
          <a:stretch/>
        </p:blipFill>
        <p:spPr>
          <a:xfrm>
            <a:off x="755640" y="4724280"/>
            <a:ext cx="15415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рмы деловых отнош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ременный человек должен знать нормы деловых отношений,  уметь устанавливать и поддерживать отношения с людьми, преодолевать противоречия,  разрешать конфликты, брать на себя в случае необходимости роль посред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взаимного дове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жду деловыми партнерами — основной источник нарушения общения в управленческ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доверия становится выше, если партнеры открыто демонстрируют свои намерения, выражают доброжелательность в общении, убедительно излагают свои мысли и проявляют компетенцию в обсуждаемых вопро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этого, важное значение в общении приобрет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содержит определенную реакцию на поведение партн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ь обратной связи —оказать помощь другим людям в осознании того, как мы воспринимаем их поступки, как они влияют на наш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АЯ ПРЕЗЕНТАЦИЯ РАССМАТРИВАЕТ ОСОБЕННОСТИ ДЕЛОВОЙ КОММУНИК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ДЕЛОВОГО ОБ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 ПОВЕДЕНИЯ ПРИ ДЕЛОВОМ ОБЩ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ла делов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высказываете замечания, затрагивайте не личнос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пове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шего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говорите о том, что наблюдаете. Наблюдения — это то, что вы видели и слышали, а заключения — это ваша интерпретация, ваши оценки, 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ачивайте внимание на недавних поступках, не вспоминайте прошедш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йтесь давать как можно меньше советов, лучше говорите о своих наблюд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смысленно критиковать особенности поведения партнера по общению, если вы не можете на это повли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ередачи информации выбирайте подходящую ситу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речевой коммун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ются по следующим призна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я общения: прямое общение с активной обратной связью— диалог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е общение с пассивной связью — письменное распоряже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осредованное общение - выступления по радио, телевидени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личество участников— монолог, диалог, поли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ы речевой коммуник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ются по следующим признака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информирование, убеждение, развл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 ситу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еловое общение, бытовое общение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вой русский язык отличается от привычного нам (в обиходе используемого) разговорного стиля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того, чтобы быть успешным деловым человеком, нужно следить за тем что ,как и где вы говорите, для каждой ситуации характерен свой стиль общения, но главным условием остается по – прежнему вежливое и корректное общени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льтура делового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оммуникация, или общ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— специфическая форм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заимодействия людей в процессе их познавательно-трудово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ict1"/>
          <p:cNvPicPr/>
          <p:nvPr/>
        </p:nvPicPr>
        <p:blipFill>
          <a:blip r:embed="rId1"/>
          <a:stretch/>
        </p:blipFill>
        <p:spPr>
          <a:xfrm>
            <a:off x="6156360" y="3716280"/>
            <a:ext cx="2467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зком смысле слова — это обмен информацией между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бъек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ъек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акция —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х взаимодействие, предполагающее определенную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 организации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еловая коммун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амый массовый вид взаимодейств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людей в общ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делового общения не обойтись 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личных сфер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вы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пломатичес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рчес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ивны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90x343"/>
          <p:cNvPicPr/>
          <p:nvPr/>
        </p:nvPicPr>
        <p:blipFill>
          <a:blip r:embed="rId1"/>
          <a:stretch/>
        </p:blipFill>
        <p:spPr>
          <a:xfrm>
            <a:off x="5580000" y="2924280"/>
            <a:ext cx="27622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еловая коммуни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ает все многообразие функций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муникативну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активную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цептивну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плановый процесс развития контактов между людь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ждаемый потребностями совмест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н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мен информацией между ее участниками (коммуникативная сторона общ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е, когда в процессе речи происходит обмен не тольк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ми, но и действиями, поступк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иятие общающимися друг 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ловое 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ние с целью решения соответствующих практических проблем, ситуаций, когда необходимо направить или изменить деятельность других людей для выполнения конкретного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смайл"/>
          <p:cNvPicPr/>
          <p:nvPr/>
        </p:nvPicPr>
        <p:blipFill>
          <a:blip r:embed="rId1"/>
          <a:stretch/>
        </p:blipFill>
        <p:spPr>
          <a:xfrm>
            <a:off x="250920" y="189000"/>
            <a:ext cx="1296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овни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может происходить на манипулятивном, примитивном или высшем уровне. Каждому уровню общения свойственно определенное поведение собесед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нипулятивный уровень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лючается в том, что один из собеседников пытается вызвать сочувствие, жалость партн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итивны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ся, когда один партнер по общению подавляет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и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это тот уровень общения, когда независимо от статуса партнеры относятся друг к другу как к равн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8:55:16Z</dcterms:created>
  <dc:creator>Ирина</dc:creator>
  <dc:description/>
  <dc:language>en-US</dc:language>
  <cp:lastModifiedBy>Knopa</cp:lastModifiedBy>
  <dcterms:modified xsi:type="dcterms:W3CDTF">2016-09-12T18:39:42Z</dcterms:modified>
  <cp:revision>27</cp:revision>
  <dc:subject/>
  <dc:title>Культура делового общения</dc:title>
</cp:coreProperties>
</file>