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87FA-7E9E-4A32-91A4-0C3E8579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729-760C-42B8-A439-1DD0F27B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682-5F81-48C1-9CAC-022155FE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E429-5D76-458D-B7CF-CC5697D2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566-A284-4F41-9ED6-1DC138CF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54E-2666-4594-A9E2-18307668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41C-9126-4669-B353-138AB84E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A8A-AFF3-4540-B94F-0A6149F6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E781-BE71-466F-8AA3-C47E532A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48E2-6702-4BC8-8A77-E77F34AE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072-DE72-4AA3-9615-8BA8BCFF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DA1-50B1-4038-B230-9643B428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50E7-0F4D-4A70-AE2E-7E6BEE3A2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76;&#1077;&#1083;&#1086;&#1074;&#1086;&#1081;%20&#1101;&#1090;&#1080;&#1082;&#1077;&#1090;.ppt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ЛЬТУРА ДЕЛОВОГО ОБЩ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ультура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того чтобы достигнуть высокой результативности в любом виде коммерческой деятельности, необходимо владеть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пределенным набором знан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о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правилах, формах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 метода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едения предпринимательского дела, о принципах делового общ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ультура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вести деловой разговор, эффективно общаться в условиях многократно возросших информационных нагрузок и дефицита времени, обсуждать конструктивные предложения, слушать и корректировать свои подходы с пользой для общего дела — все это профессиональные требования к менеджерам, руководителям всех уровней, референтам, служащ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енностью делового об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Регламентирова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Регламен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рядок, устанавливаемый при проведении заседаний, собр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ы"/>
          <p:cNvPicPr/>
          <p:nvPr/>
        </p:nvPicPr>
        <p:blipFill>
          <a:blip r:embed="rId1"/>
          <a:stretch/>
        </p:blipFill>
        <p:spPr>
          <a:xfrm>
            <a:off x="6659640" y="4076640"/>
            <a:ext cx="20271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льтура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ленные регламентом правила и ограничения определяются: типом делового общения, формой, степенью официальности, конкретными целями и задачами, которые стоят перед общающимися, а также национально-культурными традициями и общественными нормами поведени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ccecff"/>
            </a:gs>
            <a:gs pos="100000">
              <a:srgbClr val="cc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ультура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чевая коммуникация считается эффективной, если передаваемо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общение правильно интерпретируется и воспринима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обходимым условием эффективности в деловом общении является  умение слушать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лена4_0004"/>
          <p:cNvPicPr/>
          <p:nvPr/>
        </p:nvPicPr>
        <p:blipFill>
          <a:blip r:embed="rId1"/>
          <a:stretch/>
        </p:blipFill>
        <p:spPr>
          <a:xfrm>
            <a:off x="6443640" y="2349360"/>
            <a:ext cx="20052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туация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ого официаль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ротокольные виды делового общен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фициаль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епротоколируемое деловое общени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официальн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еловое общение в рабочей и в нерабочей обстановк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3851280" y="4797360"/>
            <a:ext cx="18176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льтура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ют правила, которые могут повысить эффективнос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тной связи в процессе общ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правила необходимо зна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му руководителю, который в процессе своей деятельнос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оянно общается с людьми — подчиненными, коллегами, вышестоящими началь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овой этик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правила фиксируются в виде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елового (дипломатического) этике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ют в виде общепринятых норм поведения, этикетных требований, ограничений временных рамок 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bab"/>
          <p:cNvPicPr/>
          <p:nvPr/>
        </p:nvPicPr>
        <p:blipFill>
          <a:blip r:embed="rId2"/>
          <a:stretch/>
        </p:blipFill>
        <p:spPr>
          <a:xfrm>
            <a:off x="755640" y="4724280"/>
            <a:ext cx="15415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рмы деловых отнош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ременный человек должен знать нормы деловых отношений,  уметь устанавливать и поддерживать отношения с людьми, преодолевать противоречия,  разрешать конфликты, брать на себя в случае необходимости роль посред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взаимного дове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жду деловыми партнерами — основной источник нарушения общения в управленческ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доверия становится выше, если партнеры открыто демонстрируют свои намерения, выражают доброжелательность в общении, убедительно излагают свои мысли и проявляют компетенцию в обсуждаемых вопро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ме этого, важное значение в общении приобрета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содержит определенную реакцию на поведение партн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е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ль обратной связи —оказать помощь другим людям в осознании того, как мы воспринимаем их поступки, как они влияют на наше п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АЯ ПРЕЗЕНТАЦИЯ РАССМАТРИВАЕТ ОСОБЕННОСТИ ДЕЛОВОЙ КОММУНИК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Ы ДЕЛОВОГО ОБ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ДЕЛОВОМ ОБЩ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вила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 высказываете замечания, затрагивайте не личнос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повед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ашего партн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говорите о том, что наблюдаете. Наблюдения — это то, что вы видели и слышали, а заключения — это ваша интерпретация, ваши оценки, 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редотачивайте внимание на недавних поступках, не вспоминайте прошедш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айтесь давать как можно меньше советов, лучше говорите о своих наблюд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смысленно критиковать особенности поведения партнера по общению, если вы не можете на это повли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ередачи информации выбирайте подходящую ситу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речевой коммуник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яются по следующим признак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я общения: прямое общение с активной обратной связью— диалог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ое общение с пассивной связью — письменное распоряжени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осредованное общение - выступления по радио, телевидени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оличество участников— монолог, диалог, поли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ы речевой коммуник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яются по следующим признакам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общ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информирование, убеждение, развл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арактер ситу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деловое общение, бытовое общение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овой русский язык отличается от привычного нам (в обиходе используемого) разговорного стиля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того, чтобы быть успешным деловым человеком, нужно следить за тем что ,как и где вы говорите, для каждой ситуации характерен свой стиль общения, но главным условием остается по – прежнему вежливое и корректное общени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льтура делового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Коммуникация, или общ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— специфическая форм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заимодействия людей в процессе их познавательно-трудово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ict1"/>
          <p:cNvPicPr/>
          <p:nvPr/>
        </p:nvPicPr>
        <p:blipFill>
          <a:blip r:embed="rId1"/>
          <a:stretch/>
        </p:blipFill>
        <p:spPr>
          <a:xfrm>
            <a:off x="6156360" y="3716280"/>
            <a:ext cx="24670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зком смысле слова — это обмен информацией между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убъек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ъек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акция 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х взаимодействие, предполагающее определенную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 организации совмест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еловая коммун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амый массовый вид взаимодейств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людей в обще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делового общения не обойтись в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личных сфера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вы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пломатичес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ерчески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министративных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290x343"/>
          <p:cNvPicPr/>
          <p:nvPr/>
        </p:nvPicPr>
        <p:blipFill>
          <a:blip r:embed="rId1"/>
          <a:stretch/>
        </p:blipFill>
        <p:spPr>
          <a:xfrm>
            <a:off x="5580000" y="2924280"/>
            <a:ext cx="27622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еловая коммуник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лючает все многообразие функций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ммуникативну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рактивную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цептивну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щ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плановый процесс развития контактов между людьм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ождаемый потребностями совмест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Он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мен информацией между ее участниками (коммуникативная сторона общ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е, когда в процессе речи происходит обмен не тольк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ами, но и действиями, поступк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риятие общающимися друг 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Деловое об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ние с целью решения соответствующих практических проблем, ситуаций, когда необходимо направить или изменить деятельность других людей для выполнения конкретного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смайл"/>
          <p:cNvPicPr/>
          <p:nvPr/>
        </p:nvPicPr>
        <p:blipFill>
          <a:blip r:embed="rId1"/>
          <a:stretch/>
        </p:blipFill>
        <p:spPr>
          <a:xfrm>
            <a:off x="250920" y="189000"/>
            <a:ext cx="1296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ровни об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ние может происходить на манипулятивном, примитивном или высшем уровне. Каждому уровню общения свойственно определенное поведение собесед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нипулятивный уровень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ключается в том, что один из собеседников пытается вызвать сочувствие, жалость партн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итивны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яется, когда один партнер по общению подавляет друг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ши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это тот уровень общения, когда независимо от статуса партнеры относятся друг к другу как к равной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8:55:16Z</dcterms:created>
  <dc:creator>Ирина</dc:creator>
  <dc:description/>
  <dc:language>en-US</dc:language>
  <cp:lastModifiedBy>Knopa</cp:lastModifiedBy>
  <dcterms:modified xsi:type="dcterms:W3CDTF">2016-09-12T18:39:42Z</dcterms:modified>
  <cp:revision>27</cp:revision>
  <dc:subject/>
  <dc:title>Культура делового общения</dc:title>
</cp:coreProperties>
</file>