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04C-FE58-41AE-A9D6-48E549CC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8C4-639E-4224-914F-67111B8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500-E799-490D-BE69-45CDBACF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D5B-63F0-4FA0-8BA2-5B1B02E5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730-1ECD-4C5A-A85F-646F82A7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7C3-959D-4904-B0A1-4C8F635F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C39-83C5-40AF-BD80-1AD820C1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ADE-A67F-489B-85AF-4E838CF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E9E-1FE3-4393-B4CB-CD7FFDEF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36B-2266-4849-82BC-18B9633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16D-75F4-42BE-9E26-3009813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C33-1E59-41B8-B9A1-3323E7C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AFF-4B2E-4EDE-927E-8689D166005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 волшебница Жар- птица, Не выходит из ума Чародейка – мастерица, Золотая 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400480" y="1969920"/>
            <a:ext cx="1842840" cy="19908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0" name="Рисунок 5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11430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1" name="Рисунок 6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24192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2" name="Рисунок 7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27664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Arial"/>
              </a:rPr>
              <a:t>Сине-голубые Розы, листья, птицы. Увидев вас впервые, Каждый удивится. Чудо на фарфоре – Синяя купель. Это называется Просто роспись…  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" name="Объект 7" descr=""/>
          <p:cNvPicPr/>
          <p:nvPr/>
        </p:nvPicPr>
        <p:blipFill>
          <a:blip r:embed="rId1"/>
          <a:stretch/>
        </p:blipFill>
        <p:spPr>
          <a:xfrm>
            <a:off x="4241880" y="4869000"/>
            <a:ext cx="195264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6227640" y="2470320"/>
            <a:ext cx="241956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6" name="Рисунок 5" descr=""/>
          <p:cNvPicPr/>
          <p:nvPr/>
        </p:nvPicPr>
        <p:blipFill>
          <a:blip r:embed="rId3"/>
          <a:stretch/>
        </p:blipFill>
        <p:spPr>
          <a:xfrm>
            <a:off x="1676520" y="4869000"/>
            <a:ext cx="180972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67" name="Рисунок 8" descr=""/>
          <p:cNvPicPr/>
          <p:nvPr/>
        </p:nvPicPr>
        <p:blipFill>
          <a:blip r:embed="rId4"/>
          <a:stretch/>
        </p:blipFill>
        <p:spPr>
          <a:xfrm>
            <a:off x="1042920" y="2276640"/>
            <a:ext cx="1538280" cy="21985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cc"/>
                </a:solidFill>
                <a:latin typeface="Arial"/>
              </a:rPr>
              <a:t>Спят деревья, спит река. Мягко падает снежок, вьется голубой дымок. Дым идет из труб столбом, точно в дымке все кругом. Голубые дали, И село большое Дымково назвали. Каким промыслом там люди занимаются?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246672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5140440" y="2492280"/>
            <a:ext cx="24192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2050920" y="4797360"/>
            <a:ext cx="241956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2" name="Рисунок 6" descr=""/>
          <p:cNvPicPr/>
          <p:nvPr/>
        </p:nvPicPr>
        <p:blipFill>
          <a:blip r:embed="rId4"/>
          <a:stretch/>
        </p:blipFill>
        <p:spPr>
          <a:xfrm>
            <a:off x="5580000" y="4797360"/>
            <a:ext cx="262908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ускаются букеты, ярко красками горя,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Чудо – птицы там порхают, будто в сказку нас зовя. Если взглянешь на дощечки,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Ты увидишь чудеса! … узоры тонко вывела рука!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4" name="Объект 11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195264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1824120" y="2622600"/>
            <a:ext cx="3701880" cy="26636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6" name="Рисунок 13" descr=""/>
          <p:cNvPicPr/>
          <p:nvPr/>
        </p:nvPicPr>
        <p:blipFill>
          <a:blip r:embed="rId3"/>
          <a:stretch/>
        </p:blipFill>
        <p:spPr>
          <a:xfrm>
            <a:off x="108000" y="5035680"/>
            <a:ext cx="180972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77" name="Рисунок 14" descr=""/>
          <p:cNvPicPr/>
          <p:nvPr/>
        </p:nvPicPr>
        <p:blipFill>
          <a:blip r:embed="rId4"/>
          <a:stretch/>
        </p:blipFill>
        <p:spPr>
          <a:xfrm>
            <a:off x="5508720" y="4811760"/>
            <a:ext cx="3012840" cy="17874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Сильно вытянуты шеи и корова и кота только это просто так. Чтобы звери, птицы, кони, Барышни, солдаты, и коровы, нравились ребятам, песню звонкую поют. Чтоб добром и красотою сердце согревало и чтоб сказка никогда нас не покидала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881000" cy="26082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5724360" y="4952880"/>
            <a:ext cx="221940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1" name="Рисунок 5" descr=""/>
          <p:cNvPicPr/>
          <p:nvPr/>
        </p:nvPicPr>
        <p:blipFill>
          <a:blip r:embed="rId3"/>
          <a:stretch/>
        </p:blipFill>
        <p:spPr>
          <a:xfrm>
            <a:off x="2843280" y="3456000"/>
            <a:ext cx="2211480" cy="33066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82" name="Рисунок 6" descr=""/>
          <p:cNvPicPr/>
          <p:nvPr/>
        </p:nvPicPr>
        <p:blipFill>
          <a:blip r:embed="rId4"/>
          <a:stretch/>
        </p:blipFill>
        <p:spPr>
          <a:xfrm>
            <a:off x="5580000" y="2978280"/>
            <a:ext cx="2943360" cy="180972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9:19:03Z</dcterms:created>
  <dc:creator>Дмитрий</dc:creator>
  <dc:description/>
  <dc:language>en-US</dc:language>
  <cp:lastModifiedBy>Дмитрий</cp:lastModifiedBy>
  <dcterms:modified xsi:type="dcterms:W3CDTF">2016-10-04T02:54:36Z</dcterms:modified>
  <cp:revision>6</cp:revision>
  <dc:subject/>
  <dc:title>Презентация PowerPoint</dc:title>
</cp:coreProperties>
</file>