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845-C93C-46C1-93D7-D0D38B65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56D-2613-449E-9BE8-F9036A00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4EF-AD78-4841-BDE3-2C5ADF7D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785-4E50-4C91-A520-C7F50F70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629-BF60-4302-9887-CF796689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CE7-9497-4DB1-9CBC-D186B70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8E0-513E-446F-A9FB-30E8B7D8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410-4BD5-41A2-9C89-4AE5D81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E16-4554-44BA-AE09-17582888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9D6-E693-42D5-B5B0-183485A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34B-CCC1-44CB-9CA0-5880509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142-1B90-49F8-9573-92060C6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0FF-EE74-4E4A-B3B3-2F31D441380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 волшебница Жар- птица, Не выходит из ума Чародейка – мастерица, Золотая 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400480" y="1969920"/>
            <a:ext cx="1842840" cy="19908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1430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24192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2" name="Рисунок 7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27664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Arial"/>
              </a:rPr>
              <a:t>Сине-голубые Розы, листья, птицы. Увидев вас впервые, Каждый удивится. Чудо на фарфоре – Синяя купель. Это называется Просто роспись…  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tretch/>
        </p:blipFill>
        <p:spPr>
          <a:xfrm>
            <a:off x="4241880" y="4869000"/>
            <a:ext cx="195264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6227640" y="2470320"/>
            <a:ext cx="241956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>
            <a:off x="1676520" y="4869000"/>
            <a:ext cx="180972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7" name="Рисунок 8" descr=""/>
          <p:cNvPicPr/>
          <p:nvPr/>
        </p:nvPicPr>
        <p:blipFill>
          <a:blip r:embed="rId4"/>
          <a:stretch/>
        </p:blipFill>
        <p:spPr>
          <a:xfrm>
            <a:off x="1042920" y="2276640"/>
            <a:ext cx="1538280" cy="21985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cc"/>
                </a:solidFill>
                <a:latin typeface="Arial"/>
              </a:rPr>
              <a:t>Спят деревья, спит река. Мягко падает снежок, вьется голубой дымок. Дым идет из труб столбом, точно в дымке все кругом. Голубые дали, И село большое Дымково назвали. Каким промыслом там люди занимаются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246672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5140440" y="2492280"/>
            <a:ext cx="24192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2050920" y="4797360"/>
            <a:ext cx="241956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2" name="Рисунок 6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262908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ускаются букеты, ярко красками горя,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Чудо – птицы там порхают, будто в сказку нас зовя. Если взглянешь на дощечки,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Ты увидишь чудеса! … узоры тонко вывела рука!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4" name="Объект 11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195264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1824120" y="2622600"/>
            <a:ext cx="3701880" cy="26636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6" name="Рисунок 13" descr=""/>
          <p:cNvPicPr/>
          <p:nvPr/>
        </p:nvPicPr>
        <p:blipFill>
          <a:blip r:embed="rId3"/>
          <a:stretch/>
        </p:blipFill>
        <p:spPr>
          <a:xfrm>
            <a:off x="108000" y="5035680"/>
            <a:ext cx="180972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7" name="Рисунок 14" descr=""/>
          <p:cNvPicPr/>
          <p:nvPr/>
        </p:nvPicPr>
        <p:blipFill>
          <a:blip r:embed="rId4"/>
          <a:stretch/>
        </p:blipFill>
        <p:spPr>
          <a:xfrm>
            <a:off x="5508720" y="4811760"/>
            <a:ext cx="3012840" cy="17874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Сильно вытянуты шеи и корова и кота только это просто так. Чтобы звери, птицы, кони, Барышни, солдаты, и коровы, нравились ребятам, песню звонкую поют. Чтоб добром и красотою сердце согревало и чтоб сказка никогда нас не покидала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881000" cy="26082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5724360" y="4952880"/>
            <a:ext cx="22194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" name="Рисунок 5" descr=""/>
          <p:cNvPicPr/>
          <p:nvPr/>
        </p:nvPicPr>
        <p:blipFill>
          <a:blip r:embed="rId3"/>
          <a:stretch/>
        </p:blipFill>
        <p:spPr>
          <a:xfrm>
            <a:off x="2843280" y="3456000"/>
            <a:ext cx="2211480" cy="33066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" name="Рисунок 6" descr=""/>
          <p:cNvPicPr/>
          <p:nvPr/>
        </p:nvPicPr>
        <p:blipFill>
          <a:blip r:embed="rId4"/>
          <a:stretch/>
        </p:blipFill>
        <p:spPr>
          <a:xfrm>
            <a:off x="5580000" y="2978280"/>
            <a:ext cx="294336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9:19:03Z</dcterms:created>
  <dc:creator>Дмитрий</dc:creator>
  <dc:description/>
  <dc:language>en-US</dc:language>
  <cp:lastModifiedBy>Дмитрий</cp:lastModifiedBy>
  <dcterms:modified xsi:type="dcterms:W3CDTF">2016-10-04T02:54:36Z</dcterms:modified>
  <cp:revision>6</cp:revision>
  <dc:subject/>
  <dc:title>Презентация PowerPoint</dc:title>
</cp:coreProperties>
</file>