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28D-B05D-4551-8691-C61A298F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2CB-3DEC-488F-AF4E-C04C5FA0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B7C-9D07-4BD8-AB20-DFFD8E6D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554-7CDC-4469-9334-748FEF76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8A01-35D7-4887-ABB9-46F5E24A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B657-2CCC-408B-B6CB-178CCD8A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D61F-7224-4B6B-8F4B-B52CF11D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2DE4-65AC-480A-8A24-FD56D4B0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D265-FB99-4C12-B720-8BAEE393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E405-190A-48CB-A2FD-AC284B8F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66E7-A8DD-42ED-915C-4BD1D83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55B-0410-4A9F-BF02-44E3637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FB57-33B4-406A-AF3A-175B3015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1598-B3DF-46B9-A2C0-1F46EDD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5BAE-AB3E-4BC6-B494-8630837C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884B-1D07-4EF7-AB16-E14D6AB4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2890-6CB8-49EF-891A-C5EAB786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376-F8FD-42CA-B485-D2D74840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2F1-74CA-411B-B980-CB03D7B4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EA6-E3A0-4931-9B47-482E18F7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234-2C31-47DB-BA2F-E137E68B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579-C962-4155-BB36-74F5F06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3EB-0941-4FB2-8718-8BAA287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FA4-9B8B-4F5D-805F-B211AB67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75CF-0C82-4CA6-B815-A1A5408756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5E15-2BA8-4961-86B8-4A9F7F2845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ibase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484360" y="3124080"/>
            <a:ext cx="50403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АЯ ОРГАНИЗАЦИЯ АНГЛИЙСКИХ ПОСЛОВИ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124000" y="5805360"/>
            <a:ext cx="453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бота Пасмуровой Аделины, 9 клас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утфуллина Г.М. – учител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Содержимое 3" descr=""/>
          <p:cNvPicPr/>
          <p:nvPr/>
        </p:nvPicPr>
        <p:blipFill>
          <a:blip r:embed="rId1"/>
          <a:stretch/>
        </p:blipFill>
        <p:spPr>
          <a:xfrm>
            <a:off x="665280" y="749160"/>
            <a:ext cx="77356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ксико-стилистический принци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вто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ve me, love my do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Li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 not to ea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 eat to liv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trouble troubles till (until) trouble troubles y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ксико-стилистический принци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нтоним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lack hen lays a white egg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- Корова черна, да молоко у нее бело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ron hand in velvet gloves.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ягко стеле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 жестко сп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2901960" y="5482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900000" y="1502280"/>
            <a:ext cx="7129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ы часто читаем и слышим фразу «Язык - живое существо», но большинство из нас не задумывается, как и почему это так. Живые существа растут и изменяются, то же самое происходит и с языком. Любой человек легко уловит разницу между английским Шекспира и языком современных авторов. Лексический состав любого языка, как известно, та часть языка, которая непосредственно отражает все происходящее в жизни говорящего на данном языке. Так как общей тенденцией современного английского языка является переход к более широкому использованию идиом, весьма важным является изучение такого аспекта языкознания как фразеология. Фразеологические единицы – это не только отдельная часть языка, которой можно пользоваться или не пользоваться - они формируют существенную часть общего словаря английского язы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3" descr="0024-024-Spasibo-za-vnimanie.jpg"/>
          <p:cNvPicPr/>
          <p:nvPr/>
        </p:nvPicPr>
        <p:blipFill>
          <a:blip r:embed="rId1"/>
          <a:stretch/>
        </p:blipFill>
        <p:spPr>
          <a:xfrm>
            <a:off x="539640" y="260280"/>
            <a:ext cx="81615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1360080" y="191160"/>
            <a:ext cx="57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исок использованной литерат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900000" y="898200"/>
            <a:ext cx="7128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ulis A., Kholodnaya A. Russian-English dictionary of proverbs and sayings. – Jefferson, North Carolina, USA: McFarland and Compamy Inc. publishers, 2000. – 494 p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ford dictionary of proverbs /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by Jennifer Speake. Oxford University Press, 2004. P. 229–230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тюнова Н.Д. Типы языковых значений: Оценка. Событие. Факт.-М.: Наука, 1988.-341 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х М.Я. Теоретические основы грамматики: учеб. изд-е 4, испр. – М.: Высш. шк., 2004. – 239 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ьева Л. Английские пословицы, поговорки, крылатые выражения.. — М.: ЗАО Центрполиграф, 2004. — 350 с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ченко Л.В. Русские и английские пословицы побудительной семантики: автореф. дис. на соиск. уч. ст. канд. филол. наук. – Ростов-на-Дону: Ростовский гос. ун-т, 2006. – 24 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нин А.В. Англо-русский фразеологический словарь/ А.В.Кунин.- М.: Русский язык, 2005.-994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нин А.В. Фразеология современного английского языка. Опыт систематизированного отношения. М.: 1972. – 288 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ебнев Очерк теории стилистики. - Горький, 1975, - с. 13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т Л. П. Фразеология английского языка / Пер. с англ. А. Р. Игнатьева. – М., 1959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ия В.Н. Русская фразеология. Семантический, прагматический и лингвокультурологический аспект. М.: Школа «Языки русской культуры», 1996.- 288 с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дина И.Ю. Метафора в английской пословице: автореф. </a:t>
            </a:r>
            <a:r>
              <a:rPr b="0" lang="ru-RU" sz="1400" spc="-1" strike="noStrike" u="sng">
                <a:solidFill>
                  <a:srgbClr val="00b200"/>
                </a:solidFill>
                <a:uFillTx/>
                <a:latin typeface="Times New Roman"/>
                <a:ea typeface="Times New Roman"/>
                <a:hlinkClick r:id="rId1"/>
              </a:rPr>
              <a:t>ди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соиск. уч. ст. канд. филол. наук. – Москва: Московский гос. областной гуманитарный институт, 2012. – 23 с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187280" y="669960"/>
            <a:ext cx="655344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ставленная работа посвящена рассмотрению проблемы языковой организации английских пословиц и поговорок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ой целью исследования является выявление основных принципов языковой организации английских пословиц и поговор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755640" y="264960"/>
            <a:ext cx="792000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НЯТИЕ «ПОСЛОВИЦА» РАССМАТРИВАЛОСЬ С 4 ТОЧЕК ЗРЕ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Фольклористически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словица – это некое суждение, содержащее в свернутом виде многовековой опыт народ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родность, образность, краткость, назидательность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2. Лингвистический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явление основных признаков пословицы как фразеологической единицы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3. Лингвокультурологически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словица – лингвокультурный текст, который выражает сведения о культуре того или иного народ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mic Sans MS"/>
              </a:rPr>
              <a:t>4. Когнитивный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словица рассматривается в качестве представителей абстрактных структур сознания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826920" y="901080"/>
            <a:ext cx="74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языковой организацией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 настоящей работе понимается  отбор разноуровневых языковых средств и развертывание их в текст с целью эстетического оформления парем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"/>
          <p:cNvPicPr/>
          <p:nvPr/>
        </p:nvPicPr>
        <p:blipFill>
          <a:blip r:embed="rId1"/>
          <a:stretch/>
        </p:blipFill>
        <p:spPr>
          <a:xfrm>
            <a:off x="523800" y="603360"/>
            <a:ext cx="78771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Содержимое 3" descr=""/>
          <p:cNvPicPr/>
          <p:nvPr/>
        </p:nvPicPr>
        <p:blipFill>
          <a:blip r:embed="rId1"/>
          <a:stretch/>
        </p:blipFill>
        <p:spPr>
          <a:xfrm>
            <a:off x="244440" y="328680"/>
            <a:ext cx="8363160" cy="605952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ая соединительная линия 8"/>
          <p:cNvSpPr/>
          <p:nvPr/>
        </p:nvSpPr>
        <p:spPr>
          <a:xfrm>
            <a:off x="1547640" y="4076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10"/>
          <p:cNvSpPr/>
          <p:nvPr/>
        </p:nvSpPr>
        <p:spPr>
          <a:xfrm flipH="1" flipV="1">
            <a:off x="1331640" y="2349000"/>
            <a:ext cx="25923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ая соединительная линия 12"/>
          <p:cNvSpPr/>
          <p:nvPr/>
        </p:nvSpPr>
        <p:spPr>
          <a:xfrm>
            <a:off x="1258920" y="2349360"/>
            <a:ext cx="7308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1187280" y="760320"/>
            <a:ext cx="698508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ма является универсальным средством языковой организации поскольку встречается не только на английском но и в других языках. Например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ецком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e gu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s gu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 Хороший конец – делу венец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панск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Haces mal, espera otro tal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к аукнется, так и откликнится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ском: Тише едешь, дальше будеш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тарском: Кем эшләми, шул ашамый. (Кто не работает, тот не ест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Содержимое 3" descr=""/>
          <p:cNvPicPr/>
          <p:nvPr/>
        </p:nvPicPr>
        <p:blipFill>
          <a:blip r:embed="rId1"/>
          <a:stretch/>
        </p:blipFill>
        <p:spPr>
          <a:xfrm>
            <a:off x="682560" y="36360"/>
            <a:ext cx="77058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коммуникативной точки з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Содержимое 3" descr=""/>
          <p:cNvPicPr/>
          <p:nvPr/>
        </p:nvPicPr>
        <p:blipFill>
          <a:blip r:embed="rId1"/>
          <a:stretch/>
        </p:blipFill>
        <p:spPr>
          <a:xfrm>
            <a:off x="378000" y="1133640"/>
            <a:ext cx="78753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7:03:10Z</dcterms:created>
  <dc:creator>Юрий</dc:creator>
  <dc:description/>
  <dc:language>en-US</dc:language>
  <cp:lastModifiedBy>Гулюза</cp:lastModifiedBy>
  <dcterms:modified xsi:type="dcterms:W3CDTF">2015-02-26T17:21:34Z</dcterms:modified>
  <cp:revision>25</cp:revision>
  <dc:subject/>
  <dc:title>Слайд 1</dc:title>
</cp:coreProperties>
</file>