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4FD-AB54-435E-8766-FFCAE7E8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D5-1A58-43D3-BF6E-7F47DBB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B6E-587A-4CB6-B65C-325DFFEF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F8E-B2DE-4B05-AC6F-3D2D3BC0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051-60DA-43C1-A10F-0409EC5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DAD-2F1B-402A-B684-DE802F6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9DCC-6A3F-439E-9472-85806730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AEA8-FDB2-465A-A8F0-EA2261C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F82-BD32-4353-BC62-46C7542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E0E-763B-4E59-BDD9-453E5BF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3EE-4EFD-4F0B-8DF8-246D506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B21-EC6C-4A6F-971E-053DECF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BEA-92EC-4CDF-B3E8-65C186A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AED3-D854-4EAE-AFF7-2CC84A9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94D-4CFF-4272-83F0-12785394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38CC-1C3E-4FD8-88A3-D533E175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2C52-FC02-4EC1-B6A5-0E46BAB6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BD2-2A8E-42B4-B115-026B222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42C-D625-4A63-BA34-28B95F5D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526-964D-4BA6-B521-E35E2C5F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F15-3C88-4638-B105-A3BCA65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F08-9F7A-45E6-8A8B-D906686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681-0EA9-4B00-A203-0281CF9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039-D66F-4BC3-AB26-B06B962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64F-0673-4D38-9B8E-90B272885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3109-3DFC-45E0-AADC-9B963D165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ibas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484360" y="3124080"/>
            <a:ext cx="5040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АЯ ОРГАНИЗАЦИЯ АНГЛИЙСКИХ ПОСЛОВИ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124000" y="5805360"/>
            <a:ext cx="453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бота Пасмуровой Аделины, 9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утфуллина Г.М. – учит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665280" y="749160"/>
            <a:ext cx="77356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ксико-стилистический принци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вт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ve me, love my do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Li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 not to ea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 eat to liv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trouble troubles till (until) trouble troubles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ксико-стилистический принци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нтоним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ack hen lays a white egg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- Корова черна, да молоко у нее бел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ron hand in velvet gloves.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ягко стел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 жестко сп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901960" y="5482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00000" y="1502280"/>
            <a:ext cx="7129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ы часто читаем и слышим фразу «Язык - живое существо», но большинство из нас не задумывается, как и почему это так. Живые существа растут и изменяются, то же самое происходит и с языком. Любой человек легко уловит разницу между английским Шекспира и языком современных авторов. Лексический состав любого языка, как известно, та часть языка, которая непосредственно отражает все происходящее в жизни говорящего на данном языке. Так как общей тенденцией современного английского языка является переход к более широкому использованию идиом, весьма важным является изучение такого аспекта языкознания как фразеология. Фразеологические единицы – это не только отдельная часть языка, которой можно пользоваться или не пользоваться - они формируют существенную часть общего словаря английского язы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0024-024-Spasibo-za-vnimanie.jpg"/>
          <p:cNvPicPr/>
          <p:nvPr/>
        </p:nvPicPr>
        <p:blipFill>
          <a:blip r:embed="rId1"/>
          <a:stretch/>
        </p:blipFill>
        <p:spPr>
          <a:xfrm>
            <a:off x="539640" y="260280"/>
            <a:ext cx="81615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360080" y="19116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ок использованной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900000" y="898200"/>
            <a:ext cx="7128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ulis A., Kholodnaya A. Russian-English dictionary of proverbs and sayings. – Jefferson, North Carolina, USA: McFarland and Compamy Inc. publishers, 2000. – 494 p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ford dictionary of proverbs 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by Jennifer Speake. Oxford University Press, 2004. P. 229–230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тюнова Н.Д. Типы языковых значений: Оценка. Событие. Факт.-М.: Наука, 1988.-341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х М.Я. Теоретические основы грамматики: учеб. изд-е 4, испр. – М.: Высш. шк., 2004. – 239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ева Л. Английские пословицы, поговорки, крылатые выражения.. — М.: ЗАО Центрполиграф, 2004. — 350 с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ченко Л.В. Русские и английские пословицы побудительной семантики: автореф. дис. на соиск. уч. ст. канд. филол. наук. – Ростов-на-Дону: Ростовский гос. ун-т, 2006. – 24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ин А.В. Англо-русский фразеологический словарь/ А.В.Кунин.- М.: Русский язык, 2005.-994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ин А.В. Фразеология современного английского языка. Опыт систематизированного отношения. М.: 1972. – 288 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ебнев Очерк теории стилистики. - Горький, 1975, - с. 13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т Л. П. Фразеология английского языка / Пер. с англ. А. Р. Игнатьева. – М., 1959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ия В.Н. Русская фразеология. Семантический, прагматический и лингвокультурологический аспект. М.: Школа «Языки русской культуры», 1996.- 288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а И.Ю. Метафора в английской пословице: автореф. </a:t>
            </a:r>
            <a:r>
              <a:rPr b="0" lang="ru-RU" sz="14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1"/>
              </a:rPr>
              <a:t>д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соиск. уч. ст. канд. филол. наук. – Москва: Московский гос. областной гуманитарный институт, 2012. – 23 с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669960"/>
            <a:ext cx="65534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ставленная работа посвящена рассмотрению проблемы языковой организации английских пословиц и поговоро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ой целью исследования является выявление основных принципов языковой организации английских пословиц и поговор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755640" y="264960"/>
            <a:ext cx="79200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НЯТИЕ «ПОСЛОВИЦА» РАССМАТРИВАЛОСЬ С 4 ТОЧЕК ЗРЕ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Фольклористически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– это некое суждение, содержащее в свернутом виде многовековой опыт наро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родность, образность, краткость, назидательност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2. Лингвистический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явление основных признаков пословицы как фразеологической един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3. Лингвокультурологически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– лингвокультурный текст, который выражает сведения о культуре того или иного наро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4. Когнитивный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рассматривается в качестве представителей абстрактных структур сознания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826920" y="90108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языковой организацией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настоящей работе понимается  отбор разноуровневых языковых средств и развертывание их в текст с целью эстетического оформления парем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"/>
          <p:cNvPicPr/>
          <p:nvPr/>
        </p:nvPicPr>
        <p:blipFill>
          <a:blip r:embed="rId1"/>
          <a:stretch/>
        </p:blipFill>
        <p:spPr>
          <a:xfrm>
            <a:off x="523800" y="603360"/>
            <a:ext cx="78771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Содержимое 3" descr=""/>
          <p:cNvPicPr/>
          <p:nvPr/>
        </p:nvPicPr>
        <p:blipFill>
          <a:blip r:embed="rId1"/>
          <a:stretch/>
        </p:blipFill>
        <p:spPr>
          <a:xfrm>
            <a:off x="244440" y="328680"/>
            <a:ext cx="8363160" cy="60595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ая соединительная линия 8"/>
          <p:cNvSpPr/>
          <p:nvPr/>
        </p:nvSpPr>
        <p:spPr>
          <a:xfrm>
            <a:off x="1547640" y="4076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 flipH="1" flipV="1">
            <a:off x="1331640" y="2349000"/>
            <a:ext cx="2592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>
            <a:off x="1258920" y="2349360"/>
            <a:ext cx="7308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187280" y="760320"/>
            <a:ext cx="6985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 является универсальным средством языковой организации поскольку встречается не только на английском но и в других языках. Например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ецком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e g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s g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 Хороший конец – делу венец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анс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Haces mal, espera otro tal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 аукнется, так и откликнитс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ском: Тише едешь, дальше будеш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тарском: Кем эшләми, шул ашамый. (Кто не работает, тот не ест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Содержимое 3" descr=""/>
          <p:cNvPicPr/>
          <p:nvPr/>
        </p:nvPicPr>
        <p:blipFill>
          <a:blip r:embed="rId1"/>
          <a:stretch/>
        </p:blipFill>
        <p:spPr>
          <a:xfrm>
            <a:off x="682560" y="36360"/>
            <a:ext cx="77058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коммуникативной точки з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3" descr=""/>
          <p:cNvPicPr/>
          <p:nvPr/>
        </p:nvPicPr>
        <p:blipFill>
          <a:blip r:embed="rId1"/>
          <a:stretch/>
        </p:blipFill>
        <p:spPr>
          <a:xfrm>
            <a:off x="378000" y="1133640"/>
            <a:ext cx="78753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03:10Z</dcterms:created>
  <dc:creator>Юрий</dc:creator>
  <dc:description/>
  <dc:language>en-US</dc:language>
  <cp:lastModifiedBy>Гулюза</cp:lastModifiedBy>
  <dcterms:modified xsi:type="dcterms:W3CDTF">2015-02-26T17:21:34Z</dcterms:modified>
  <cp:revision>25</cp:revision>
  <dc:subject/>
  <dc:title>Слайд 1</dc:title>
</cp:coreProperties>
</file>