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C693-2573-4F23-AC67-1C37690D1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EC5B-8E63-48EA-A37F-206C6C71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F340-098A-4A26-8BAE-2A67B2886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798F-F230-4704-BEF5-E15C4B9B7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67C0-72A8-4202-AA03-7036C255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EAF0-8CDE-416B-8326-8DE48B16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9CDB-0CDD-43CC-A7AB-8445FC2B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38B7-69A0-4F77-B05C-AB1230DC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39F0-5FA0-489E-8F9F-B7D20F84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632E-3B98-4085-977B-6C394680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C676-604F-4066-A6BF-0EC29737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43E8-172A-41BA-A8BB-32768F0D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C6F7-E4DB-4C24-AD14-C4FEE88A72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Абаников\Desktop\птицы\31.jpeg"/>
          <p:cNvPicPr/>
          <p:nvPr/>
        </p:nvPicPr>
        <p:blipFill>
          <a:blip r:embed="rId1"/>
          <a:stretch/>
        </p:blipFill>
        <p:spPr>
          <a:xfrm>
            <a:off x="-324000" y="-38160"/>
            <a:ext cx="9753840" cy="689616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2"/>
          <a:stretch/>
        </p:blipFill>
        <p:spPr>
          <a:xfrm>
            <a:off x="-182520" y="225360"/>
            <a:ext cx="950904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0" y="36360"/>
            <a:ext cx="9144000" cy="68598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2"/>
          <p:cNvSpPr/>
          <p:nvPr/>
        </p:nvSpPr>
        <p:spPr>
          <a:xfrm>
            <a:off x="179280" y="189000"/>
            <a:ext cx="8785440" cy="51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ктуальнос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омную роль в умственном воспитании и в развитии интеллекта играет математика. Математика необходима большому числу людей различных профессий. В математике заложены огромные возможности для развития мышления детей, в процессе их обучения с дошкольного возра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темы обусловлена тем, что дети дошкольного возраста проявляют спонтанный интерес к математическим категориям: количество , форма, время, пространство, которые помогают им лучше ориентироваться в вещах и ситуациях, упорядочивать и связывать их друг с другом, способствуют формированию понятий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ёнка привлекает в игре не обучающая задача , которая в ней заложена, а возможность проявить активность, выполнить игровые действия, добиться результата. Знания, данные в занимательной форме, в форме игры усваиваются детьми быстрее, прочнее и легче, чем те, которые сопряжены с долгими “бездушными” упражне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элементарных математических представлений у дошкольников посредством дидактических игр будет эффективно при условии использования игровых методов и приемов в образовательном процесс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связи  с  этим  меня  заинтересовала проблема:  можно  ли  повысить  мотивацию и познавательный интерес дошкольников  в  формировании  элементарных  математических  представлений посредством использования дидактических иг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49320" y="0"/>
            <a:ext cx="9140760" cy="673416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127080" y="228600"/>
            <a:ext cx="8893080" cy="62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тодика  работы  по ФЭМП с помощью дидактических иг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ошкольном возрасте закладываются основы знаний, необходимых ребенку в школе. Самое главное - это  привить  ребенку  интерес  к  познанию.  Для  этого  непосредственная образовательная деятельность  должны проходить в увлекательной игровой форме. Благодаря играм удаётся сконцентрировать внимание и привлечь интерес даже у самых несобранных  детей  дошкольного  возраста.  В  начале  их  увлекают  только  игровые действия, а затем и то, чему учит та или иная игра. Постепенно у детей пробуждается интерес и к самому предмету обучения. Таким образом, в игровой форме прививание ребенку знания из области математики, научит  его  выполнять  различные  действия,  разовьёт  память,  мышление,  творческие способности. В процессе игры дети усваивают сложные математические понятия, учатся считать, читать и писать, а в развитии этих навыков ребенку помогают близкие люди - его родители и педагог. Основными направлениями совершенствования педагогической работы являются:-широкое  использование  дидактических,  развивающих  игр  в  непосредственно образовательной деятельности с детьми по формированию элементарных математических представлений;-системность в применении дидактических игр в формировании элементарных математических представлений у дошкольников .Работу по развитию у детей элементарных математических представлений организую в  образователь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 игры  математического  характера  позволяют  не  только  расширять знания дошкольников, но и закреплять представления детей о количестве, величины, геометрических фигурах, ориентировке в пространстве и во времени. Содержание  игры  способствует  проявлению  и  становлению  интереса  к  познанию, выявлению закономерностей, связей и зависимостей предметов и явлений окружающего мира. В результате освоения практических действий дети познают свойства и отношения объектов, чисел, арифметические действия, величины и их характерные особенности, пространственно-временные отношения, многообразие геометрических фор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DSCF919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2" descr=""/>
          <p:cNvPicPr/>
          <p:nvPr/>
        </p:nvPicPr>
        <p:blipFill>
          <a:blip r:embed="rId2"/>
          <a:stretch/>
        </p:blipFill>
        <p:spPr>
          <a:xfrm>
            <a:off x="324000" y="42840"/>
            <a:ext cx="86439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3" name="Picture 2" descr="C:\Users\Абаников\Desktop\птицы\31.jpeg"/>
          <p:cNvPicPr/>
          <p:nvPr/>
        </p:nvPicPr>
        <p:blipFill>
          <a:blip r:embed="rId1"/>
          <a:stretch/>
        </p:blipFill>
        <p:spPr>
          <a:xfrm>
            <a:off x="-357120" y="0"/>
            <a:ext cx="9753480" cy="689616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1714680" y="500040"/>
            <a:ext cx="67258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0" y="1357200"/>
            <a:ext cx="874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buClr>
                <a:srgbClr val="9bbb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9bbb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9bbb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9bbb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"/>
          <p:cNvSpPr/>
          <p:nvPr/>
        </p:nvSpPr>
        <p:spPr>
          <a:xfrm>
            <a:off x="298440" y="824040"/>
            <a:ext cx="866628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игрового пособия: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представления детей о геометрических формах, упражнять в их названия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осмысленное восприятие формы геометрических фигур,  умение применять зрительное обследование фор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Повышать   интерес  детей к изучаемому материалу и расширять  возможности моделирования игровых ситуац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Формировать  такие личностные качества, как самостоятельность, активность, инициативность, усидчивость, внимательность, сосредоточен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Закреплять представления о цвете, форме,  через яркие наглядные образы и игровую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ое правил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берет только по одной геометрической фигуре, определяет  её цвет и форму, 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 находит ей место на туч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2"/>
          <a:stretch/>
        </p:blipFill>
        <p:spPr>
          <a:xfrm>
            <a:off x="1023840" y="0"/>
            <a:ext cx="67010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0" y="260280"/>
            <a:ext cx="9036000" cy="640872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395280" y="141300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олнце прячется за тучки: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ячет ножки, прячет ручки,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ячет лучики в подушки,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ячет щечки, прячет ушки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ячет голову большую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И прическу золоту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3419640" y="144000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Натянуло одеяло --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Нам без солнца грустно стало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Как без  солнышка  темно!!!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лачет грустное окно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лачет дуб — ему сто лет,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лачет бабушка и дед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1476360" y="30290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узыри по лужам скачут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На деревьях листья плачут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Нужен лучик каждой травке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Каждой птичке и козявке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 поле каждому цветочку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Лучик нужен нашей Дочке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Чтоб по улице гулять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 мамой за руку шаг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320760" y="5337000"/>
            <a:ext cx="65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том предлагает ребенку  помочь солнышку. Ребенок  берет карточки , на которых  изображены  геометрические фигуры разного цвета и формы. Ребенок  должен  подобрать правильную фигуру к солнечным лучик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574560" y="115920"/>
            <a:ext cx="6048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Ход игр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оспитатель рассказывает стихотвор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2" descr="DSCF91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3" descr=""/>
          <p:cNvPicPr/>
          <p:nvPr/>
        </p:nvPicPr>
        <p:blipFill>
          <a:blip r:embed="rId2"/>
          <a:stretch/>
        </p:blipFill>
        <p:spPr>
          <a:xfrm>
            <a:off x="128520" y="42840"/>
            <a:ext cx="88869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8" name="Picture 2" descr="C:\Users\Абаников\Desktop\птицы\31.jpeg"/>
          <p:cNvPicPr/>
          <p:nvPr/>
        </p:nvPicPr>
        <p:blipFill>
          <a:blip r:embed="rId1"/>
          <a:stretch/>
        </p:blipFill>
        <p:spPr>
          <a:xfrm>
            <a:off x="-39060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604800" y="115920"/>
            <a:ext cx="81439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ff0000"/>
                </a:solidFill>
                <a:latin typeface="Times New Roman"/>
              </a:rPr>
              <a:t>Накорми гусеницу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0" y="1357200"/>
            <a:ext cx="87487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"/>
          <p:cNvSpPr/>
          <p:nvPr/>
        </p:nvSpPr>
        <p:spPr>
          <a:xfrm>
            <a:off x="130320" y="993600"/>
            <a:ext cx="871380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Цель игрового пособ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1. Закрепить цифры  числового ряда в пределах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2. Закреплять  обратный  и порядковый  счет, соотнесение числа и коли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3. Формировать  внимание, память, наглядно-образное и логическое мышление, умения анализировать, сравнивать, классифицировать через обучение счетным операциям и дидактическим игр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гровое правил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ебенок берет только по одной картинке и  определяет к какой цифре подходит картинка с количеством предмето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"/>
          <p:cNvPicPr/>
          <p:nvPr/>
        </p:nvPicPr>
        <p:blipFill>
          <a:blip r:embed="rId1"/>
          <a:stretch/>
        </p:blipFill>
        <p:spPr>
          <a:xfrm>
            <a:off x="108000" y="225360"/>
            <a:ext cx="9036000" cy="640728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2"/>
          <p:cNvSpPr/>
          <p:nvPr/>
        </p:nvSpPr>
        <p:spPr>
          <a:xfrm>
            <a:off x="250920" y="981000"/>
            <a:ext cx="63370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Ход иг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оспитатель предлагает ребенку рассмотреть гусеницу с цифрами и карточки с предметами. Читает стихотворения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 нашем садике живёт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Удивительный народ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Эти гибкие сластёны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У деревьев съели кроны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ъели яблоки и груши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И горох решили скуша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И предлагает ребенку соотнести количество предметов с циф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9T17:42:28Z</dcterms:created>
  <dc:creator>Абаников</dc:creator>
  <dc:description/>
  <dc:language>en-US</dc:language>
  <cp:lastModifiedBy>Windows User</cp:lastModifiedBy>
  <dcterms:modified xsi:type="dcterms:W3CDTF">2016-06-06T05:28:50Z</dcterms:modified>
  <cp:revision>98</cp:revision>
  <dc:subject/>
  <dc:title>Слайд 1</dc:title>
</cp:coreProperties>
</file>