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617-B321-4252-8574-DEDCDE80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936-FA06-43DC-83F6-86AE2C0F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1D2-FAE1-46F6-A308-F8567160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7E4-EC82-4067-9E8C-F2501AEF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961-3DB1-4CFF-8DEE-743036D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5A1-B822-4AC9-AF29-76B7010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625-81DC-43A6-817F-242B8BBD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D56-FFC3-415D-9568-52E27F3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9B2-0149-4942-BCA7-6BED44D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DE9-BA12-49BC-90D5-F850B85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C3E-7851-41A5-B5D7-EC45E98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35E-564C-4BF9-AD7E-8999112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426-7D2A-443D-BE7C-6FDA3859D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24000" y="-3816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2"/>
          <a:stretch/>
        </p:blipFill>
        <p:spPr>
          <a:xfrm>
            <a:off x="-182520" y="225360"/>
            <a:ext cx="95090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179280" y="189000"/>
            <a:ext cx="878544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ую роль в умственном воспитании и в развитии интеллекта играет математика. Математика необходима большому числу людей различных профессий. В математике заложены огромные возможности для развития мышления детей, в процессе их обучения с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темы обусловлена тем, что дети дошкольного возраста проявляют спонтанный интерес к математическим категориям: количество , форма, время, пространство, которые помогают им лучше ориентироваться в вещах и ситуациях, упорядочивать и связывать их друг с другом, способствуют формированию понятий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привлекает в игре не обучающая задача , которая в ней заложена, а возможность проявить активность, выполнить игровые действия, добиться результата. Знания, данные в занимательной форме, в форме игры усваиваются детьми быстрее, прочнее и легче, чем те, которые сопряжены с долгими “бездушными” упраж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лементарных математических представлений у дошкольников посредством дидактических игр будет эффективно при условии использования игровых методов и приемов в образовательном процес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связи  с  этим  меня  заинтересовала проблема:  можно  ли  повысить  мотивацию и познавательный интерес дошкольников  в  формировании  элементарных  математических  представлений посредством использования дидактически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9320" y="0"/>
            <a:ext cx="9140760" cy="6734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27080" y="228600"/>
            <a:ext cx="8893080" cy="62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ка  работы  по ФЭМП с помощью дидактических иг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закладываются основы знаний, необходимых ребенку в школе. Самое главное - это  привить  ребенку  интерес  к  познанию.  Для  этого  непосредственная образовательная деятельность  должны проходить в увлекательной игровой форме. Благодаря играм удаётся сконцентрировать внимание и привлечь интерес даже у самых несобранных  детей  дошкольного  возраста.  В  начале  их  увлекают  только  игровые действия, а затем и то, чему учит та или иная игра. Постепенно у детей пробуждается интерес и к самому предмету обучения. Таким образом, в игровой форме прививание ребенку знания из области математики, научит  его  выполнять  различные  действия,  разовьёт  память,  мышление,  творческие способности. В процессе игры дети усваивают сложные математические понятия, учатся считать, читать и писать, а в развитии этих навыков ребенку помогают близкие люди - его родители и педагог. Основными направлениями совершенствования педагогической работы являются:-широкое  использование  дидактических,  развивающих  игр  в  непосредственно образовательной деятельности с детьми по формированию элементарных математических представлений;-системность в применении дидактических игр в формировании элементарных математических представлений у дошкольников .Работу по развитию у детей элементарных математических представлений организую в 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 игры  математического  характера  позволяют  не  только  расширять знания дошкольников, но и закреплять представления детей о количестве, величины, геометрических фигурах, ориентировке в пространстве и во времени. Содержание  игры  способствует  проявлению  и  становлению  интереса  к  познанию, выявлению закономерностей, связей и зависимостей предметов и явлений окружающего мира. В результате освоения практических действий дети познают свойства и отношения объектов, чисел, арифметические действия, величины и их характерные особенности, пространственно-временные отношения, многообразие геометрических фор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DSCF91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42840"/>
            <a:ext cx="8643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5712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14680" y="500040"/>
            <a:ext cx="6725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0" y="1357200"/>
            <a:ext cx="87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9bbb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98440" y="824040"/>
            <a:ext cx="86662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грового пособия: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представления детей о геометрических формах, упражнять в их назва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осмысленное восприятие формы геометрических фигур,  умение применять зрительное обследование фо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Повышать   интерес  детей к изучаемому материалу и расширять  возможности моделирования игровых ситуац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ть  такие личностные качества, как самостоятельность, активность, инициативность, усидчивость, внимательность, сосредоточ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креплять представления о цвете, форме,  через яркие наглядные образы и игров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берет только по одной геометрической фигуре, определяет  её цвет и форму, 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находит ей место на ту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1023840" y="0"/>
            <a:ext cx="6701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260280"/>
            <a:ext cx="9036000" cy="64087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95280" y="1413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лнце прячется за тучки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ножки, прячет ручк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лучики в подушк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щечки, прячет ушки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ячет голову большую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 прическу золот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419640" y="1440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тянуло одеяло -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м без солнца грустно стал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Как без  солнышка  темно!!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грустное окн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дуб — ему сто ле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лачет бабушка и дед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476360" y="3029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узыри по лужам скачут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 деревьях листья плачут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ужен лучик каждой трав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аждой птичке и козявке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поле каждому цветочк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чик нужен нашей Доч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б по улице гулять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 мамой за руку ша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20760" y="533700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том предлагает ребенку  помочь солнышку. Ребенок  берет карточки , на которых  изображены  геометрические фигуры разного цвета и формы. Ребенок  должен  подобрать правильную фигуру к солнечным лучи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574560" y="115920"/>
            <a:ext cx="60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 игр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рассказывает стихо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DSCF9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128520" y="42840"/>
            <a:ext cx="8886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C:\Users\Абаников\Desktop\птицы\31.jpeg"/>
          <p:cNvPicPr/>
          <p:nvPr/>
        </p:nvPicPr>
        <p:blipFill>
          <a:blip r:embed="rId1"/>
          <a:stretch/>
        </p:blipFill>
        <p:spPr>
          <a:xfrm>
            <a:off x="-39060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04800" y="115920"/>
            <a:ext cx="8143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Накорми гусеницу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0" y="1357200"/>
            <a:ext cx="8748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130320" y="993600"/>
            <a:ext cx="8713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ль игрового пособ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Закрепить цифры  числового ряда в пределах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Закреплять  обратный  и порядковый  счет, соотнесение числа и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 Формировать  внимание, память, наглядно-образное и логическое мышление, умения анализировать, сравнивать, классифицировать через обучение счетным операциям и дидактическим иг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гровое правил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бенок берет только по одной картинке и  определяет к какой цифре подходит картинка с количеством предме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108000" y="225360"/>
            <a:ext cx="9036000" cy="640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250920" y="981000"/>
            <a:ext cx="6337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д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предлагает ребенку рассмотреть гусеницу с цифрами и карточки с предметами. Читает стихотворен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нашем садике живёт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дивительный народ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ти гибкие сластёны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деревьев съели кроны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ъели яблоки и груши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горох решили скуш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предлагает ребенку соотнести количество предметов с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7:42:28Z</dcterms:created>
  <dc:creator>Абаников</dc:creator>
  <dc:description/>
  <dc:language>en-US</dc:language>
  <cp:lastModifiedBy>Windows User</cp:lastModifiedBy>
  <dcterms:modified xsi:type="dcterms:W3CDTF">2016-06-06T05:28:50Z</dcterms:modified>
  <cp:revision>98</cp:revision>
  <dc:subject/>
  <dc:title>Слайд 1</dc:title>
</cp:coreProperties>
</file>