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63D-8705-4FB7-9B48-3A30179A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98F-CEC1-4344-AF40-AD37C01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008-867A-44E4-9EFB-17E1DE4F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418-27B7-4272-A3CE-BC39A674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A69-B5CF-4F34-8A0B-916C74A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545-94C8-4EEB-9636-C57AF4D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8E7-EFB6-4229-9597-DFCCA82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881-27D5-47D9-B05A-D76F9B79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2D1-E485-4616-B426-DFA493D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DF9-D04A-4716-AC61-6C0C596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5A8-CBB6-4BB1-AB4E-8987C90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90E-E021-4F98-A71A-17AA88D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401B-07E2-42B9-BD8B-03978256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2950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кс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042560" y="1700280"/>
            <a:ext cx="1150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1700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9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НОС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34936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пр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грать на пиани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234936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грать  на     нерв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724360" y="981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1773360"/>
            <a:ext cx="208908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имеет одн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700280"/>
            <a:ext cx="21607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имеет нескольк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ая (го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ий (зв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ая (м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08360" y="141300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1413000"/>
            <a:ext cx="93816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3860640"/>
            <a:ext cx="28083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ова, различные по звучанию, но близкие п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еск, сверкание, сия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860640"/>
            <a:ext cx="2305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ова, одинаковые по звучанию и написанию, но разные п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а (заплетенная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а (металл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3860640"/>
            <a:ext cx="21607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лова, с противоположным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-чер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да - лож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КА РУССКОГО ЯЗЫКА (СЛОВАРНЫЙ СОСТ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907560"/>
            <a:ext cx="5616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чки зрения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нно русская             Заимств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удильник,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трушка, сказка)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арослав.      из др.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рата, злато)          (фр. багаж, шан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. вокзал, дже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700000" y="1557360"/>
            <a:ext cx="165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2920" y="227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276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789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933720"/>
            <a:ext cx="856944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чки зрения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УПОТРЕБИТЕЛЬНАЯ     ПРОФЕССИОНАЛЬНАЯ          ДИАЛЕК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потребляется свободно,                 (употребляется в опред. сфере      (употребляется на оп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граниченно:                                    деятельности: скальпель,                территории: гай (лес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ига, стул)                                          рубанок, цистерна)                            стёжка (троп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92000" y="4292640"/>
            <a:ext cx="28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292640"/>
            <a:ext cx="25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КА С ТОЧКИ ЗРЕНИЯ АКТИВНОГО И ПАССИВ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ЛОГИЗМЫ                                                  УСТАРЕВШИ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озникают для обозначения                                             (вышли из активного употреб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х понятий или авторские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еджер, пиар, супермаркет.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АИЗМЫ                ИСТОРИЗ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ь, звень (Есенин).                                                   (появились новые            (исчезли соотве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вания реалий:            ствующие реал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иты – щеки,                боярин, веч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ань – ладо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08360" y="206064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2060640"/>
            <a:ext cx="934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02920" y="1125360"/>
            <a:ext cx="302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1125360"/>
            <a:ext cx="20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2:16:05Z</dcterms:created>
  <dc:creator>Admin</dc:creator>
  <dc:description/>
  <dc:language>en-US</dc:language>
  <cp:lastModifiedBy>Admin</cp:lastModifiedBy>
  <dcterms:modified xsi:type="dcterms:W3CDTF">2011-09-24T13:11:27Z</dcterms:modified>
  <cp:revision>2</cp:revision>
  <dc:subject/>
  <dc:title>ЛЕКСИКА</dc:title>
</cp:coreProperties>
</file>