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DE3-FE66-4679-967E-126A2E47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55A6-388F-4488-9696-B66A36DA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0FE-738A-43FC-A367-0B220579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FB4-D893-4631-9EF5-0572D346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355A-D6A5-4A29-BF71-69F314C2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50E-BB2E-4F55-996D-D6777430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DF8-519D-49D4-BF66-1683EA15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420-139D-465C-B580-196C56A8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033-CA9D-4D0B-8F96-8553B035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BCE3-F2F1-491C-96A2-17BAEC50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97F-4FF4-41B9-A95A-45BD20EB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C35-665A-4E6D-889D-95143612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687E-80A2-44CD-AB5F-95911959C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КС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980640"/>
            <a:ext cx="2950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ксическое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042560" y="1700280"/>
            <a:ext cx="1150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95640" y="170028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989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95640" y="198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НОС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34936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пр.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грать на пиани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234936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пр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грать  на     нерв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724360" y="981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6000" y="1773360"/>
            <a:ext cx="2089080" cy="19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ОЗНА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имеет одно Л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16720" y="1700280"/>
            <a:ext cx="216072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ОЗНА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имеет несколько Л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сокая (гор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сокий (зву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сокая (мо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08360" y="1413000"/>
            <a:ext cx="865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72360" y="1413000"/>
            <a:ext cx="93816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3860640"/>
            <a:ext cx="280836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НОН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слова, различные по звучанию, но близкие по Л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еск, сверкание, сия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3860640"/>
            <a:ext cx="23050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МОН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слова, одинаковые по звучанию и написанию, но разные по Л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са (заплетенная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са (металлическ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4720" y="3860640"/>
            <a:ext cx="21607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ОН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Слова, с противоположным Л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лый-черн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да - лож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КСИКА РУССКОГО ЯЗЫКА (СЛОВАРНЫЙ СОСТА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92000" y="907560"/>
            <a:ext cx="5616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точки зрения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онно русская             Заимствова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будильник,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трушка, сказка)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старослав.      из др. 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рата, злато)          (фр. багаж, шан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гл. вокзал, дже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700000" y="1557360"/>
            <a:ext cx="165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557360"/>
            <a:ext cx="1440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2920" y="2276640"/>
            <a:ext cx="1081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227664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378936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933720"/>
            <a:ext cx="856944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точки зрения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УПОТРЕБИТЕЛЬНАЯ     ПРОФЕССИОНАЛЬНАЯ          ДИАЛЕК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употребляется свободно,                 (употребляется в опред. сфере      (употребляется на опр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ограниченно:                                    деятельности: скальпель,                территории: гай (лес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нига, стул)                                          рубанок, цистерна)                            стёжка (троп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692000" y="4292640"/>
            <a:ext cx="2808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4292640"/>
            <a:ext cx="2519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КСИКА С ТОЧКИ ЗРЕНИЯ АКТИВНОГО И ПАССИВНОГО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ЛОГИЗМЫ                                                  УСТАРЕВШИ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озникают для обозначения                                             (вышли из активного употреб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ых понятий или авторские)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неджер, пиар, супермаркет.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ХАИЗМЫ                ИСТОРИЗ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веть, звень (Есенин).                                                   (появились новые            (исчезли соответ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вания реалий:            ствующие реал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ниты – щеки,                боярин, веч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ань – ладон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508360" y="2060640"/>
            <a:ext cx="1150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04000" y="2060640"/>
            <a:ext cx="934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402920" y="1125360"/>
            <a:ext cx="3024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1125360"/>
            <a:ext cx="20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2:16:05Z</dcterms:created>
  <dc:creator>Admin</dc:creator>
  <dc:description/>
  <dc:language>en-US</dc:language>
  <cp:lastModifiedBy>Admin</cp:lastModifiedBy>
  <dcterms:modified xsi:type="dcterms:W3CDTF">2011-09-24T13:11:27Z</dcterms:modified>
  <cp:revision>2</cp:revision>
  <dc:subject/>
  <dc:title>ЛЕКСИКА</dc:title>
</cp:coreProperties>
</file>