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6FAB-CA2F-4D3D-9806-C9B145B8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98B-9F93-473B-9B15-F8DB9123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A503-6DED-408E-BC4C-0AAF919B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1191-20B0-4085-BC0E-F6CA4698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DFA9-8457-4D73-95AC-E9F8CD6E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D1C4-0F37-4E54-BC49-DE710A47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DC77-C7FA-4A32-87A8-65A2C8C0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C349-C5D9-4303-BA83-9F6D4D22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00AD-6622-46D7-9820-C9168F08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3743-A332-421D-9D20-07C6A855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F4E7-233C-4060-91FC-06587925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97A3-073F-448D-9219-0AD9D001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7458-CEE9-4F56-81CA-9B4243DF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A5BD-CBB1-460F-BF20-BEC80E43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1781-A82B-4310-AD70-C5903998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2622-F8BD-4134-AAC7-6EC3703D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CF93-187B-4CA1-9FEF-742A0C7D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D71F-707B-4299-A11C-AAE29724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35F-8F43-4EEB-9EA7-6C61C7E3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4806-151C-45EF-94EB-CC867BF6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47E-886F-4125-854F-D72AFFF0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023-7043-481B-9B20-721D06D4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46E-DDBA-49EE-B911-7A798875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4F33-91C6-44A4-916E-86036043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8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4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6A92-B43D-4FEE-8017-96C1E809FCC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703F-B435-4617-8A41-4A1118CDA7E5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999720"/>
            <a:ext cx="772164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Применение метода проектов в процессе педагогического  взаимодейств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571840" y="4857840"/>
            <a:ext cx="628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геева Вера Александровна, учитель русского языка и литературы первой квалификационной категории МАОУ «Информационно-экономический лицей», классный руководитель 9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1428840" y="1090080"/>
            <a:ext cx="7072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ё, с чем учитель сталкивается в своей деятельности, должно оказываться поводом только для делового подхода, делового поведения. Ведь главная обязанность учителя в том, чтобы суметь подобрать и осуществить с детьми  такие разнообразные дела, в процессе выполнения которых ученики могли бы и обучаться, и воспитываться, и развива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00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пасибо за внимание!!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6" name="Picture 3" descr="Копия P1020550обр"/>
          <p:cNvPicPr/>
          <p:nvPr/>
        </p:nvPicPr>
        <p:blipFill>
          <a:blip r:embed="rId1"/>
          <a:stretch/>
        </p:blipFill>
        <p:spPr>
          <a:xfrm>
            <a:off x="928800" y="1571760"/>
            <a:ext cx="7786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9720" y="285480"/>
            <a:ext cx="783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Цели общего образования на современном этапе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9720" y="1356840"/>
            <a:ext cx="8001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учить организовывать свою деятельность – определять ее цели и задачи, выбирать средства реализации и применять их на практике, взаимодействовать с другими людьми в достижении общих целей, оценивать достигнутые результат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научить объяснять явления действительности – природной, социальной, культурной, технической среды, т.е. выделять их существенные признаки, систематизировать и обобщать, устанавливать причинно-следственные связи, оценивать их значимость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формировать способность анализировать конкретные жизненные ситуации и выбирать способы поведения, адекватные этим ситуациям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сформировать ключевые навыки (ключевые компетентности), имеющие универсальное значение для различных видов деятельности – навыки решения проблем, принятие решений, поиска, анализа и обработки информации, коммуникативные навыки, навыки измерений, навыки сотрудничеств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 подготовиться к профессиональному выбору, т.е. научить ориентироваться в мире профессий, в ситуации на рынке труда в системе профессионального образования, в собственных интересах и возможностях, подготовить к условиям обучения в профессиональном учебном заведении, сформировать знания и умения, имеющие опорное значение для профессионального образования определенного профил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857720" y="2117520"/>
            <a:ext cx="257400" cy="40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F:\Документы\Лапуля\РУССКИЙ ЯЗЫК\Имена\фото урока\Копия P1020016.JPG"/>
          <p:cNvPicPr/>
          <p:nvPr/>
        </p:nvPicPr>
        <p:blipFill>
          <a:blip r:embed="rId1"/>
          <a:stretch/>
        </p:blipFill>
        <p:spPr>
          <a:xfrm>
            <a:off x="73080" y="928800"/>
            <a:ext cx="9070920" cy="37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Примеры реализованных проект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2" name="Содержимое 3" descr=""/>
          <p:cNvPicPr/>
          <p:nvPr/>
        </p:nvPicPr>
        <p:blipFill>
          <a:blip r:embed="rId1"/>
          <a:stretch/>
        </p:blipFill>
        <p:spPr>
          <a:xfrm>
            <a:off x="1047600" y="1268280"/>
            <a:ext cx="78105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4" name="Содержимое 4" descr=""/>
          <p:cNvPicPr/>
          <p:nvPr/>
        </p:nvPicPr>
        <p:blipFill>
          <a:blip r:embed="rId1"/>
          <a:stretch/>
        </p:blipFill>
        <p:spPr>
          <a:xfrm>
            <a:off x="907920" y="49320"/>
            <a:ext cx="810288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Picture 3" descr="C:\Users\Admin\Desktop\_MG_1443.JPG"/>
          <p:cNvPicPr/>
          <p:nvPr/>
        </p:nvPicPr>
        <p:blipFill>
          <a:blip r:embed="rId1"/>
          <a:stretch/>
        </p:blipFill>
        <p:spPr>
          <a:xfrm>
            <a:off x="714240" y="571680"/>
            <a:ext cx="832176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8" name="Схема 2" descr=""/>
          <p:cNvPicPr/>
          <p:nvPr/>
        </p:nvPicPr>
        <p:blipFill>
          <a:blip r:embed="rId1"/>
          <a:stretch/>
        </p:blipFill>
        <p:spPr>
          <a:xfrm>
            <a:off x="841320" y="237960"/>
            <a:ext cx="8180280" cy="64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Admin\Desktop\_MG_0313.JPG"/>
          <p:cNvPicPr/>
          <p:nvPr/>
        </p:nvPicPr>
        <p:blipFill>
          <a:blip r:embed="rId1"/>
          <a:stretch/>
        </p:blipFill>
        <p:spPr>
          <a:xfrm>
            <a:off x="1000080" y="357120"/>
            <a:ext cx="4924440" cy="3286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Admin\Desktop\_MG_0305.JPG"/>
          <p:cNvPicPr/>
          <p:nvPr/>
        </p:nvPicPr>
        <p:blipFill>
          <a:blip r:embed="rId2"/>
          <a:stretch/>
        </p:blipFill>
        <p:spPr>
          <a:xfrm>
            <a:off x="4214880" y="3429000"/>
            <a:ext cx="46242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2" name="Picture 2" descr="C:\Users\Admin\Desktop\Коллаж ко дню матери[1]. Передерина.jpg"/>
          <p:cNvPicPr/>
          <p:nvPr/>
        </p:nvPicPr>
        <p:blipFill>
          <a:blip r:embed="rId1"/>
          <a:stretch/>
        </p:blipFill>
        <p:spPr>
          <a:xfrm>
            <a:off x="4429080" y="3286080"/>
            <a:ext cx="4443480" cy="3332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Admin\Desktop\МБОУ ИЭЛ Польянова Алена 14 лет.jpg"/>
          <p:cNvPicPr/>
          <p:nvPr/>
        </p:nvPicPr>
        <p:blipFill>
          <a:blip r:embed="rId2"/>
          <a:stretch/>
        </p:blipFill>
        <p:spPr>
          <a:xfrm>
            <a:off x="928800" y="42876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09:04:05Z</dcterms:created>
  <dc:creator>NTomilova</dc:creator>
  <dc:description/>
  <dc:language>en-US</dc:language>
  <cp:lastModifiedBy>Admin</cp:lastModifiedBy>
  <dcterms:modified xsi:type="dcterms:W3CDTF">2011-03-20T18:38:02Z</dcterms:modified>
  <cp:revision>35</cp:revision>
  <dc:subject/>
  <dc:title>Однородные члены предложения</dc:title>
</cp:coreProperties>
</file>