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525-23A2-4FB7-989E-8AFBF3F9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6D8-967B-4E1F-88A0-47890EE1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879-2A5E-4DC0-B4B5-D24AA7B4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724-F773-4C9B-A243-67D51581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FA1B-7426-4091-95EA-B4E20EAD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1CA-E21C-479E-9E52-5BD9ECD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F5AD-9C75-43BC-B0A1-7B36CF87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D24B-4C8F-4435-9462-B0522CA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2D00-647A-4E85-A076-A4B738D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E630-8227-4328-933F-2C50EAD7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5E52-A344-464E-93EE-17676CF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E16-BFF3-4BC7-9431-C939786D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1C9E-A0F0-4129-8579-8C2DC07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F50F-2183-4E30-99BA-3EA7718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EFB4-09E2-43C0-A6C7-98142C75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A1B6-CBD2-4654-A228-D41702AC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C06-9C5C-4551-9A05-EF68EB4E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176-60B1-4003-A778-2E78FB5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E58-B645-4802-8FFA-1C3C1219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00A-D380-4E9C-9109-0C94DF6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C0A-0451-471B-8A51-62C158A7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1A9-3E77-4BDD-8223-C74C942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9E5-D192-49AF-ACF7-1CA8405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0A5-61A7-4784-AD47-04E9D75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727F-5B45-4EE1-A584-AEF4A6FCE0F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ECD-B4E7-45C6-858C-2B1C24EFC90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999720"/>
            <a:ext cx="77216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рименение метода проектов в процессе педагогического  взаимодейств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71840" y="485784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еева Вера Александровна, учитель русского языка и литературы первой квалификационной категории МАОУ «Информационно-экономический лицей», классный руководитель 9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28840" y="1090080"/>
            <a:ext cx="70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, с чем учитель сталкивается в своей деятельности, должно оказываться поводом только для делового подхода, делового поведения. Ведь главная обязанность учителя в том, чтобы суметь подобрать и осуществить с детьми  такие разнообразные дела, в процессе выполнения которых ученики могли бы и обучаться, и воспитываться, и развив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Picture 3" descr="Копия P1020550обр"/>
          <p:cNvPicPr/>
          <p:nvPr/>
        </p:nvPicPr>
        <p:blipFill>
          <a:blip r:embed="rId1"/>
          <a:stretch/>
        </p:blipFill>
        <p:spPr>
          <a:xfrm>
            <a:off x="928800" y="1571760"/>
            <a:ext cx="7786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83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Цели общего образования на современном этапе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9720" y="135684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чить организовывать свою деятельность – определять ее цели и задачи, выбирать средства реализации и применять их на практике, взаимодействовать с другими людьми в достижении общих целей, оценивать достигнутые результат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научить объяснять явления действительности – природной, социальной, культурной, технической среды, т.е. выделять их существенные признаки, систематизировать и обобщать, устанавливать причинно-следственные связи, оценивать их значим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формировать способность анализировать конкретные жизненные ситуации и выбирать способы поведения, адекватные этим ситуация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формировать ключевые навыки (ключевые компетентности), имеющие универсальное значение для различных видов деятельности – навыки решения проблем, принятие решений, поиска, анализа и обработки информации, коммуникативные навыки, навыки измерений, навыки сотрудничеств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подготовиться к профессиональному выбору, т.е. научить ориентироваться в мире профессий, в ситуации на рынке труда в системе профессионального образования, в собственных интересах и возможностях, подготовить к условиям обучения в профессиональном учебном заведении, сформировать знания и умения, имеющие опорное значение для профессионального образования определенного профил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857720" y="2117520"/>
            <a:ext cx="25740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F:\Документы\Лапуля\РУССКИЙ ЯЗЫК\Имена\фото урока\Копия P1020016.JPG"/>
          <p:cNvPicPr/>
          <p:nvPr/>
        </p:nvPicPr>
        <p:blipFill>
          <a:blip r:embed="rId1"/>
          <a:stretch/>
        </p:blipFill>
        <p:spPr>
          <a:xfrm>
            <a:off x="73080" y="928800"/>
            <a:ext cx="907092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Примеры реализованных проект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1047600" y="1268280"/>
            <a:ext cx="78105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Содержимое 4" descr=""/>
          <p:cNvPicPr/>
          <p:nvPr/>
        </p:nvPicPr>
        <p:blipFill>
          <a:blip r:embed="rId1"/>
          <a:stretch/>
        </p:blipFill>
        <p:spPr>
          <a:xfrm>
            <a:off x="907920" y="49320"/>
            <a:ext cx="81028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Picture 3" descr="C:\Users\Admin\Desktop\_MG_1443.JPG"/>
          <p:cNvPicPr/>
          <p:nvPr/>
        </p:nvPicPr>
        <p:blipFill>
          <a:blip r:embed="rId1"/>
          <a:stretch/>
        </p:blipFill>
        <p:spPr>
          <a:xfrm>
            <a:off x="714240" y="571680"/>
            <a:ext cx="83217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Схема 2" descr=""/>
          <p:cNvPicPr/>
          <p:nvPr/>
        </p:nvPicPr>
        <p:blipFill>
          <a:blip r:embed="rId1"/>
          <a:stretch/>
        </p:blipFill>
        <p:spPr>
          <a:xfrm>
            <a:off x="841320" y="237960"/>
            <a:ext cx="8180280" cy="64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Admin\Desktop\_MG_0313.JPG"/>
          <p:cNvPicPr/>
          <p:nvPr/>
        </p:nvPicPr>
        <p:blipFill>
          <a:blip r:embed="rId1"/>
          <a:stretch/>
        </p:blipFill>
        <p:spPr>
          <a:xfrm>
            <a:off x="1000080" y="357120"/>
            <a:ext cx="4924440" cy="3286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Admin\Desktop\_MG_0305.JPG"/>
          <p:cNvPicPr/>
          <p:nvPr/>
        </p:nvPicPr>
        <p:blipFill>
          <a:blip r:embed="rId2"/>
          <a:stretch/>
        </p:blipFill>
        <p:spPr>
          <a:xfrm>
            <a:off x="4214880" y="3429000"/>
            <a:ext cx="46242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Picture 2" descr="C:\Users\Admin\Desktop\Коллаж ко дню матери[1]. Передерина.jpg"/>
          <p:cNvPicPr/>
          <p:nvPr/>
        </p:nvPicPr>
        <p:blipFill>
          <a:blip r:embed="rId1"/>
          <a:stretch/>
        </p:blipFill>
        <p:spPr>
          <a:xfrm>
            <a:off x="4429080" y="3286080"/>
            <a:ext cx="4443480" cy="333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Admin\Desktop\МБОУ ИЭЛ Польянова Алена 14 лет.jpg"/>
          <p:cNvPicPr/>
          <p:nvPr/>
        </p:nvPicPr>
        <p:blipFill>
          <a:blip r:embed="rId2"/>
          <a:stretch/>
        </p:blipFill>
        <p:spPr>
          <a:xfrm>
            <a:off x="928800" y="4287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9:04:05Z</dcterms:created>
  <dc:creator>NTomilova</dc:creator>
  <dc:description/>
  <dc:language>en-US</dc:language>
  <cp:lastModifiedBy>Admin</cp:lastModifiedBy>
  <dcterms:modified xsi:type="dcterms:W3CDTF">2011-03-20T18:38:02Z</dcterms:modified>
  <cp:revision>35</cp:revision>
  <dc:subject/>
  <dc:title>Однородные члены предложения</dc:title>
</cp:coreProperties>
</file>