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828800" y="1369800"/>
            <a:ext cx="7313760" cy="6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828800" y="2133360"/>
            <a:ext cx="71611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1828800" y="4496760"/>
            <a:ext cx="71611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828800" y="1369800"/>
            <a:ext cx="7313760" cy="6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828800" y="2133360"/>
            <a:ext cx="3494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498280" y="2133360"/>
            <a:ext cx="3494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828800" y="4496760"/>
            <a:ext cx="3494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5498280" y="4496760"/>
            <a:ext cx="3494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828800" y="1369800"/>
            <a:ext cx="7313760" cy="6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828800" y="2133360"/>
            <a:ext cx="23058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250160" y="2133360"/>
            <a:ext cx="23058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671880" y="2133360"/>
            <a:ext cx="23058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1828800" y="4496760"/>
            <a:ext cx="23058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4250160" y="4496760"/>
            <a:ext cx="23058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671880" y="4496760"/>
            <a:ext cx="23058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828800" y="1369800"/>
            <a:ext cx="7313760" cy="6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828800" y="2133360"/>
            <a:ext cx="7161120" cy="452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828800" y="1369800"/>
            <a:ext cx="7313760" cy="6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828800" y="2133360"/>
            <a:ext cx="7161120" cy="45241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828800" y="1369800"/>
            <a:ext cx="7313760" cy="6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828800" y="2133360"/>
            <a:ext cx="3494520" cy="45241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498280" y="2133360"/>
            <a:ext cx="3494520" cy="45241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828800" y="1369800"/>
            <a:ext cx="7313760" cy="6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1828800" y="1369800"/>
            <a:ext cx="7313760" cy="297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828800" y="1369800"/>
            <a:ext cx="7313760" cy="6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828800" y="2133360"/>
            <a:ext cx="3494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498280" y="2133360"/>
            <a:ext cx="3494520" cy="45241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828800" y="4496760"/>
            <a:ext cx="3494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828800" y="1369800"/>
            <a:ext cx="7313760" cy="6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1828800" y="2133360"/>
            <a:ext cx="7161120" cy="452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828800" y="1369800"/>
            <a:ext cx="7313760" cy="6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828800" y="2133360"/>
            <a:ext cx="3494520" cy="45241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498280" y="2133360"/>
            <a:ext cx="3494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498280" y="4496760"/>
            <a:ext cx="3494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828800" y="1369800"/>
            <a:ext cx="7313760" cy="6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828800" y="2133360"/>
            <a:ext cx="3494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498280" y="2133360"/>
            <a:ext cx="3494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828800" y="4496760"/>
            <a:ext cx="71611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828800" y="1369800"/>
            <a:ext cx="7313760" cy="6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828800" y="2133360"/>
            <a:ext cx="71611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1828800" y="4496760"/>
            <a:ext cx="71611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828800" y="1369800"/>
            <a:ext cx="7313760" cy="6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828800" y="2133360"/>
            <a:ext cx="3494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498280" y="2133360"/>
            <a:ext cx="3494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828800" y="4496760"/>
            <a:ext cx="3494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498280" y="4496760"/>
            <a:ext cx="3494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828800" y="1369800"/>
            <a:ext cx="7313760" cy="6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828800" y="2133360"/>
            <a:ext cx="23058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250160" y="2133360"/>
            <a:ext cx="23058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671880" y="2133360"/>
            <a:ext cx="23058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1828800" y="4496760"/>
            <a:ext cx="23058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4250160" y="4496760"/>
            <a:ext cx="23058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671880" y="4496760"/>
            <a:ext cx="23058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828800" y="1369800"/>
            <a:ext cx="7313760" cy="6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828800" y="2133360"/>
            <a:ext cx="7161120" cy="45241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828800" y="1369800"/>
            <a:ext cx="7313760" cy="6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828800" y="2133360"/>
            <a:ext cx="3494520" cy="45241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498280" y="2133360"/>
            <a:ext cx="3494520" cy="45241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828800" y="1369800"/>
            <a:ext cx="7313760" cy="6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1828800" y="1369800"/>
            <a:ext cx="7313760" cy="297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8800" y="1369800"/>
            <a:ext cx="7313760" cy="6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8800" y="2133360"/>
            <a:ext cx="3494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98280" y="2133360"/>
            <a:ext cx="3494520" cy="45241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828800" y="4496760"/>
            <a:ext cx="3494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828800" y="1369800"/>
            <a:ext cx="7313760" cy="6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828800" y="2133360"/>
            <a:ext cx="3494520" cy="45241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498280" y="2133360"/>
            <a:ext cx="3494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498280" y="4496760"/>
            <a:ext cx="3494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8800" y="1369800"/>
            <a:ext cx="7313760" cy="6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8800" y="2133360"/>
            <a:ext cx="3494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498280" y="2133360"/>
            <a:ext cx="3494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828800" y="4496760"/>
            <a:ext cx="71611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1292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1295280" y="1752480"/>
            <a:ext cx="7848720" cy="3505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183883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828800" y="1369800"/>
            <a:ext cx="7313760" cy="6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828800" y="2133360"/>
            <a:ext cx="7161120" cy="45241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18388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18388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18388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18388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18388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18388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18388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0" y="6613560"/>
            <a:ext cx="9144000" cy="24444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5800" bIns="468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Ермакова Надежда Яковлевна</a:t>
            </a:r>
            <a:endParaRPr b="0" lang="en-US" sz="1000" spc="-1" strike="noStrike">
              <a:solidFill>
                <a:srgbClr val="183883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433520" y="6159600"/>
            <a:ext cx="65160" cy="65160"/>
          </a:xfrm>
          <a:prstGeom prst="ellipse">
            <a:avLst/>
          </a:prstGeom>
          <a:solidFill>
            <a:srgbClr val="bdd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183883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2193840" y="6159600"/>
            <a:ext cx="65160" cy="65160"/>
          </a:xfrm>
          <a:prstGeom prst="ellipse">
            <a:avLst/>
          </a:prstGeom>
          <a:solidFill>
            <a:srgbClr val="bdd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183883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2954160" y="6159600"/>
            <a:ext cx="65160" cy="65160"/>
          </a:xfrm>
          <a:prstGeom prst="ellipse">
            <a:avLst/>
          </a:prstGeom>
          <a:solidFill>
            <a:srgbClr val="bdd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183883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3714840" y="6159600"/>
            <a:ext cx="65160" cy="65160"/>
          </a:xfrm>
          <a:prstGeom prst="ellipse">
            <a:avLst/>
          </a:prstGeom>
          <a:solidFill>
            <a:srgbClr val="bdd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183883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4475160" y="6159600"/>
            <a:ext cx="65160" cy="65160"/>
          </a:xfrm>
          <a:prstGeom prst="ellipse">
            <a:avLst/>
          </a:prstGeom>
          <a:solidFill>
            <a:srgbClr val="bdd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183883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5237280" y="6159600"/>
            <a:ext cx="64800" cy="65160"/>
          </a:xfrm>
          <a:prstGeom prst="ellipse">
            <a:avLst/>
          </a:prstGeom>
          <a:solidFill>
            <a:srgbClr val="bdd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183883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>
            <a:off x="5997600" y="6159600"/>
            <a:ext cx="65160" cy="65160"/>
          </a:xfrm>
          <a:prstGeom prst="ellipse">
            <a:avLst/>
          </a:prstGeom>
          <a:solidFill>
            <a:srgbClr val="bdd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183883"/>
              </a:solidFill>
              <a:latin typeface="Arial"/>
            </a:endParaRPr>
          </a:p>
        </p:txBody>
      </p:sp>
      <p:sp>
        <p:nvSpPr>
          <p:cNvPr id="12" name=""/>
          <p:cNvSpPr/>
          <p:nvPr/>
        </p:nvSpPr>
        <p:spPr>
          <a:xfrm>
            <a:off x="6757920" y="6159600"/>
            <a:ext cx="65160" cy="65160"/>
          </a:xfrm>
          <a:prstGeom prst="ellipse">
            <a:avLst/>
          </a:prstGeom>
          <a:solidFill>
            <a:srgbClr val="bdd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183883"/>
              </a:solidFill>
              <a:latin typeface="Arial"/>
            </a:endParaRPr>
          </a:p>
        </p:txBody>
      </p:sp>
      <p:sp>
        <p:nvSpPr>
          <p:cNvPr id="13" name=""/>
          <p:cNvSpPr/>
          <p:nvPr/>
        </p:nvSpPr>
        <p:spPr>
          <a:xfrm>
            <a:off x="7518240" y="6159600"/>
            <a:ext cx="65160" cy="65160"/>
          </a:xfrm>
          <a:prstGeom prst="ellipse">
            <a:avLst/>
          </a:prstGeom>
          <a:solidFill>
            <a:srgbClr val="bdd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183883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280360" y="6159600"/>
            <a:ext cx="65160" cy="65160"/>
          </a:xfrm>
          <a:prstGeom prst="ellipse">
            <a:avLst/>
          </a:prstGeom>
          <a:solidFill>
            <a:srgbClr val="bdd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183883"/>
              </a:solidFill>
              <a:latin typeface="Arial"/>
            </a:endParaRPr>
          </a:p>
        </p:txBody>
      </p:sp>
      <p:pic>
        <p:nvPicPr>
          <p:cNvPr id="15" name="" descr=""/>
          <p:cNvPicPr/>
          <p:nvPr/>
        </p:nvPicPr>
        <p:blipFill>
          <a:blip r:embed="rId3"/>
          <a:stretch/>
        </p:blipFill>
        <p:spPr>
          <a:xfrm>
            <a:off x="73080" y="71280"/>
            <a:ext cx="1230120" cy="1260720"/>
          </a:xfrm>
          <a:prstGeom prst="rect">
            <a:avLst/>
          </a:prstGeom>
          <a:ln w="0">
            <a:noFill/>
          </a:ln>
        </p:spPr>
      </p:pic>
      <p:pic>
        <p:nvPicPr>
          <p:cNvPr id="16" name="" descr=""/>
          <p:cNvPicPr/>
          <p:nvPr/>
        </p:nvPicPr>
        <p:blipFill>
          <a:blip r:embed="rId4"/>
          <a:stretch/>
        </p:blipFill>
        <p:spPr>
          <a:xfrm>
            <a:off x="5724360" y="1979640"/>
            <a:ext cx="3600720" cy="3600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1292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0" y="6613560"/>
            <a:ext cx="9144000" cy="24444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5800" bIns="468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Ермакова Надежда Яковлевна</a:t>
            </a:r>
            <a:endParaRPr b="0" lang="en-US" sz="1000" spc="-1" strike="noStrike">
              <a:solidFill>
                <a:srgbClr val="183883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428640" y="3580920"/>
            <a:ext cx="5713560" cy="146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18388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18388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18388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18388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18388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18388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18388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71280" y="71280"/>
            <a:ext cx="1230480" cy="1260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476360" y="1413000"/>
            <a:ext cx="6781680" cy="160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1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4800" spc="-1" strike="noStrike">
                <a:solidFill>
                  <a:srgbClr val="fcab1a"/>
                </a:solidFill>
                <a:latin typeface="Verdana"/>
              </a:rPr>
              <a:t>Кто лучше знает Германию</a:t>
            </a:r>
            <a:br>
              <a:rPr sz="4800"/>
            </a:br>
            <a:r>
              <a:rPr b="1" lang="en-GB" sz="4800" spc="-1" strike="noStrike">
                <a:solidFill>
                  <a:srgbClr val="fcab1a"/>
                </a:solidFill>
                <a:latin typeface="Verdana"/>
              </a:rPr>
              <a:t>Wissenstoto</a:t>
            </a:r>
            <a:br>
              <a:rPr sz="4800"/>
            </a:br>
            <a:r>
              <a:rPr b="1" lang="en-GB" sz="4000" spc="-1" strike="noStrike">
                <a:solidFill>
                  <a:srgbClr val="000080"/>
                </a:solidFill>
                <a:latin typeface="Verdana"/>
              </a:rPr>
              <a:t>Wer weiß mehr?</a:t>
            </a:r>
            <a:br>
              <a:rPr sz="4000"/>
            </a:br>
            <a:br>
              <a:rPr sz="4000"/>
            </a:br>
            <a:r>
              <a:rPr b="1" lang="en-GB" sz="4000" spc="-1" strike="noStrike">
                <a:solidFill>
                  <a:srgbClr val="000080"/>
                </a:solidFill>
                <a:latin typeface="Verdana"/>
              </a:rPr>
              <a:t>II </a:t>
            </a:r>
            <a:r>
              <a:rPr b="1" lang="ru-RU" sz="4000" spc="-1" strike="noStrike">
                <a:solidFill>
                  <a:srgbClr val="000080"/>
                </a:solidFill>
                <a:latin typeface="Verdana"/>
              </a:rPr>
              <a:t>тур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828800" y="1387080"/>
            <a:ext cx="7315200" cy="60660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txBody>
          <a:bodyPr lIns="198000" rIns="90000" tIns="7848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Вопрос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№ 9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00000" y="2133720"/>
            <a:ext cx="55800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4440" bIns="46800" anchor="t">
            <a:normAutofit fontScale="97000"/>
          </a:bodyPr>
          <a:p>
            <a:pPr marL="33264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183883"/>
                </a:solidFill>
                <a:latin typeface="Arial"/>
              </a:rPr>
              <a:t>Wodurch ist R</a:t>
            </a:r>
            <a:r>
              <a:rPr b="1" lang="de-DE" sz="2400" spc="-1" strike="noStrike">
                <a:solidFill>
                  <a:srgbClr val="183883"/>
                </a:solidFill>
                <a:latin typeface="Arial"/>
              </a:rPr>
              <a:t>öntgen weltbekannt geworden</a:t>
            </a:r>
            <a:r>
              <a:rPr b="1" lang="en-US" sz="2400" spc="-1" strike="noStrike">
                <a:solidFill>
                  <a:srgbClr val="183883"/>
                </a:solidFill>
                <a:latin typeface="Arial"/>
              </a:rPr>
              <a:t>? </a:t>
            </a: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  <a:p>
            <a:pPr marL="33264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  <a:p>
            <a:pPr marL="33264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183883"/>
                </a:solidFill>
                <a:latin typeface="Arial"/>
              </a:rPr>
              <a:t>A: durch die Entdekung von X – Strahlen</a:t>
            </a: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  <a:p>
            <a:pPr marL="33264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183883"/>
                </a:solidFill>
                <a:latin typeface="Arial"/>
              </a:rPr>
              <a:t>B: durch die Relativit</a:t>
            </a:r>
            <a:r>
              <a:rPr b="1" lang="de-DE" sz="2400" spc="-1" strike="noStrike">
                <a:solidFill>
                  <a:srgbClr val="183883"/>
                </a:solidFill>
                <a:latin typeface="Arial"/>
              </a:rPr>
              <a:t>ätstheorie</a:t>
            </a: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  <a:p>
            <a:pPr marL="33264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de-DE" sz="2400" spc="-1" strike="noStrike">
                <a:solidFill>
                  <a:srgbClr val="183883"/>
                </a:solidFill>
                <a:latin typeface="Arial"/>
              </a:rPr>
              <a:t>C: </a:t>
            </a:r>
            <a:r>
              <a:rPr b="1" lang="en-US" sz="2400" spc="-1" strike="noStrike">
                <a:solidFill>
                  <a:srgbClr val="183883"/>
                </a:solidFill>
                <a:latin typeface="Arial"/>
              </a:rPr>
              <a:t>durch die Methode f</a:t>
            </a:r>
            <a:r>
              <a:rPr b="1" lang="de-DE" sz="2400" spc="-1" strike="noStrike">
                <a:solidFill>
                  <a:srgbClr val="183883"/>
                </a:solidFill>
                <a:latin typeface="Arial"/>
              </a:rPr>
              <a:t>ür galwanische Vergeldung und Versilberung</a:t>
            </a: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  <a:p>
            <a:pPr marL="33264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de-DE" sz="2400" spc="-1" strike="noStrike">
                <a:solidFill>
                  <a:srgbClr val="183883"/>
                </a:solidFill>
                <a:latin typeface="Arial"/>
              </a:rPr>
              <a:t>D: </a:t>
            </a:r>
            <a:r>
              <a:rPr b="1" lang="en-US" sz="2400" spc="-1" strike="noStrike">
                <a:solidFill>
                  <a:srgbClr val="183883"/>
                </a:solidFill>
                <a:latin typeface="Arial"/>
              </a:rPr>
              <a:t>durch die Erfindung der elektrischen Eisenbahn</a:t>
            </a: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  <a:p>
            <a:pPr marL="33264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  <a:p>
            <a:pPr marL="33264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183883"/>
              </a:solidFill>
              <a:latin typeface="Arial"/>
            </a:endParaRPr>
          </a:p>
          <a:p>
            <a:pPr marL="33264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183883"/>
              </a:solidFill>
              <a:latin typeface="Arial"/>
            </a:endParaRPr>
          </a:p>
          <a:p>
            <a:pPr marL="33264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183883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828800" y="1387080"/>
            <a:ext cx="7315200" cy="60660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txBody>
          <a:bodyPr lIns="198000" rIns="90000" tIns="7848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Вопрос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№ 1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00000" y="2133720"/>
            <a:ext cx="55800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444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183883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183883"/>
                </a:solidFill>
                <a:latin typeface="Arial"/>
              </a:rPr>
              <a:t>Immanuei Kant ist ein hervorragende Vertreter der deutschen … </a:t>
            </a: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183883"/>
                </a:solidFill>
                <a:latin typeface="Arial"/>
              </a:rPr>
              <a:t>A: Philosophie</a:t>
            </a: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183883"/>
                </a:solidFill>
                <a:latin typeface="Arial"/>
              </a:rPr>
              <a:t>B: Litteratur</a:t>
            </a: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183883"/>
                </a:solidFill>
                <a:latin typeface="Arial"/>
              </a:rPr>
              <a:t>C: Physik</a:t>
            </a: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183883"/>
                </a:solidFill>
                <a:latin typeface="Arial"/>
              </a:rPr>
              <a:t>D: Mathematik</a:t>
            </a: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828800" y="1387080"/>
            <a:ext cx="7315200" cy="60660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txBody>
          <a:bodyPr lIns="198000" rIns="90000" tIns="7848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Вопрос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№ 1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00000" y="2133720"/>
            <a:ext cx="55800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444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183883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183883"/>
                </a:solidFill>
                <a:latin typeface="Arial"/>
              </a:rPr>
              <a:t>Die Mauer fiel …</a:t>
            </a: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183883"/>
                </a:solidFill>
                <a:latin typeface="Arial"/>
              </a:rPr>
              <a:t>A: am 9. November 1989</a:t>
            </a: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183883"/>
                </a:solidFill>
                <a:latin typeface="Arial"/>
              </a:rPr>
              <a:t>B: am 13. August 1961</a:t>
            </a: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183883"/>
                </a:solidFill>
                <a:latin typeface="Arial"/>
              </a:rPr>
              <a:t>C: am 6. Januar 1972</a:t>
            </a: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183883"/>
                </a:solidFill>
                <a:latin typeface="Arial"/>
              </a:rPr>
              <a:t>D:  am 1. April 1968</a:t>
            </a: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183883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183883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183883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183883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828800" y="1387080"/>
            <a:ext cx="7315200" cy="60660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txBody>
          <a:bodyPr lIns="198000" rIns="90000" tIns="7848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Вопрос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№ 1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00000" y="2133720"/>
            <a:ext cx="55800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444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183883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183883"/>
                </a:solidFill>
                <a:latin typeface="Arial"/>
              </a:rPr>
              <a:t>Das h</a:t>
            </a:r>
            <a:r>
              <a:rPr b="1" lang="de-DE" sz="2400" spc="-1" strike="noStrike">
                <a:solidFill>
                  <a:srgbClr val="183883"/>
                </a:solidFill>
                <a:latin typeface="Arial"/>
              </a:rPr>
              <a:t>öchste gesetzgebende Organ ist …</a:t>
            </a: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de-DE" sz="2400" spc="-1" strike="noStrike">
                <a:solidFill>
                  <a:srgbClr val="183883"/>
                </a:solidFill>
                <a:latin typeface="Arial"/>
              </a:rPr>
              <a:t>A: Bundesregierung</a:t>
            </a: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de-DE" sz="2400" spc="-1" strike="noStrike">
                <a:solidFill>
                  <a:srgbClr val="183883"/>
                </a:solidFill>
                <a:latin typeface="Arial"/>
              </a:rPr>
              <a:t>B: Bundesrat</a:t>
            </a: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de-DE" sz="2400" spc="-1" strike="noStrike">
                <a:solidFill>
                  <a:srgbClr val="183883"/>
                </a:solidFill>
                <a:latin typeface="Arial"/>
              </a:rPr>
              <a:t>C: Bundestag</a:t>
            </a: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de-DE" sz="2400" spc="-1" strike="noStrike">
                <a:solidFill>
                  <a:srgbClr val="183883"/>
                </a:solidFill>
                <a:latin typeface="Arial"/>
              </a:rPr>
              <a:t>D: Bundesversammlung</a:t>
            </a:r>
            <a:r>
              <a:rPr b="1" lang="ru-RU" sz="2400" spc="-1" strike="noStrike">
                <a:solidFill>
                  <a:srgbClr val="18388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828800" y="1387080"/>
            <a:ext cx="7315200" cy="60660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txBody>
          <a:bodyPr lIns="198000" rIns="90000" tIns="7848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Вопрос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№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1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00000" y="2133720"/>
            <a:ext cx="55800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444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183883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183883"/>
                </a:solidFill>
                <a:latin typeface="Arial"/>
              </a:rPr>
              <a:t>Die Stadt Bonn ist mit dem Namen … verbunden.</a:t>
            </a: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183883"/>
                </a:solidFill>
                <a:latin typeface="Arial"/>
              </a:rPr>
              <a:t>A: von Humbolt</a:t>
            </a: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183883"/>
                </a:solidFill>
                <a:latin typeface="Arial"/>
              </a:rPr>
              <a:t>B: von Ludwig von Bethoven</a:t>
            </a: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183883"/>
                </a:solidFill>
                <a:latin typeface="Arial"/>
              </a:rPr>
              <a:t>C: von Mozart</a:t>
            </a: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183883"/>
                </a:solidFill>
                <a:latin typeface="Arial"/>
              </a:rPr>
              <a:t>D: von Joseph Haydn</a:t>
            </a: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828800" y="1387080"/>
            <a:ext cx="7315200" cy="60660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txBody>
          <a:bodyPr lIns="198000" rIns="90000" tIns="7848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Вопрос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№ 1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00000" y="2133720"/>
            <a:ext cx="55800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444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183883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de-DE" sz="2400" spc="-1" strike="noStrike">
                <a:solidFill>
                  <a:srgbClr val="183883"/>
                </a:solidFill>
                <a:latin typeface="Arial"/>
              </a:rPr>
              <a:t>… </a:t>
            </a:r>
            <a:r>
              <a:rPr b="1" lang="de-DE" sz="2400" spc="-1" strike="noStrike">
                <a:solidFill>
                  <a:srgbClr val="183883"/>
                </a:solidFill>
                <a:latin typeface="Arial"/>
              </a:rPr>
              <a:t>besucht die deutschen Kinder zu Ostern.</a:t>
            </a: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de-DE" sz="2400" spc="-1" strike="noStrike">
                <a:solidFill>
                  <a:srgbClr val="183883"/>
                </a:solidFill>
                <a:latin typeface="Arial"/>
              </a:rPr>
              <a:t>A: der Krokodil</a:t>
            </a: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de-DE" sz="2400" spc="-1" strike="noStrike">
                <a:solidFill>
                  <a:srgbClr val="183883"/>
                </a:solidFill>
                <a:latin typeface="Arial"/>
              </a:rPr>
              <a:t>B: der Elefant</a:t>
            </a: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de-DE" sz="2400" spc="-1" strike="noStrike">
                <a:solidFill>
                  <a:srgbClr val="183883"/>
                </a:solidFill>
                <a:latin typeface="Arial"/>
              </a:rPr>
              <a:t>C: der Hase</a:t>
            </a: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de-DE" sz="2400" spc="-1" strike="noStrike">
                <a:solidFill>
                  <a:srgbClr val="183883"/>
                </a:solidFill>
                <a:latin typeface="Arial"/>
              </a:rPr>
              <a:t>D: der Hund</a:t>
            </a: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828800" y="1387080"/>
            <a:ext cx="7315200" cy="60660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txBody>
          <a:bodyPr lIns="198000" rIns="90000" tIns="7848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Вопрос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№ 1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36720" y="2133720"/>
            <a:ext cx="5364000" cy="45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192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183883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de-DE" sz="2400" spc="-1" strike="noStrike">
                <a:solidFill>
                  <a:srgbClr val="183883"/>
                </a:solidFill>
                <a:latin typeface="Arial"/>
              </a:rPr>
              <a:t>Die Stadtmusikanten sind das Wahrzeichen von …</a:t>
            </a: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de-DE" sz="2400" spc="-1" strike="noStrike">
                <a:solidFill>
                  <a:srgbClr val="183883"/>
                </a:solidFill>
                <a:latin typeface="Arial"/>
              </a:rPr>
              <a:t>A: Berlin</a:t>
            </a: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de-DE" sz="2400" spc="-1" strike="noStrike">
                <a:solidFill>
                  <a:srgbClr val="183883"/>
                </a:solidFill>
                <a:latin typeface="Arial"/>
              </a:rPr>
              <a:t>B: Dresden</a:t>
            </a: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de-DE" sz="2400" spc="-1" strike="noStrike">
                <a:solidFill>
                  <a:srgbClr val="183883"/>
                </a:solidFill>
                <a:latin typeface="Arial"/>
              </a:rPr>
              <a:t>C: Düsseldorf</a:t>
            </a: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de-DE" sz="2400" spc="-1" strike="noStrike">
                <a:solidFill>
                  <a:srgbClr val="183883"/>
                </a:solidFill>
                <a:latin typeface="Arial"/>
              </a:rPr>
              <a:t>D: Bremen</a:t>
            </a: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828800" y="1387080"/>
            <a:ext cx="7315200" cy="60660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txBody>
          <a:bodyPr lIns="198000" rIns="90000" tIns="7848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Вопрос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№ </a:t>
            </a: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828440" y="2133720"/>
            <a:ext cx="41115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444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183883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de-DE" sz="2400" spc="-1" strike="noStrike">
                <a:solidFill>
                  <a:srgbClr val="183883"/>
                </a:solidFill>
                <a:latin typeface="Arial"/>
              </a:rPr>
              <a:t>Wann feiert man Ostern?</a:t>
            </a: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183883"/>
                </a:solidFill>
                <a:latin typeface="Arial"/>
              </a:rPr>
              <a:t>A: Im Sommer</a:t>
            </a: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183883"/>
                </a:solidFill>
                <a:latin typeface="Arial"/>
              </a:rPr>
              <a:t>B: Im Winter</a:t>
            </a: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183883"/>
                </a:solidFill>
                <a:latin typeface="Arial"/>
              </a:rPr>
              <a:t>C: Im Frühling</a:t>
            </a: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183883"/>
                </a:solidFill>
                <a:latin typeface="Arial"/>
              </a:rPr>
              <a:t>D: Im Herbst</a:t>
            </a: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828800" y="1387080"/>
            <a:ext cx="7315200" cy="60660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txBody>
          <a:bodyPr lIns="198000" rIns="90000" tIns="7848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Вопрос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№ 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99640" y="2133720"/>
            <a:ext cx="5759640" cy="412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444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183883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183883"/>
                </a:solidFill>
                <a:latin typeface="Arial"/>
              </a:rPr>
              <a:t>Wo befindet sich der Sitz der Regierung der Bundesrepublik Deutschland</a:t>
            </a:r>
            <a:r>
              <a:rPr b="1" lang="de-DE" sz="2400" spc="-1" strike="noStrike">
                <a:solidFill>
                  <a:srgbClr val="183883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183883"/>
                </a:solidFill>
                <a:latin typeface="Arial"/>
              </a:rPr>
              <a:t>A: in Berlin</a:t>
            </a: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183883"/>
                </a:solidFill>
                <a:latin typeface="Arial"/>
              </a:rPr>
              <a:t>B: in </a:t>
            </a:r>
            <a:r>
              <a:rPr b="1" lang="de-DE" sz="2400" spc="-1" strike="noStrike">
                <a:solidFill>
                  <a:srgbClr val="183883"/>
                </a:solidFill>
                <a:latin typeface="Arial"/>
              </a:rPr>
              <a:t>München</a:t>
            </a:r>
            <a:r>
              <a:rPr b="1" lang="ru-RU" sz="2400" spc="-1" strike="noStrike">
                <a:solidFill>
                  <a:srgbClr val="18388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183883"/>
                </a:solidFill>
                <a:latin typeface="Arial"/>
              </a:rPr>
              <a:t>C: in Bonn</a:t>
            </a: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183883"/>
                </a:solidFill>
                <a:latin typeface="Arial"/>
              </a:rPr>
              <a:t>D: in Bremen</a:t>
            </a: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828800" y="1387080"/>
            <a:ext cx="7315200" cy="60660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txBody>
          <a:bodyPr lIns="198000" rIns="90000" tIns="7848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Вопрос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№ 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99640" y="2133720"/>
            <a:ext cx="57596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444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183883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183883"/>
                </a:solidFill>
                <a:latin typeface="Arial"/>
              </a:rPr>
              <a:t>Aus welchem Land stammte die russische Zarin Katharine II?</a:t>
            </a: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183883"/>
                </a:solidFill>
                <a:latin typeface="Arial"/>
              </a:rPr>
              <a:t>A: aus Sachsen </a:t>
            </a: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183883"/>
                </a:solidFill>
                <a:latin typeface="Arial"/>
              </a:rPr>
              <a:t>B: aus Sachsen-Anhalt</a:t>
            </a: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183883"/>
                </a:solidFill>
                <a:latin typeface="Arial"/>
              </a:rPr>
              <a:t>C: aus Bayern</a:t>
            </a: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183883"/>
                </a:solidFill>
                <a:latin typeface="Arial"/>
              </a:rPr>
              <a:t>D: aus Saarland</a:t>
            </a: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828800" y="1387080"/>
            <a:ext cx="7315200" cy="60660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txBody>
          <a:bodyPr lIns="198000" rIns="90000" tIns="7848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Вопрос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№ 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5580000" cy="41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444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183883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183883"/>
                </a:solidFill>
                <a:latin typeface="Arial"/>
              </a:rPr>
              <a:t>Wo werden die weltbekannten Autos Marke BMW hergestellt?</a:t>
            </a: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183883"/>
                </a:solidFill>
                <a:latin typeface="Arial"/>
              </a:rPr>
              <a:t>A: in Bayern</a:t>
            </a: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183883"/>
                </a:solidFill>
                <a:latin typeface="Arial"/>
              </a:rPr>
              <a:t>B: in Bremen</a:t>
            </a: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183883"/>
                </a:solidFill>
                <a:latin typeface="Arial"/>
              </a:rPr>
              <a:t>C: in Brandenburg</a:t>
            </a: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183883"/>
                </a:solidFill>
                <a:latin typeface="Arial"/>
              </a:rPr>
              <a:t>D: in Essen</a:t>
            </a: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828800" y="1387080"/>
            <a:ext cx="7315200" cy="60660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txBody>
          <a:bodyPr lIns="198000" rIns="90000" tIns="7848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Вопрос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№ 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00000" y="2133720"/>
            <a:ext cx="55800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444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183883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183883"/>
                </a:solidFill>
                <a:latin typeface="Arial"/>
              </a:rPr>
              <a:t>Der Alexanderplatz in Berlin tr</a:t>
            </a:r>
            <a:r>
              <a:rPr b="1" lang="de-DE" sz="2400" spc="-1" strike="noStrike">
                <a:solidFill>
                  <a:srgbClr val="183883"/>
                </a:solidFill>
                <a:latin typeface="Arial"/>
              </a:rPr>
              <a:t>ägt</a:t>
            </a:r>
            <a:r>
              <a:rPr b="1" lang="ru-RU" sz="2400" spc="-1" strike="noStrike">
                <a:solidFill>
                  <a:srgbClr val="183883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183883"/>
                </a:solidFill>
                <a:latin typeface="Arial"/>
              </a:rPr>
              <a:t>den Namendes russischen Zaren … </a:t>
            </a: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de-DE" sz="2400" spc="-1" strike="noStrike">
                <a:solidFill>
                  <a:srgbClr val="183883"/>
                </a:solidFill>
                <a:latin typeface="Arial"/>
              </a:rPr>
              <a:t>A: </a:t>
            </a:r>
            <a:r>
              <a:rPr b="1" lang="en-US" sz="2400" spc="-1" strike="noStrike">
                <a:solidFill>
                  <a:srgbClr val="183883"/>
                </a:solidFill>
                <a:latin typeface="Arial"/>
              </a:rPr>
              <a:t>Alexander des Zweiten</a:t>
            </a: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183883"/>
                </a:solidFill>
                <a:latin typeface="Arial"/>
              </a:rPr>
              <a:t>B: Alexander des Ersten</a:t>
            </a: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183883"/>
                </a:solidFill>
                <a:latin typeface="Arial"/>
              </a:rPr>
              <a:t>C: Alexander des Dritten </a:t>
            </a: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183883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183883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828800" y="1387080"/>
            <a:ext cx="7315200" cy="60660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txBody>
          <a:bodyPr lIns="198000" rIns="90000" tIns="7848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Вопрос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№ 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00000" y="2133720"/>
            <a:ext cx="55800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444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183883"/>
                </a:solidFill>
                <a:latin typeface="Arial"/>
              </a:rPr>
              <a:t>Nach welcher Stadt ist das </a:t>
            </a:r>
            <a:r>
              <a:rPr b="1" lang="ru-RU" sz="2400" spc="-1" strike="noStrike">
                <a:solidFill>
                  <a:srgbClr val="183883"/>
                </a:solidFill>
                <a:latin typeface="Arial"/>
              </a:rPr>
              <a:t>«</a:t>
            </a:r>
            <a:r>
              <a:rPr b="1" lang="en-US" sz="2400" spc="-1" strike="noStrike">
                <a:solidFill>
                  <a:srgbClr val="183883"/>
                </a:solidFill>
                <a:latin typeface="Arial"/>
              </a:rPr>
              <a:t>Eau de Cologne</a:t>
            </a:r>
            <a:r>
              <a:rPr b="1" lang="ru-RU" sz="2400" spc="-1" strike="noStrike">
                <a:solidFill>
                  <a:srgbClr val="183883"/>
                </a:solidFill>
                <a:latin typeface="Arial"/>
              </a:rPr>
              <a:t>»</a:t>
            </a:r>
            <a:r>
              <a:rPr b="1" lang="en-US" sz="2400" spc="-1" strike="noStrike">
                <a:solidFill>
                  <a:srgbClr val="183883"/>
                </a:solidFill>
                <a:latin typeface="Arial"/>
              </a:rPr>
              <a:t> bekannt?</a:t>
            </a: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183883"/>
                </a:solidFill>
                <a:latin typeface="Arial"/>
              </a:rPr>
              <a:t>A: Bonn</a:t>
            </a: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183883"/>
                </a:solidFill>
                <a:latin typeface="Arial"/>
              </a:rPr>
              <a:t>B: Kiel</a:t>
            </a: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183883"/>
                </a:solidFill>
                <a:latin typeface="Arial"/>
              </a:rPr>
              <a:t>C: </a:t>
            </a:r>
            <a:r>
              <a:rPr b="1" lang="de-DE" sz="2400" spc="-1" strike="noStrike">
                <a:solidFill>
                  <a:srgbClr val="183883"/>
                </a:solidFill>
                <a:latin typeface="Arial"/>
              </a:rPr>
              <a:t>Köln</a:t>
            </a:r>
            <a:r>
              <a:rPr b="1" lang="ru-RU" sz="2400" spc="-1" strike="noStrike">
                <a:solidFill>
                  <a:srgbClr val="18388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183883"/>
                </a:solidFill>
                <a:latin typeface="Arial"/>
              </a:rPr>
              <a:t>D: D</a:t>
            </a:r>
            <a:r>
              <a:rPr b="1" lang="de-DE" sz="2400" spc="-1" strike="noStrike">
                <a:solidFill>
                  <a:srgbClr val="183883"/>
                </a:solidFill>
                <a:latin typeface="Arial"/>
              </a:rPr>
              <a:t>üsseldorf</a:t>
            </a:r>
            <a:r>
              <a:rPr b="1" lang="ru-RU" sz="2400" spc="-1" strike="noStrike">
                <a:solidFill>
                  <a:srgbClr val="18388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828800" y="1387080"/>
            <a:ext cx="7315200" cy="60660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txBody>
          <a:bodyPr lIns="198000" rIns="90000" tIns="7848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Вопрос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№ 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00000" y="2133720"/>
            <a:ext cx="55800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444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183883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183883"/>
                </a:solidFill>
                <a:latin typeface="Arial"/>
              </a:rPr>
              <a:t>Das Bundesland, dessen Hauptstadt </a:t>
            </a:r>
            <a:r>
              <a:rPr b="1" lang="de-DE" sz="2400" spc="-1" strike="noStrike">
                <a:solidFill>
                  <a:srgbClr val="183883"/>
                </a:solidFill>
                <a:latin typeface="Arial"/>
              </a:rPr>
              <a:t>München</a:t>
            </a:r>
            <a:r>
              <a:rPr b="1" lang="ru-RU" sz="2400" spc="-1" strike="noStrike">
                <a:solidFill>
                  <a:srgbClr val="183883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183883"/>
                </a:solidFill>
                <a:latin typeface="Arial"/>
              </a:rPr>
              <a:t>ist, hei</a:t>
            </a:r>
            <a:r>
              <a:rPr b="1" lang="de-DE" sz="2400" spc="-1" strike="noStrike">
                <a:solidFill>
                  <a:srgbClr val="183883"/>
                </a:solidFill>
                <a:latin typeface="Arial"/>
              </a:rPr>
              <a:t>ß</a:t>
            </a:r>
            <a:r>
              <a:rPr b="1" lang="en-US" sz="2400" spc="-1" strike="noStrike">
                <a:solidFill>
                  <a:srgbClr val="183883"/>
                </a:solidFill>
                <a:latin typeface="Arial"/>
              </a:rPr>
              <a:t>t …</a:t>
            </a: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183883"/>
                </a:solidFill>
                <a:latin typeface="Arial"/>
              </a:rPr>
              <a:t>A: Bayern</a:t>
            </a: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183883"/>
                </a:solidFill>
                <a:latin typeface="Arial"/>
              </a:rPr>
              <a:t>B: Sachsen</a:t>
            </a: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183883"/>
                </a:solidFill>
                <a:latin typeface="Arial"/>
              </a:rPr>
              <a:t>C: Hessen</a:t>
            </a: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183883"/>
                </a:solidFill>
                <a:latin typeface="Arial"/>
              </a:rPr>
              <a:t>D: Niedersachsen</a:t>
            </a: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183883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183883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183883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828800" y="1387080"/>
            <a:ext cx="7315200" cy="60660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txBody>
          <a:bodyPr lIns="198000" rIns="90000" tIns="7848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Вопрос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№ 8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00000" y="2133720"/>
            <a:ext cx="55800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444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183883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183883"/>
                </a:solidFill>
                <a:latin typeface="Arial"/>
              </a:rPr>
              <a:t>Nach Abschluss welchen Schultyps kann man an der Universit</a:t>
            </a:r>
            <a:r>
              <a:rPr b="1" lang="de-DE" sz="2400" spc="-1" strike="noStrike">
                <a:solidFill>
                  <a:srgbClr val="183883"/>
                </a:solidFill>
                <a:latin typeface="Arial"/>
              </a:rPr>
              <a:t>ä</a:t>
            </a:r>
            <a:r>
              <a:rPr b="1" lang="en-US" sz="2400" spc="-1" strike="noStrike">
                <a:solidFill>
                  <a:srgbClr val="183883"/>
                </a:solidFill>
                <a:latin typeface="Arial"/>
              </a:rPr>
              <a:t>t studieren?</a:t>
            </a: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183883"/>
                </a:solidFill>
                <a:latin typeface="Arial"/>
              </a:rPr>
              <a:t>A: Realschule</a:t>
            </a: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183883"/>
                </a:solidFill>
                <a:latin typeface="Arial"/>
              </a:rPr>
              <a:t>B: Gymnasium</a:t>
            </a: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183883"/>
                </a:solidFill>
                <a:latin typeface="Arial"/>
              </a:rPr>
              <a:t>C: Hauptschule</a:t>
            </a: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183883"/>
                </a:solidFill>
                <a:latin typeface="Arial"/>
              </a:rPr>
              <a:t>D: Mittelschule</a:t>
            </a: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183883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183883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8T09:06:28Z</dcterms:created>
  <dc:creator>Retina</dc:creator>
  <dc:description/>
  <dc:language>en-US</dc:language>
  <cp:lastModifiedBy>Пользователь</cp:lastModifiedBy>
  <cp:lastPrinted>2007-07-04T11:37:14Z</cp:lastPrinted>
  <dcterms:modified xsi:type="dcterms:W3CDTF">2013-03-31T13:44:02Z</dcterms:modified>
  <cp:revision>75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hecked by">
    <vt:lpwstr>Presentation Helper</vt:lpwstr>
  </property>
</Properties>
</file>