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CB9-80AF-423F-A6FC-BFD6E060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509-9273-48DB-8C90-3F6A502B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A40-9FD4-4D3E-886E-E09001A9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E1D-253E-47E4-BBF8-FE5EE432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BF0-2F31-453E-A632-4445558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1F2-9917-46B6-8B92-4D852687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174-F52E-47B5-85DE-5C0D5DE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6F7-0937-4506-A076-835CCDC7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041-31C1-4A7D-92A4-7770F03F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4F8-6B6C-430C-8962-65F7505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478-E533-4609-AC3E-3A54C25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5B3-24D9-42CE-B68A-AAA7188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A941-FF17-471D-A78C-B7A1B1A71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hyperlink" Target="http://www.yandex.ru/yandpage?q=542076512&amp;p=216&amp;ag=ih&amp;rpt2=simage&amp;qs=text%3D%25C7%25C5%25D2%25CD%25C1%25CE%25C9%25D1%2B%26isize%3D%26ogo%3D5%26rpt%3Dimage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Германия, Берлин, Рейхстаг"/>
          <p:cNvPicPr/>
          <p:nvPr/>
        </p:nvPicPr>
        <p:blipFill>
          <a:blip r:embed="rId2"/>
          <a:stretch/>
        </p:blipFill>
        <p:spPr>
          <a:xfrm>
            <a:off x="5940360" y="476280"/>
            <a:ext cx="2895840" cy="202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Германия, Берлинский собор"/>
          <p:cNvPicPr/>
          <p:nvPr/>
        </p:nvPicPr>
        <p:blipFill>
          <a:blip r:embed="rId3"/>
          <a:stretch/>
        </p:blipFill>
        <p:spPr>
          <a:xfrm>
            <a:off x="3348000" y="404640"/>
            <a:ext cx="2362320" cy="25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Германия, Берлин, Дворец Шарлоттенбург"/>
          <p:cNvPicPr/>
          <p:nvPr/>
        </p:nvPicPr>
        <p:blipFill>
          <a:blip r:embed="rId4"/>
          <a:stretch/>
        </p:blipFill>
        <p:spPr>
          <a:xfrm>
            <a:off x="6012000" y="378936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16040" y="306864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Берлинский соб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4160" y="602136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ворец Шарлоттенбу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91440" y="2852640"/>
            <a:ext cx="304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Бранденбургские вор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84960" y="2852640"/>
            <a:ext cx="2227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Здание рейхст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476280"/>
            <a:ext cx="2971800" cy="196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560" y="6516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60720" y="4762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2720" y="11592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7800" y="623736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8720" y="34290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0160" y="630864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0" y="3716280"/>
            <a:ext cx="3240000" cy="244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43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3780000" y="3645000"/>
            <a:ext cx="1869840" cy="26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0880" y="64911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Fernsehetu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70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39440" y="1844640"/>
            <a:ext cx="41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 für ein groß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on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urde am 7. Ma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8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Hambu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bor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47680" y="333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0" y="90792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ams wurde am 7. Mai 18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Hamburg gebo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53400" y="4437000"/>
            <a:ext cx="365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s Deutsche Requiem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in grosser Musikstü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on Brams hat Sc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t einem Wasser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gleiche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260280"/>
            <a:ext cx="342900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4878360" cy="332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50360" y="141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440" y="2205360"/>
            <a:ext cx="735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Friedrich Schiller                 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Franz Schubert                    Bildende Ku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Gustav Klimmt                     Medi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Rudolf Diesel                       Liter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Robert Koch            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Mus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igmund Fre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us welchen Gebieten sind diese berühmte Persönlichkeiten bekan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24000" y="549360"/>
          <a:ext cx="8280000" cy="2311200"/>
        </p:xfrm>
        <a:graphic>
          <a:graphicData uri="http://schemas.openxmlformats.org/drawingml/2006/table">
            <a:tbl>
              <a:tblPr/>
              <a:tblGrid>
                <a:gridCol w="636120"/>
                <a:gridCol w="636480"/>
                <a:gridCol w="636120"/>
                <a:gridCol w="636840"/>
                <a:gridCol w="636120"/>
                <a:gridCol w="636480"/>
                <a:gridCol w="636840"/>
                <a:gridCol w="636120"/>
                <a:gridCol w="636480"/>
                <a:gridCol w="636480"/>
                <a:gridCol w="637920"/>
                <a:gridCol w="640080"/>
                <a:gridCol w="637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83520" y="4261320"/>
            <a:ext cx="906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3-5-18    6-18-5-13-4-5    19-16-18-1-3-8-5-14    14-9-3-8-20   11-5-14-14-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3-5-9-19-19   14-9-3-8-20   22-15-14   19-5-9-14-5-18   5-9-7-5-14-5-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Учитель\Рабочий стол\2006-02-14-xxl--Heinrich-heine_1[1].jpg"/>
          <p:cNvPicPr/>
          <p:nvPr/>
        </p:nvPicPr>
        <p:blipFill>
          <a:blip r:embed="rId2"/>
          <a:stretch/>
        </p:blipFill>
        <p:spPr>
          <a:xfrm>
            <a:off x="611280" y="765000"/>
            <a:ext cx="3166920" cy="52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11280" y="620640"/>
            <a:ext cx="4343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r ist A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ies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dich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2162160"/>
            <a:ext cx="47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 Fichtenbaum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 Fichtenbaum steht einsam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m Norden auf kahler Hoh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hn schlaert, mit weiser Decke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mhullen ihn Eis und Sch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 traumt von einer Palme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ie fern im Morgenland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nsam und schweigend trauert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uf brennender Felsenwand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3640" y="98100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inrich H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13. 12.1797 - 17.2.1856). Der Dichter gilt als einer bedeutendsten deutschen Schriftsteller. Er gilt als "letzter Dichter der Romantik" und gleichzeitig als ihr Überwi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338640" cy="435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Учитель\Рабочий стол\beethoven[1].jpg"/>
          <p:cNvPicPr/>
          <p:nvPr/>
        </p:nvPicPr>
        <p:blipFill>
          <a:blip r:embed="rId2"/>
          <a:stretch/>
        </p:blipFill>
        <p:spPr>
          <a:xfrm>
            <a:off x="395280" y="836640"/>
            <a:ext cx="4257720" cy="504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003280" y="1267920"/>
            <a:ext cx="3745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essen  Hymne wurde zur Hymne der Europäischen Unio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eut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92480" y="1411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24360" y="1052280"/>
            <a:ext cx="49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usikwerk wurde zur Hymne der Europäischen Union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xt: Friedrich Schiller; "An die Freude", 1. Strop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sik: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Ludwig van Beethoven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9. Symphonie, 1823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72 nahm der Europarat Beethovens "Ode an die Freude" als eigene Hymne an. 1985 wurde sie als offizielle Hymne der EU angenom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ser\Desktop\European-Union[1].jpg"/>
          <p:cNvPicPr/>
          <p:nvPr/>
        </p:nvPicPr>
        <p:blipFill>
          <a:blip r:embed="rId2"/>
          <a:srcRect l="0" t="0" r="5710" b="5901"/>
          <a:stretch/>
        </p:blipFill>
        <p:spPr>
          <a:xfrm>
            <a:off x="250920" y="1197000"/>
            <a:ext cx="3724200" cy="388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3440" y="26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Учитель\Рабочий стол\goethe_alt[1].png"/>
          <p:cNvPicPr/>
          <p:nvPr/>
        </p:nvPicPr>
        <p:blipFill>
          <a:blip r:embed="rId2"/>
          <a:stretch/>
        </p:blipFill>
        <p:spPr>
          <a:xfrm>
            <a:off x="900000" y="836640"/>
            <a:ext cx="2900520" cy="532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143240" y="1599840"/>
            <a:ext cx="484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lcher Dichter Deutschlands ist auch als Dichter, Schriftsteller, Philosoph, Sprach- und Naturwissenschaftler bekan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60720" y="3333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14520" y="1599840"/>
            <a:ext cx="4776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ohann Wolfgang von Goethe ist als Dichter, Schriftsteller, Philosoph, Sprach- und Naturwissenschaftler bekan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User\Desktop\Goethe-Netz[1].jpg"/>
          <p:cNvPicPr/>
          <p:nvPr/>
        </p:nvPicPr>
        <p:blipFill>
          <a:blip r:embed="rId2"/>
          <a:stretch/>
        </p:blipFill>
        <p:spPr>
          <a:xfrm>
            <a:off x="468360" y="692280"/>
            <a:ext cx="3800520" cy="504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9440" y="404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Учитель\Рабочий стол\schiller1[1].jpg"/>
          <p:cNvPicPr/>
          <p:nvPr/>
        </p:nvPicPr>
        <p:blipFill>
          <a:blip r:embed="rId2"/>
          <a:stretch/>
        </p:blipFill>
        <p:spPr>
          <a:xfrm>
            <a:off x="611280" y="836640"/>
            <a:ext cx="3811320" cy="489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7960" y="1600200"/>
            <a:ext cx="43434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r war durch seine Balladen  bekannt </a:t>
            </a: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3320" y="260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356000" y="404280"/>
            <a:ext cx="460872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iedrich von Schiller  (1759-1805) ist als Dichter und Schriftsteller, Mediziner und Philosoph bekan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 war einer der größten deutschen Dic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iller ist neben Goethe der wichtigste und meist gespielte Dramatiker der deutschen Klassik. Schiller hat neben zahlreichen Bearbeitungen antiker Stücke auch theoretische Schriften über die Wirkung des Theaters verfas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User\Desktop\pers-friedrich-von-schiller[1].jpg"/>
          <p:cNvPicPr/>
          <p:nvPr/>
        </p:nvPicPr>
        <p:blipFill>
          <a:blip r:embed="rId2"/>
          <a:stretch/>
        </p:blipFill>
        <p:spPr>
          <a:xfrm>
            <a:off x="468360" y="1052640"/>
            <a:ext cx="3790800" cy="4895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59680" y="2602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25:47Z</dcterms:created>
  <dc:creator>дом</dc:creator>
  <dc:description/>
  <dc:language>en-US</dc:language>
  <cp:lastModifiedBy>Пользователь</cp:lastModifiedBy>
  <dcterms:modified xsi:type="dcterms:W3CDTF">2013-03-24T11:14:51Z</dcterms:modified>
  <cp:revision>9</cp:revision>
  <dc:subject/>
  <dc:title>Слайд 1</dc:title>
</cp:coreProperties>
</file>