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CCC-B0BE-4E90-AE6A-D57F1412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05B-F6CB-4276-B289-0585AC3E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B60-2B3F-47D1-8CAB-C09AD6C2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0C2-BA00-47D9-AB23-838B9A2B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9DD-6BCC-4CD6-AC93-44213531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FE2-DD31-4108-BB32-296C5310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25F-1FCD-467E-AB3E-F06B7E07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449E-872E-4430-BA86-7238AD6E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874-415C-49B6-BA28-6045D0C5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172-D8A8-4FE5-8AB1-5FEA45B1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220-3D43-4CB8-A9F2-D2432B22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81D-E697-406B-BDB9-670A2875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8B1E-F616-48CC-ABA4-C8B16D97E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hyperlink" Target="http://www.yandex.ru/yandpage?q=542076512&amp;p=216&amp;ag=ih&amp;rpt2=simage&amp;qs=text%3D%25C7%25C5%25D2%25CD%25C1%25CE%25C9%25D1%2B%26isize%3D%26ogo%3D5%26rpt%3Dimage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Германия, Берлин, Рейхстаг"/>
          <p:cNvPicPr/>
          <p:nvPr/>
        </p:nvPicPr>
        <p:blipFill>
          <a:blip r:embed="rId2"/>
          <a:stretch/>
        </p:blipFill>
        <p:spPr>
          <a:xfrm>
            <a:off x="5940360" y="476280"/>
            <a:ext cx="2895840" cy="2025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Германия, Берлинский собор"/>
          <p:cNvPicPr/>
          <p:nvPr/>
        </p:nvPicPr>
        <p:blipFill>
          <a:blip r:embed="rId3"/>
          <a:stretch/>
        </p:blipFill>
        <p:spPr>
          <a:xfrm>
            <a:off x="3348000" y="404640"/>
            <a:ext cx="2362320" cy="25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Германия, Берлин, Дворец Шарлоттенбург"/>
          <p:cNvPicPr/>
          <p:nvPr/>
        </p:nvPicPr>
        <p:blipFill>
          <a:blip r:embed="rId4"/>
          <a:stretch/>
        </p:blipFill>
        <p:spPr>
          <a:xfrm>
            <a:off x="6012000" y="3789360"/>
            <a:ext cx="2819160" cy="1981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16040" y="3068640"/>
            <a:ext cx="22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Берлинский соб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14160" y="6021360"/>
            <a:ext cx="27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ворец Шарлоттенбур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91440" y="2852640"/>
            <a:ext cx="304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Бранденбургские вор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84960" y="2852640"/>
            <a:ext cx="2227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Здание рейхст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476280"/>
            <a:ext cx="2971800" cy="1960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560" y="6516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60720" y="47628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52720" y="11592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7800" y="6237360"/>
            <a:ext cx="6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8720" y="342900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0160" y="630864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0" y="3716280"/>
            <a:ext cx="3240000" cy="2441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4436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Z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3780000" y="3645000"/>
            <a:ext cx="1869840" cy="2654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10880" y="649116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Fernsehetu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70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39440" y="1844640"/>
            <a:ext cx="410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s für ein groß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mpon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urde am 7. Ma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8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 Hambu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bore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47680" y="3333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0" y="90792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rams wurde am 7. Mai 183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Hamburg gebo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53400" y="4437000"/>
            <a:ext cx="365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s Deutsche Requiem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in grosser Musikstü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on Brams hat Schu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t einem Wasserf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gleichen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35640" y="260280"/>
            <a:ext cx="3429000" cy="3816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2492280"/>
            <a:ext cx="4878360" cy="3326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50360" y="1411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440" y="2205360"/>
            <a:ext cx="7352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Friedrich Schiller                 Tech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Franz Schubert                    Bildende Ku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Gustav Klimmt                     Mediz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Rudolf Diesel                       Liter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Robert Koch             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Mus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Sigmund Fre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s welchen Gebieten sind diese berühmte Persönlichkeiten bekan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24000" y="549360"/>
          <a:ext cx="8280000" cy="2311200"/>
        </p:xfrm>
        <a:graphic>
          <a:graphicData uri="http://schemas.openxmlformats.org/drawingml/2006/table">
            <a:tbl>
              <a:tblPr/>
              <a:tblGrid>
                <a:gridCol w="636120"/>
                <a:gridCol w="636480"/>
                <a:gridCol w="636120"/>
                <a:gridCol w="636840"/>
                <a:gridCol w="636120"/>
                <a:gridCol w="636480"/>
                <a:gridCol w="636840"/>
                <a:gridCol w="636120"/>
                <a:gridCol w="636480"/>
                <a:gridCol w="636480"/>
                <a:gridCol w="637920"/>
                <a:gridCol w="640080"/>
                <a:gridCol w="637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83520" y="4261320"/>
            <a:ext cx="906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3-5-18    6-18-5-13-4-5    19-16-18-1-3-8-5-14    14-9-3-8-20   11-5-14-14-2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3-5-9-19-19   14-9-3-8-20   22-15-14   19-5-9-14-5-18   5-9-7-5-14-5-1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Учитель\Рабочий стол\2006-02-14-xxl--Heinrich-heine_1[1].jpg"/>
          <p:cNvPicPr/>
          <p:nvPr/>
        </p:nvPicPr>
        <p:blipFill>
          <a:blip r:embed="rId2"/>
          <a:stretch/>
        </p:blipFill>
        <p:spPr>
          <a:xfrm>
            <a:off x="611280" y="765000"/>
            <a:ext cx="3166920" cy="5272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211280" y="620640"/>
            <a:ext cx="4343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r ist Au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ies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Gedich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92480" y="1411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2162160"/>
            <a:ext cx="47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in Fichtenbaum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in Fichtenbaum steht einsam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m Norden auf kahler Hoh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hn schlaert, mit weiser Decke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mhullen ihn Eis und Schn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r traumt von einer Palme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ie fern im Morgenland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insam und schweigend trauert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uf brennender Felsenwand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3640" y="98100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i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einrich H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13. 12.1797 - 17.2.1856). Der Dichter gilt als einer bedeutendsten deutschen Schriftsteller. Er gilt als "letzter Dichter der Romantik" und gleichzeitig als ihr Überwin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64000" y="836640"/>
            <a:ext cx="3338640" cy="435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92480" y="1411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Учитель\Рабочий стол\beethoven[1].jpg"/>
          <p:cNvPicPr/>
          <p:nvPr/>
        </p:nvPicPr>
        <p:blipFill>
          <a:blip r:embed="rId2"/>
          <a:stretch/>
        </p:blipFill>
        <p:spPr>
          <a:xfrm>
            <a:off x="395280" y="836640"/>
            <a:ext cx="4257720" cy="504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003280" y="1267920"/>
            <a:ext cx="37450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Wessen  Hymne wurde zur Hymne der Europäischen Unio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heute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92480" y="1411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924360" y="1052280"/>
            <a:ext cx="4919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Musikwerk wurde zur Hymne der Europäischen Union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xt: Friedrich Schiller; "An die Freude", 1. Strop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sik: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Ludwig van Beethoven,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9. Symphonie, 1823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972 nahm der Europarat Beethovens "Ode an die Freude" als eigene Hymne an. 1985 wurde sie als offizielle Hymne der EU angenomm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User\Desktop\European-Union[1].jpg"/>
          <p:cNvPicPr/>
          <p:nvPr/>
        </p:nvPicPr>
        <p:blipFill>
          <a:blip r:embed="rId2"/>
          <a:srcRect l="0" t="0" r="5710" b="5901"/>
          <a:stretch/>
        </p:blipFill>
        <p:spPr>
          <a:xfrm>
            <a:off x="250920" y="1197000"/>
            <a:ext cx="3724200" cy="388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3440" y="2602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Учитель\Рабочий стол\goethe_alt[1].png"/>
          <p:cNvPicPr/>
          <p:nvPr/>
        </p:nvPicPr>
        <p:blipFill>
          <a:blip r:embed="rId2"/>
          <a:stretch/>
        </p:blipFill>
        <p:spPr>
          <a:xfrm>
            <a:off x="900000" y="836640"/>
            <a:ext cx="2900520" cy="532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143240" y="1599840"/>
            <a:ext cx="484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lcher Dichter Deutschlands ist auch als Dichter, Schriftsteller, Philosoph, Sprach- und Naturwissenschaftler bekan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60720" y="33336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14520" y="1599840"/>
            <a:ext cx="4776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ohann Wolfgang von Goethe ist als Dichter, Schriftsteller, Philosoph, Sprach- und Naturwissenschaftler bekan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User\Desktop\Goethe-Netz[1].jpg"/>
          <p:cNvPicPr/>
          <p:nvPr/>
        </p:nvPicPr>
        <p:blipFill>
          <a:blip r:embed="rId2"/>
          <a:stretch/>
        </p:blipFill>
        <p:spPr>
          <a:xfrm>
            <a:off x="468360" y="692280"/>
            <a:ext cx="3800520" cy="5040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49440" y="404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Учитель\Рабочий стол\schiller1[1].jpg"/>
          <p:cNvPicPr/>
          <p:nvPr/>
        </p:nvPicPr>
        <p:blipFill>
          <a:blip r:embed="rId2"/>
          <a:stretch/>
        </p:blipFill>
        <p:spPr>
          <a:xfrm>
            <a:off x="611280" y="836640"/>
            <a:ext cx="3811320" cy="4897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647960" y="1600200"/>
            <a:ext cx="43434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r war durch seine Balladen  bekannt </a:t>
            </a:r>
            <a:r>
              <a:rPr b="0" lang="de-DE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63320" y="2602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356000" y="404280"/>
            <a:ext cx="4608720" cy="54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riedrich von Schiller  (1759-1805) ist als Dichter und Schriftsteller, Mediziner und Philosoph bekan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 war einer der größten deutschen Dich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iller ist neben Goethe der wichtigste und meist gespielte Dramatiker der deutschen Klassik. Schiller hat neben zahlreichen Bearbeitungen antiker Stücke auch theoretische Schriften über die Wirkung des Theaters verfas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User\Desktop\pers-friedrich-von-schiller[1].jpg"/>
          <p:cNvPicPr/>
          <p:nvPr/>
        </p:nvPicPr>
        <p:blipFill>
          <a:blip r:embed="rId2"/>
          <a:stretch/>
        </p:blipFill>
        <p:spPr>
          <a:xfrm>
            <a:off x="468360" y="1052640"/>
            <a:ext cx="3790800" cy="4895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59680" y="2602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8:25:47Z</dcterms:created>
  <dc:creator>дом</dc:creator>
  <dc:description/>
  <dc:language>en-US</dc:language>
  <cp:lastModifiedBy>Пользователь</cp:lastModifiedBy>
  <dcterms:modified xsi:type="dcterms:W3CDTF">2013-03-24T11:14:51Z</dcterms:modified>
  <cp:revision>9</cp:revision>
  <dc:subject/>
  <dc:title>Слайд 1</dc:title>
</cp:coreProperties>
</file>