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gif" ContentType="image/gif"/>
  <Override PartName="/ppt/media/image25.jpeg" ContentType="image/jpeg"/>
  <Override PartName="/ppt/media/image32.png" ContentType="image/png"/>
  <Override PartName="/ppt/media/image22.gif" ContentType="image/gif"/>
  <Override PartName="/ppt/media/image24.png" ContentType="image/png"/>
  <Override PartName="/ppt/media/image11.jpeg" ContentType="image/jpeg"/>
  <Override PartName="/ppt/media/image21.gif" ContentType="image/gif"/>
  <Override PartName="/ppt/media/image18.gif" ContentType="image/gif"/>
  <Override PartName="/ppt/media/image13.jpeg" ContentType="image/jpeg"/>
  <Override PartName="/ppt/media/image20.gif" ContentType="image/gif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6.png" ContentType="image/png"/>
  <Override PartName="/ppt/media/image31.png" ContentType="image/png"/>
  <Override PartName="/ppt/media/image3.gif" ContentType="image/gif"/>
  <Override PartName="/ppt/media/image30.png" ContentType="image/png"/>
  <Override PartName="/ppt/media/image8.jpeg" ContentType="image/jpeg"/>
  <Override PartName="/ppt/media/image9.png" ContentType="image/png"/>
  <Override PartName="/ppt/media/image33.jpeg" ContentType="image/jpeg"/>
  <Override PartName="/ppt/media/image29.jpeg" ContentType="image/jpeg"/>
  <Override PartName="/ppt/media/image37.gif" ContentType="image/gif"/>
  <Override PartName="/ppt/media/image12.jpeg" ContentType="image/jpeg"/>
  <Override PartName="/ppt/media/image4.png" ContentType="image/png"/>
  <Override PartName="/ppt/media/image2.jpeg" ContentType="image/jpeg"/>
  <Override PartName="/ppt/media/image36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15.jpeg" ContentType="image/jpeg"/>
  <Override PartName="/ppt/media/image16.gif" ContentType="image/gif"/>
  <Override PartName="/ppt/media/image27.jpeg" ContentType="image/jpeg"/>
  <Override PartName="/ppt/media/image17.gif" ContentType="image/gif"/>
  <Override PartName="/ppt/media/image19.gif" ContentType="image/gif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DB15-69CF-49F3-94D8-2C0F2AE4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A06D-C671-4DBE-BEC3-E0EB5F82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1A6C-7EE6-457F-9E13-2E9200381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4A2F-8E8B-4334-996B-F2B8EE7B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675D-BF4C-4544-87DE-AE3412FC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8816-0B7F-4DCE-8F4B-D96361FF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991C-0DD2-436A-B587-041ECCFA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B011-7606-4CE5-BE5E-5F3E54B1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403E-1498-4F05-8AFC-24396BF6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45D0-929E-4CDB-B82A-7F4D79FC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5537-F9CC-45E7-A8E8-F53EEAE2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EFC7-3C51-4563-B6E0-99708FF6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0357-31E6-4797-9BBC-C6749BBE5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1.png"/><Relationship Id="rId12" Type="http://schemas.openxmlformats.org/officeDocument/2006/relationships/image" Target="../media/image31.png"/><Relationship Id="rId13" Type="http://schemas.openxmlformats.org/officeDocument/2006/relationships/image" Target="../media/image31.png"/><Relationship Id="rId14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5.jpeg"/><Relationship Id="rId4" Type="http://schemas.openxmlformats.org/officeDocument/2006/relationships/image" Target="../media/image35.jpeg"/><Relationship Id="rId5" Type="http://schemas.openxmlformats.org/officeDocument/2006/relationships/image" Target="../media/image13.jpeg"/><Relationship Id="rId6" Type="http://schemas.openxmlformats.org/officeDocument/2006/relationships/image" Target="../media/image36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1.jpeg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 rot="491400">
            <a:off x="755640" y="3933360"/>
            <a:ext cx="1905120" cy="254016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rot="21268800">
            <a:off x="5291280" y="3985920"/>
            <a:ext cx="3384360" cy="253836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sp>
        <p:nvSpPr>
          <p:cNvPr id="43" name=""/>
          <p:cNvSpPr txBox="1"/>
          <p:nvPr/>
        </p:nvSpPr>
        <p:spPr>
          <a:xfrm>
            <a:off x="971640" y="2905200"/>
            <a:ext cx="7272360" cy="1244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328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Eine Reise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durch Deutschland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6320" y="0"/>
            <a:ext cx="1795320" cy="1844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 rot="1090800">
            <a:off x="6227280" y="476280"/>
            <a:ext cx="2519640" cy="19303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8823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147636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rliner Fernsehtu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 rot="905400">
            <a:off x="5003280" y="1196640"/>
            <a:ext cx="3240360" cy="432108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524720" y="-243000"/>
            <a:ext cx="1376280" cy="1413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147640" y="6021360"/>
            <a:ext cx="313848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th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 rot="21112800">
            <a:off x="755640" y="1125360"/>
            <a:ext cx="3197160" cy="440712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971640" y="162864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e heisst die Hauptstadt der B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) Leipz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) Br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) Ber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s Wahrzeichen von Berlin ist da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) Alexanderpla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) Bellev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) Brandenburger 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317520" cy="1079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42920" y="3068640"/>
            <a:ext cx="432000" cy="576360"/>
          </a:xfrm>
          <a:custGeom>
            <a:avLst/>
            <a:gdLst>
              <a:gd name="textAreaLeft" fmla="*/ 177840 w 432000"/>
              <a:gd name="textAreaRight" fmla="*/ 254160 w 432000"/>
              <a:gd name="textAreaTop" fmla="*/ 237240 h 576360"/>
              <a:gd name="textAreaBottom" fmla="*/ 3391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895" y="8895"/>
                </a:lnTo>
                <a:lnTo>
                  <a:pt x="10800" y="0"/>
                </a:lnTo>
                <a:lnTo>
                  <a:pt x="12705" y="8895"/>
                </a:lnTo>
                <a:lnTo>
                  <a:pt x="21600" y="10800"/>
                </a:lnTo>
                <a:lnTo>
                  <a:pt x="12705" y="12705"/>
                </a:lnTo>
                <a:lnTo>
                  <a:pt x="10800" y="21600"/>
                </a:lnTo>
                <a:lnTo>
                  <a:pt x="8895" y="1270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28480" y="4465800"/>
            <a:ext cx="436680" cy="1050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116000" y="5445000"/>
            <a:ext cx="431640" cy="576360"/>
          </a:xfrm>
          <a:custGeom>
            <a:avLst/>
            <a:gdLst>
              <a:gd name="textAreaLeft" fmla="*/ 177840 w 431640"/>
              <a:gd name="textAreaRight" fmla="*/ 253800 w 431640"/>
              <a:gd name="textAreaTop" fmla="*/ 237240 h 576360"/>
              <a:gd name="textAreaBottom" fmla="*/ 3391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895" y="8895"/>
                </a:lnTo>
                <a:lnTo>
                  <a:pt x="10800" y="0"/>
                </a:lnTo>
                <a:lnTo>
                  <a:pt x="12705" y="8895"/>
                </a:lnTo>
                <a:lnTo>
                  <a:pt x="21600" y="10800"/>
                </a:lnTo>
                <a:lnTo>
                  <a:pt x="12705" y="12705"/>
                </a:lnTo>
                <a:lnTo>
                  <a:pt x="10800" y="21600"/>
                </a:lnTo>
                <a:lnTo>
                  <a:pt x="8895" y="1270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916360" y="549360"/>
            <a:ext cx="2428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Berlin-Quiz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00720" y="1413000"/>
            <a:ext cx="622800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ine der schonsten Strassen Berlins is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) Unter der Bir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) Unter den Li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) Unter den Ul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3080" y="4003560"/>
            <a:ext cx="756144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lche wunderschone Schlosser ziehen Tause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n Touristen 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) Zwi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) Charlotten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) Kolner 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03640" y="404640"/>
            <a:ext cx="2428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Berlin-Quiz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474840" cy="1076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8360" y="5013360"/>
            <a:ext cx="542880" cy="1085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116000" y="2060640"/>
            <a:ext cx="431640" cy="576360"/>
          </a:xfrm>
          <a:custGeom>
            <a:avLst/>
            <a:gdLst>
              <a:gd name="textAreaLeft" fmla="*/ 177840 w 431640"/>
              <a:gd name="textAreaRight" fmla="*/ 253800 w 431640"/>
              <a:gd name="textAreaTop" fmla="*/ 237240 h 576360"/>
              <a:gd name="textAreaBottom" fmla="*/ 3391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895" y="8895"/>
                </a:lnTo>
                <a:lnTo>
                  <a:pt x="10800" y="0"/>
                </a:lnTo>
                <a:lnTo>
                  <a:pt x="12705" y="8895"/>
                </a:lnTo>
                <a:lnTo>
                  <a:pt x="21600" y="10800"/>
                </a:lnTo>
                <a:lnTo>
                  <a:pt x="12705" y="12705"/>
                </a:lnTo>
                <a:lnTo>
                  <a:pt x="10800" y="21600"/>
                </a:lnTo>
                <a:lnTo>
                  <a:pt x="8895" y="1270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5084640"/>
            <a:ext cx="432000" cy="576360"/>
          </a:xfrm>
          <a:custGeom>
            <a:avLst/>
            <a:gdLst>
              <a:gd name="textAreaLeft" fmla="*/ 177840 w 432000"/>
              <a:gd name="textAreaRight" fmla="*/ 254160 w 432000"/>
              <a:gd name="textAreaTop" fmla="*/ 237240 h 576360"/>
              <a:gd name="textAreaBottom" fmla="*/ 3391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895" y="8895"/>
                </a:lnTo>
                <a:lnTo>
                  <a:pt x="10800" y="0"/>
                </a:lnTo>
                <a:lnTo>
                  <a:pt x="12705" y="8895"/>
                </a:lnTo>
                <a:lnTo>
                  <a:pt x="21600" y="10800"/>
                </a:lnTo>
                <a:lnTo>
                  <a:pt x="12705" y="12705"/>
                </a:lnTo>
                <a:lnTo>
                  <a:pt x="10800" y="21600"/>
                </a:lnTo>
                <a:lnTo>
                  <a:pt x="8895" y="1270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63640" y="566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erlin-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561080" cy="4525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in beliebter Treffpunkt der Berliner is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) das Nikolaivier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) das Reichstagsgeba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) der Alexanderplatz mit der Weltzeitu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eviel Einwohner hat Berl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) 1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) 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) 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539640" cy="1079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187280" y="2708280"/>
            <a:ext cx="432000" cy="576360"/>
          </a:xfrm>
          <a:custGeom>
            <a:avLst/>
            <a:gdLst>
              <a:gd name="textAreaLeft" fmla="*/ 177840 w 432000"/>
              <a:gd name="textAreaRight" fmla="*/ 254160 w 432000"/>
              <a:gd name="textAreaTop" fmla="*/ 237240 h 576360"/>
              <a:gd name="textAreaBottom" fmla="*/ 3391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895" y="8895"/>
                </a:lnTo>
                <a:lnTo>
                  <a:pt x="10800" y="0"/>
                </a:lnTo>
                <a:lnTo>
                  <a:pt x="12705" y="8895"/>
                </a:lnTo>
                <a:lnTo>
                  <a:pt x="21600" y="10800"/>
                </a:lnTo>
                <a:lnTo>
                  <a:pt x="12705" y="12705"/>
                </a:lnTo>
                <a:lnTo>
                  <a:pt x="10800" y="21600"/>
                </a:lnTo>
                <a:lnTo>
                  <a:pt x="8895" y="1270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4941720"/>
            <a:ext cx="432000" cy="576360"/>
          </a:xfrm>
          <a:custGeom>
            <a:avLst/>
            <a:gdLst>
              <a:gd name="textAreaLeft" fmla="*/ 177840 w 432000"/>
              <a:gd name="textAreaRight" fmla="*/ 254160 w 432000"/>
              <a:gd name="textAreaTop" fmla="*/ 237240 h 576360"/>
              <a:gd name="textAreaBottom" fmla="*/ 3391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895" y="8895"/>
                </a:lnTo>
                <a:lnTo>
                  <a:pt x="10800" y="0"/>
                </a:lnTo>
                <a:lnTo>
                  <a:pt x="12705" y="8895"/>
                </a:lnTo>
                <a:lnTo>
                  <a:pt x="21600" y="10800"/>
                </a:lnTo>
                <a:lnTo>
                  <a:pt x="12705" y="12705"/>
                </a:lnTo>
                <a:lnTo>
                  <a:pt x="10800" y="21600"/>
                </a:lnTo>
                <a:lnTo>
                  <a:pt x="8895" y="1270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50920" y="4005360"/>
            <a:ext cx="612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erlin-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6360" y="1628640"/>
            <a:ext cx="4826160" cy="4525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rlin wurde im … gegrund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) 13. Jahrhund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) 10. Jahrhund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) 7. Jahrhund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welchem Fluss liegt Berl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) am R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) an der 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) an der Sp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576000" cy="1152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92360" y="2060640"/>
            <a:ext cx="431640" cy="576360"/>
          </a:xfrm>
          <a:custGeom>
            <a:avLst/>
            <a:gdLst>
              <a:gd name="textAreaLeft" fmla="*/ 177840 w 431640"/>
              <a:gd name="textAreaRight" fmla="*/ 253800 w 431640"/>
              <a:gd name="textAreaTop" fmla="*/ 237240 h 576360"/>
              <a:gd name="textAreaBottom" fmla="*/ 3391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895" y="8895"/>
                </a:lnTo>
                <a:lnTo>
                  <a:pt x="10800" y="0"/>
                </a:lnTo>
                <a:lnTo>
                  <a:pt x="12705" y="8895"/>
                </a:lnTo>
                <a:lnTo>
                  <a:pt x="21600" y="10800"/>
                </a:lnTo>
                <a:lnTo>
                  <a:pt x="12705" y="12705"/>
                </a:lnTo>
                <a:lnTo>
                  <a:pt x="10800" y="21600"/>
                </a:lnTo>
                <a:lnTo>
                  <a:pt x="8895" y="1270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5084640"/>
            <a:ext cx="431640" cy="576360"/>
          </a:xfrm>
          <a:custGeom>
            <a:avLst/>
            <a:gdLst>
              <a:gd name="textAreaLeft" fmla="*/ 177840 w 431640"/>
              <a:gd name="textAreaRight" fmla="*/ 253800 w 43164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4292640"/>
            <a:ext cx="5414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6360" y="1467000"/>
            <a:ext cx="5977080" cy="448452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3203640" y="6093000"/>
            <a:ext cx="273204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auenkir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446960" y="189000"/>
            <a:ext cx="1697040" cy="1743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2700360" y="476280"/>
            <a:ext cx="4033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"/>
              </a:rPr>
              <a:t>MUNCHE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908000" y="188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 Alte P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 rot="20862600">
            <a:off x="1042560" y="1988640"/>
            <a:ext cx="2390760" cy="347688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 rot="716400">
            <a:off x="5508720" y="1483920"/>
            <a:ext cx="2865240" cy="381636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5437800" y="5516640"/>
            <a:ext cx="3067200" cy="947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ienpla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t Mariensau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564000" y="333360"/>
            <a:ext cx="17272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500"/>
                            </p:stCondLst>
                            <p:childTnLst>
                              <p:par>
                                <p:cTn id="37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769080" cy="442764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885080" y="5516640"/>
            <a:ext cx="1066680" cy="1095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2484360" y="404640"/>
            <a:ext cx="4826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"/>
              </a:rPr>
              <a:t>Olympia-Stadi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385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8" dur="385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0" dur="38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2" dur="38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1836720" y="333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te Pinakoth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 rot="21129600">
            <a:off x="395280" y="1484280"/>
            <a:ext cx="4643280" cy="202392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932360" y="3495600"/>
            <a:ext cx="3746520" cy="284004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1258200" y="5877000"/>
            <a:ext cx="34542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ue Pinakoth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227640" y="620640"/>
            <a:ext cx="169704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340000" y="549360"/>
            <a:ext cx="44528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Richtig oder falsch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0000" y="2057400"/>
            <a:ext cx="6261480" cy="411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nchen ist die Hauptstadt von Bay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 liegt an der Wol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s Stadtzentrum hat seinen historis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rakter bewah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nchen zahlt 8 Millionen Einwohn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164360" y="223920"/>
            <a:ext cx="1584360" cy="1320840"/>
          </a:xfrm>
          <a:prstGeom prst="rect">
            <a:avLst/>
          </a:prstGeom>
          <a:ln w="50760">
            <a:solidFill>
              <a:srgbClr val="000080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164360" y="1916280"/>
            <a:ext cx="635040" cy="634680"/>
          </a:xfrm>
          <a:prstGeom prst="rect">
            <a:avLst/>
          </a:prstGeom>
          <a:ln w="50760">
            <a:solidFill>
              <a:srgbClr val="00008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164360" y="4365720"/>
            <a:ext cx="635040" cy="635040"/>
          </a:xfrm>
          <a:prstGeom prst="rect">
            <a:avLst/>
          </a:prstGeom>
          <a:ln w="50760">
            <a:solidFill>
              <a:srgbClr val="00008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164360" y="5661000"/>
            <a:ext cx="635040" cy="635040"/>
          </a:xfrm>
          <a:prstGeom prst="rect">
            <a:avLst/>
          </a:prstGeom>
          <a:ln w="50760">
            <a:solidFill>
              <a:srgbClr val="00008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8101080" y="1916280"/>
            <a:ext cx="635040" cy="634680"/>
          </a:xfrm>
          <a:prstGeom prst="rect">
            <a:avLst/>
          </a:prstGeom>
          <a:ln w="50760">
            <a:solidFill>
              <a:srgbClr val="00008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7164360" y="3141720"/>
            <a:ext cx="635040" cy="635040"/>
          </a:xfrm>
          <a:prstGeom prst="rect">
            <a:avLst/>
          </a:prstGeom>
          <a:ln w="50760">
            <a:solidFill>
              <a:srgbClr val="000080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8101080" y="3141720"/>
            <a:ext cx="635040" cy="635040"/>
          </a:xfrm>
          <a:prstGeom prst="rect">
            <a:avLst/>
          </a:prstGeom>
          <a:ln w="50760">
            <a:solidFill>
              <a:srgbClr val="000080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8101080" y="4365720"/>
            <a:ext cx="635040" cy="635040"/>
          </a:xfrm>
          <a:prstGeom prst="rect">
            <a:avLst/>
          </a:prstGeom>
          <a:ln w="50760">
            <a:solidFill>
              <a:srgbClr val="000080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9"/>
          <a:stretch/>
        </p:blipFill>
        <p:spPr>
          <a:xfrm>
            <a:off x="8101080" y="5661000"/>
            <a:ext cx="635040" cy="635040"/>
          </a:xfrm>
          <a:prstGeom prst="rect">
            <a:avLst/>
          </a:prstGeom>
          <a:ln w="50760">
            <a:solidFill>
              <a:srgbClr val="000080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10"/>
          <a:stretch/>
        </p:blipFill>
        <p:spPr>
          <a:xfrm>
            <a:off x="8101080" y="314172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1"/>
          <a:stretch/>
        </p:blipFill>
        <p:spPr>
          <a:xfrm>
            <a:off x="7164360" y="1916280"/>
            <a:ext cx="635040" cy="634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2"/>
          <a:stretch/>
        </p:blipFill>
        <p:spPr>
          <a:xfrm>
            <a:off x="8101080" y="566100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3"/>
          <a:stretch/>
        </p:blipFill>
        <p:spPr>
          <a:xfrm>
            <a:off x="7164360" y="4365720"/>
            <a:ext cx="63504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50400" y="1216080"/>
            <a:ext cx="5176440" cy="48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e Bundesrepublik Deutschland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r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r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e Hauptsta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 Fluss Sp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s Wahrzei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n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s Stadtwa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s Stadtwappen Munchens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in Mo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nchen-Mo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r Treffpu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792760" y="1844640"/>
            <a:ext cx="3083040" cy="3125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700360" y="404640"/>
            <a:ext cx="3673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Sprecht nach !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101080" y="3141720"/>
            <a:ext cx="635040" cy="635040"/>
          </a:xfrm>
          <a:prstGeom prst="rect">
            <a:avLst/>
          </a:prstGeom>
          <a:ln w="50760">
            <a:solidFill>
              <a:srgbClr val="000080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164360" y="1916280"/>
            <a:ext cx="635040" cy="634680"/>
          </a:xfrm>
          <a:prstGeom prst="rect">
            <a:avLst/>
          </a:prstGeom>
          <a:ln w="50760">
            <a:solidFill>
              <a:srgbClr val="000080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324000" y="1768320"/>
            <a:ext cx="6030720" cy="411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s Wahrzeichen der Stadt ist d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auenkir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e Sehenswurdigkeiten der Altstadt kann man zu Fuss schaff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r Alte Peter und die Frauenkirche weisen Ihnen den Weg zum Brandenburger 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7164360" y="223920"/>
            <a:ext cx="1584360" cy="1320840"/>
          </a:xfrm>
          <a:prstGeom prst="rect">
            <a:avLst/>
          </a:prstGeom>
          <a:ln w="50760">
            <a:solidFill>
              <a:srgbClr val="00008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7164360" y="4365720"/>
            <a:ext cx="635040" cy="635040"/>
          </a:xfrm>
          <a:prstGeom prst="rect">
            <a:avLst/>
          </a:prstGeom>
          <a:ln w="50760">
            <a:solidFill>
              <a:srgbClr val="000080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8101080" y="1916280"/>
            <a:ext cx="635040" cy="634680"/>
          </a:xfrm>
          <a:prstGeom prst="rect">
            <a:avLst/>
          </a:prstGeom>
          <a:ln w="50760">
            <a:solidFill>
              <a:srgbClr val="00008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7164360" y="3141720"/>
            <a:ext cx="635040" cy="635040"/>
          </a:xfrm>
          <a:prstGeom prst="rect">
            <a:avLst/>
          </a:prstGeom>
          <a:ln w="50760">
            <a:solidFill>
              <a:srgbClr val="00008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8101080" y="4365720"/>
            <a:ext cx="635040" cy="635040"/>
          </a:xfrm>
          <a:prstGeom prst="rect">
            <a:avLst/>
          </a:prstGeom>
          <a:ln w="50760">
            <a:solidFill>
              <a:srgbClr val="00008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7164360" y="314172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7164360" y="1916280"/>
            <a:ext cx="635040" cy="6346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0"/>
          <a:stretch/>
        </p:blipFill>
        <p:spPr>
          <a:xfrm>
            <a:off x="8101080" y="4365720"/>
            <a:ext cx="635040" cy="6350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2340000" y="549360"/>
            <a:ext cx="44528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Richtig oder falsch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0" y="2205000"/>
            <a:ext cx="9228240" cy="1172880"/>
            <a:chOff x="0" y="2205000"/>
            <a:chExt cx="9228240" cy="117288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0" y="2205000"/>
              <a:ext cx="9228240" cy="117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050920" y="2636640"/>
              <a:ext cx="5616720" cy="604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ehauptstadtderbrdheisstberli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 txBox="1"/>
          <p:nvPr/>
        </p:nvSpPr>
        <p:spPr>
          <a:xfrm>
            <a:off x="2987640" y="404640"/>
            <a:ext cx="3168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chlangen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0" y="3933720"/>
            <a:ext cx="9228240" cy="1173240"/>
            <a:chOff x="0" y="3933720"/>
            <a:chExt cx="9228240" cy="1173240"/>
          </a:xfrm>
        </p:grpSpPr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0" y="3933720"/>
              <a:ext cx="9228240" cy="11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835280" y="4365720"/>
              <a:ext cx="5977080" cy="604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ehauptstadtvonbayernistmunche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2987640" y="404640"/>
            <a:ext cx="3168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Schlangen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0" y="3933720"/>
            <a:ext cx="9228240" cy="1173240"/>
            <a:chOff x="0" y="3933720"/>
            <a:chExt cx="9228240" cy="117324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0" y="3933720"/>
              <a:ext cx="9228240" cy="11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1728720" y="4365720"/>
              <a:ext cx="6374160" cy="604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e Hauptstadt von Bayern ist Munche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0" y="2205000"/>
            <a:ext cx="9228240" cy="1173240"/>
            <a:chOff x="0" y="2205000"/>
            <a:chExt cx="9228240" cy="1173240"/>
          </a:xfrm>
        </p:grpSpPr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0" y="2205000"/>
              <a:ext cx="9228240" cy="11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35280" y="2636640"/>
              <a:ext cx="5977080" cy="604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e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auptstadt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er BRD heisst Berli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illkommen in Berli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 rot="20434200">
            <a:off x="394920" y="1915920"/>
            <a:ext cx="2386080" cy="178272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 rot="1086600">
            <a:off x="6084720" y="1989000"/>
            <a:ext cx="2638440" cy="197172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3132000" y="1413000"/>
            <a:ext cx="2592360" cy="198432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 rot="973200">
            <a:off x="394920" y="4220640"/>
            <a:ext cx="2847960" cy="197352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 rot="20212200">
            <a:off x="5364000" y="4220640"/>
            <a:ext cx="2808360" cy="194652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3635280" y="3716280"/>
            <a:ext cx="1411560" cy="283536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3" dur="158172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2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undfahrt durch Munc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59280" y="1341360"/>
            <a:ext cx="3030480" cy="227340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924360" y="4149720"/>
            <a:ext cx="1503360" cy="218592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 rot="20776200">
            <a:off x="468360" y="1844280"/>
            <a:ext cx="2374920" cy="185580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 rot="20721000">
            <a:off x="684000" y="4653000"/>
            <a:ext cx="2952720" cy="144936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 rot="1030200">
            <a:off x="5651280" y="4869000"/>
            <a:ext cx="2933640" cy="127944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 rot="912000">
            <a:off x="6300720" y="1988640"/>
            <a:ext cx="2584440" cy="195912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0" dur="27795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ielen Dan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16360" y="14130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f Wiederseh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87640" y="2349360"/>
            <a:ext cx="3382920" cy="31687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7" dur="145215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4170600" cy="525600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596360" y="260280"/>
            <a:ext cx="1371600" cy="264960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4433760" y="3370320"/>
            <a:ext cx="4659840" cy="269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Die BRD liegt in Mitteleurop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Sie betsteht aus 16 Bundeslander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Sie grenzt an Polen, Tschechien… 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Die Staatsfarben sind schwarz-rot-gol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Das Staatswappen ist Adl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640" y="333360"/>
            <a:ext cx="6542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Bundesrepublik Deutschland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64560" y="4024440"/>
            <a:ext cx="88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360" y="260280"/>
            <a:ext cx="7416720" cy="14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Was weisst du uber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Deutschland?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2560" y="2133720"/>
            <a:ext cx="4174920" cy="4757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utschland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ieg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Mitteleuro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e BRD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esteh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us 16 Land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utschland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ha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8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Million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inwoh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e Staatsfarben der BRD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in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hwarz-rot-go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rlin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s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die Hauptstadt der B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e grossten Stadte in Deutsch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in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Berlin, Munchen, Hamburg 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ol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68840" y="2133720"/>
            <a:ext cx="4473720" cy="4483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ch weiss, dass Deutschlan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tteleuropa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ieg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ch weiss,dass die BRD aus 16 Land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esteh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ch weiss, dass …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ch weiss, dass …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ch weiss, dass …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ch weiss, dass …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37400" y="404640"/>
            <a:ext cx="15066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as ist richti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andenburger 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ichstagsgeba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exanderpla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loss Charlotten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rliner Fernsehtu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auenkir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r Alte P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ienpla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te Pinakoth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00000" y="1700280"/>
            <a:ext cx="436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ощадь им. Александ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енская церко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ощадь  Святой Ма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ранденбургские вор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дание Рейхста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арая пинакот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рлинская телебаш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рковь Святого Пе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мок Шарлот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9"/>
          <a:stretch/>
        </p:blipFill>
        <p:spPr>
          <a:xfrm>
            <a:off x="7380360" y="189000"/>
            <a:ext cx="1535040" cy="1438200"/>
          </a:xfrm>
          <a:prstGeom prst="rect">
            <a:avLst/>
          </a:prstGeom>
          <a:ln w="101520">
            <a:solidFill>
              <a:srgbClr val="00008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635280" y="1916280"/>
            <a:ext cx="935280" cy="1008000"/>
          </a:xfrm>
          <a:prstGeom prst="line">
            <a:avLst/>
          </a:prstGeom>
          <a:ln w="1144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1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19280" y="1413000"/>
            <a:ext cx="5977080" cy="457812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4788000" y="5805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42920" y="6093000"/>
            <a:ext cx="36111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ndenburger 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8640" cy="1671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2916360" y="404640"/>
            <a:ext cx="3816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81185" dir="3078030" blurRad="0" rotWithShape="0">
                    <a:srgbClr val="000000"/>
                  </a:outerShdw>
                </a:effectLst>
                <a:latin typeface="Arial"/>
              </a:rPr>
              <a:t>BERLI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81185" dir="307803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337440" cy="475308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42920" y="0"/>
            <a:ext cx="1392120" cy="1428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835280" y="404640"/>
            <a:ext cx="561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"/>
              </a:rPr>
              <a:t>Reichstagsgebaud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3120" cy="1512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2556000" y="620640"/>
            <a:ext cx="482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63504" dir="3183908" blurRad="0" rotWithShape="0">
                    <a:srgbClr val="000000"/>
                  </a:outerShdw>
                </a:effectLst>
                <a:latin typeface="Arial"/>
              </a:rPr>
              <a:t>Pergamonmuseu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63504" dir="3183908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rcRect l="0" t="0" r="0" b="8689"/>
          <a:stretch/>
        </p:blipFill>
        <p:spPr>
          <a:xfrm>
            <a:off x="1258920" y="1989000"/>
            <a:ext cx="6624720" cy="419112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913440" cy="460548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658280" y="0"/>
            <a:ext cx="1485720" cy="1527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2411280" y="333360"/>
            <a:ext cx="475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"/>
              </a:rPr>
              <a:t>Alexanderplatz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10:52:13Z</dcterms:created>
  <dc:creator>User</dc:creator>
  <dc:description/>
  <dc:language>en-US</dc:language>
  <cp:lastModifiedBy>Пользователь</cp:lastModifiedBy>
  <dcterms:modified xsi:type="dcterms:W3CDTF">2013-03-27T19:59:34Z</dcterms:modified>
  <cp:revision>120</cp:revision>
  <dc:subject/>
  <dc:title>Слайд 1</dc:title>
</cp:coreProperties>
</file>