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5.jpeg" ContentType="image/jpeg"/>
  <Override PartName="/ppt/media/image32.png" ContentType="image/png"/>
  <Override PartName="/ppt/media/image22.gif" ContentType="image/gif"/>
  <Override PartName="/ppt/media/image24.png" ContentType="image/png"/>
  <Override PartName="/ppt/media/image11.jpeg" ContentType="image/jpeg"/>
  <Override PartName="/ppt/media/image21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3.gif" ContentType="image/gif"/>
  <Override PartName="/ppt/media/image30.png" ContentType="image/png"/>
  <Override PartName="/ppt/media/image8.jpeg" ContentType="image/jpeg"/>
  <Override PartName="/ppt/media/image9.png" ContentType="image/png"/>
  <Override PartName="/ppt/media/image33.jpeg" ContentType="image/jpeg"/>
  <Override PartName="/ppt/media/image29.jpeg" ContentType="image/jpeg"/>
  <Override PartName="/ppt/media/image37.gif" ContentType="image/gif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gif" ContentType="image/gif"/>
  <Override PartName="/ppt/media/image27.jpeg" ContentType="image/jpeg"/>
  <Override PartName="/ppt/media/image17.gif" ContentType="image/gif"/>
  <Override PartName="/ppt/media/image19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AE5-69AE-487D-90DD-41E2B8D9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23B-444E-4381-BD5B-A1B4C957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BF0-D87A-4A33-ACB7-A3C54D3A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C1A-C1ED-401E-AA7B-9FFED46D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843-CF37-429B-A670-2ED8D1E2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222-ED69-4607-B9F2-C87D7546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97C-7B51-4A31-A35A-AE63210B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4D5-3143-4CD9-9599-0D8EA3BB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58C-519C-4AB7-9BC8-C2FF6DB1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F45-D2AB-4C04-A246-ECBB13A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A29-7983-4DA8-ADFD-9938EA5C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39A-6199-4D89-BE13-A26F08A9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D964-F0A6-4385-8A3C-67C4493A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5.jpeg"/><Relationship Id="rId4" Type="http://schemas.openxmlformats.org/officeDocument/2006/relationships/image" Target="../media/image35.jpeg"/><Relationship Id="rId5" Type="http://schemas.openxmlformats.org/officeDocument/2006/relationships/image" Target="../media/image13.jpeg"/><Relationship Id="rId6" Type="http://schemas.openxmlformats.org/officeDocument/2006/relationships/image" Target="../media/image36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491400">
            <a:off x="755640" y="3933360"/>
            <a:ext cx="1905120" cy="25401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1268800">
            <a:off x="5291280" y="3985920"/>
            <a:ext cx="3384360" cy="25383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971640" y="2905200"/>
            <a:ext cx="7272360" cy="1244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2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Eine Reise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durch Deutschland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320" y="0"/>
            <a:ext cx="1795320" cy="184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1090800">
            <a:off x="6227280" y="476280"/>
            <a:ext cx="2519640" cy="1930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82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476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liner Fernsehtu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 rot="905400">
            <a:off x="5003280" y="1196640"/>
            <a:ext cx="3240360" cy="43210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24720" y="-243000"/>
            <a:ext cx="137628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47640" y="6021360"/>
            <a:ext cx="313848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 rot="21112800">
            <a:off x="755640" y="1125360"/>
            <a:ext cx="3197160" cy="4407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e heisst die Hauptstadt der B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Leip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Br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Wahrzeichen von Berlin ist d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Alexander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Bellev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Brandenburger 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17520" cy="107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42920" y="3068640"/>
            <a:ext cx="432000" cy="576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8480" y="4465800"/>
            <a:ext cx="436680" cy="1050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16000" y="544500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916360" y="549360"/>
            <a:ext cx="2428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Berlin-Qui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720" y="1413000"/>
            <a:ext cx="6228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e der schonsten Strassen Berlins i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Unter der Bi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Unter den L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Unter den Ul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3080" y="4003560"/>
            <a:ext cx="75614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he wunderschone Schlosser ziehen Taus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n Touristen 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Zw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Charlotten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Kolner 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03640" y="404640"/>
            <a:ext cx="242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Berlin-Qui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7484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542880" cy="1085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16000" y="206064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5084640"/>
            <a:ext cx="432000" cy="576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rlin-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6108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 beliebter Treffpunkt der Berliner is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das Nikolaivie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das Reichstagsgeba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der Alexanderplatz mit der Weltzeit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eviel Einwohner hat Berl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39640" cy="107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87280" y="2708280"/>
            <a:ext cx="432000" cy="576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4941720"/>
            <a:ext cx="432000" cy="576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6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rlin-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482616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lin wurde im … gegrund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13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10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7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welchem Fluss liegt Berl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am R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an der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an der Sp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76000" cy="1152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2360" y="206064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08464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541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1467000"/>
            <a:ext cx="5977080" cy="44845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203640" y="6093000"/>
            <a:ext cx="273204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auenki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46960" y="189000"/>
            <a:ext cx="1697040" cy="1743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700360" y="476280"/>
            <a:ext cx="403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</a:rPr>
              <a:t>MUNC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90800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 Alte P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0862600">
            <a:off x="1042560" y="1988640"/>
            <a:ext cx="2390760" cy="34768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716400">
            <a:off x="5508720" y="1483920"/>
            <a:ext cx="2865240" cy="38163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437800" y="5516640"/>
            <a:ext cx="3067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ienpl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 Mariensa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727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4276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885080" y="5516640"/>
            <a:ext cx="1066680" cy="1095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484360" y="404640"/>
            <a:ext cx="4826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</a:rPr>
              <a:t>Olympia-Stad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8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38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83672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 Pinakot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21129600">
            <a:off x="395280" y="1484280"/>
            <a:ext cx="4643280" cy="20239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3495600"/>
            <a:ext cx="3746520" cy="28400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258200" y="5877000"/>
            <a:ext cx="34542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e Pinakot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227640" y="620640"/>
            <a:ext cx="16970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340000" y="549360"/>
            <a:ext cx="4452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Richtig oder falsch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000" y="2057400"/>
            <a:ext cx="626148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chen ist die Hauptstadt von Bay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liegt an der Wol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Stadtzentrum hat seinen histor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kter bewa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chen zahlt 8 Millionen Einwohn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64360" y="223920"/>
            <a:ext cx="1584360" cy="13208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64360" y="1916280"/>
            <a:ext cx="635040" cy="6346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164360" y="4365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164360" y="566100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8101080" y="1916280"/>
            <a:ext cx="635040" cy="6346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7164360" y="3141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8101080" y="3141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8101080" y="4365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8101080" y="566100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8101080" y="314172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7164360" y="1916280"/>
            <a:ext cx="635040" cy="634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8101080" y="5661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7164360" y="4365720"/>
            <a:ext cx="6350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50400" y="1216080"/>
            <a:ext cx="5176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Bundesrepublik Deutschl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Haupt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 Fluss Sp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Wahr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Stadtw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Stadtwappen Munchens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 Mo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chen-Mo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Treff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2760" y="1844640"/>
            <a:ext cx="3083040" cy="3125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00360" y="404640"/>
            <a:ext cx="3673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Sprecht nach 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101080" y="3141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1916280"/>
            <a:ext cx="635040" cy="6346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324000" y="1768320"/>
            <a:ext cx="603072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Wahrzeichen der Stadt ist 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uenkir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Sehenswurdigkeiten der Altstadt kann man zu Fuss scha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Alte Peter und die Frauenkirche weisen Ihnen den Weg zum Brandenburger 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64360" y="223920"/>
            <a:ext cx="1584360" cy="13208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164360" y="4365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8101080" y="1916280"/>
            <a:ext cx="635040" cy="6346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7164360" y="3141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101080" y="4365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7164360" y="314172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7164360" y="1916280"/>
            <a:ext cx="635040" cy="63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8101080" y="43657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340000" y="549360"/>
            <a:ext cx="4452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Richtig oder falsch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2205000"/>
            <a:ext cx="9228240" cy="1172880"/>
            <a:chOff x="0" y="2205000"/>
            <a:chExt cx="9228240" cy="117288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2205000"/>
              <a:ext cx="9228240" cy="11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050920" y="2636640"/>
              <a:ext cx="5616720" cy="60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ehauptstadtderbrdheisstberli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2987640" y="404640"/>
            <a:ext cx="316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hlangen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3933720"/>
            <a:ext cx="9228240" cy="1173240"/>
            <a:chOff x="0" y="3933720"/>
            <a:chExt cx="9228240" cy="11732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0" y="3933720"/>
              <a:ext cx="922824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835280" y="4365720"/>
              <a:ext cx="5977080" cy="60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ehauptstadtvonbayernistmunche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987640" y="404640"/>
            <a:ext cx="316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Schlangen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3933720"/>
            <a:ext cx="9228240" cy="1173240"/>
            <a:chOff x="0" y="3933720"/>
            <a:chExt cx="9228240" cy="11732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0" y="3933720"/>
              <a:ext cx="922824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728720" y="4365720"/>
              <a:ext cx="6374160" cy="60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e Hauptstadt von Bayern ist Munche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0" y="2205000"/>
            <a:ext cx="9228240" cy="1173240"/>
            <a:chOff x="0" y="2205000"/>
            <a:chExt cx="9228240" cy="117324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0" y="2205000"/>
              <a:ext cx="922824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35280" y="2636640"/>
              <a:ext cx="5977080" cy="60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e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auptstadt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r BRD heisst Berli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llkommen in Berl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0434200">
            <a:off x="394920" y="1915920"/>
            <a:ext cx="2386080" cy="17827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1086600">
            <a:off x="6084720" y="1989000"/>
            <a:ext cx="2638440" cy="19717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2592360" cy="19843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 rot="973200">
            <a:off x="394920" y="4220640"/>
            <a:ext cx="2847960" cy="19735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 rot="20212200">
            <a:off x="5364000" y="4220640"/>
            <a:ext cx="2808360" cy="19465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635280" y="3716280"/>
            <a:ext cx="1411560" cy="28353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15817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ndfahrt durch Mun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3030480" cy="22734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24360" y="4149720"/>
            <a:ext cx="1503360" cy="21859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 rot="20776200">
            <a:off x="468360" y="1844280"/>
            <a:ext cx="2374920" cy="18558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 rot="20721000">
            <a:off x="684000" y="4653000"/>
            <a:ext cx="2952720" cy="14493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 rot="1030200">
            <a:off x="5651280" y="4869000"/>
            <a:ext cx="2933640" cy="1279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 rot="912000">
            <a:off x="6300720" y="1988640"/>
            <a:ext cx="2584440" cy="1959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27795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elen D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f Wiederseh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38292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4521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170600" cy="5256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71600" cy="26496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33760" y="3370320"/>
            <a:ext cx="4659840" cy="26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ie BRD liegt in Mitteleurop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e betsteht aus 16 Bundeslander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e grenzt an Polen, Tschechien…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ie Staatsfarben sind schwarz-rot-g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as Staatswappen ist Adl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333360"/>
            <a:ext cx="654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Bundesrepublik Deutschland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64560" y="4024440"/>
            <a:ext cx="88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260280"/>
            <a:ext cx="74167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Was weisst du uber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Deutschland?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2560" y="2133720"/>
            <a:ext cx="4174920" cy="475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utschl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ieg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Mitteleuro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e BR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esteh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us 16 Land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utschl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a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illi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nwoh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e Staatsfarben der BR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warz-rot-g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rlin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ie Hauptstadt der B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e grossten Stadte in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Berlin, Munchen, Hamburg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68840" y="2133720"/>
            <a:ext cx="4473720" cy="4483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Deutschlan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tteleurop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ieg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dass die BRD aus 16 La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esteh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37400" y="404640"/>
            <a:ext cx="1506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ist richti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denburger 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chstagsgeba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exander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loss Charlotten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liner Fernsehtu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uenki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Alte P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en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 Pinakoth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000" y="1700280"/>
            <a:ext cx="436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им.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нская 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 Святой М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анденбургские во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ание Рейхст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рая пинак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линская телеб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рковь Святого П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к Шарлот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9"/>
          <a:stretch/>
        </p:blipFill>
        <p:spPr>
          <a:xfrm>
            <a:off x="7380360" y="189000"/>
            <a:ext cx="1535040" cy="1438200"/>
          </a:xfrm>
          <a:prstGeom prst="rect">
            <a:avLst/>
          </a:prstGeom>
          <a:ln w="101520">
            <a:solidFill>
              <a:srgbClr val="00008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635280" y="1916280"/>
            <a:ext cx="935280" cy="1008000"/>
          </a:xfrm>
          <a:prstGeom prst="line">
            <a:avLst/>
          </a:prstGeom>
          <a:ln w="1144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977080" cy="4578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78800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2920" y="6093000"/>
            <a:ext cx="361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denburger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8640" cy="167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916360" y="404640"/>
            <a:ext cx="381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3078030" blurRad="0" rotWithShape="0">
                    <a:srgbClr val="000000"/>
                  </a:outerShdw>
                </a:effectLst>
                <a:latin typeface="Arial"/>
              </a:rPr>
              <a:t>BERL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307803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37440" cy="47530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39212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835280" y="404640"/>
            <a:ext cx="56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</a:rPr>
              <a:t>Reichstagsgebaud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3120" cy="151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556000" y="620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Arial"/>
              </a:rPr>
              <a:t>Pergamonmuseu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0" r="0" b="8689"/>
          <a:stretch/>
        </p:blipFill>
        <p:spPr>
          <a:xfrm>
            <a:off x="1258920" y="1989000"/>
            <a:ext cx="6624720" cy="4191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3440" cy="46054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15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411280" y="333360"/>
            <a:ext cx="475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</a:rPr>
              <a:t>Alexanderplat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0:52:13Z</dcterms:created>
  <dc:creator>User</dc:creator>
  <dc:description/>
  <dc:language>en-US</dc:language>
  <cp:lastModifiedBy>Пользователь</cp:lastModifiedBy>
  <dcterms:modified xsi:type="dcterms:W3CDTF">2013-03-27T19:59:34Z</dcterms:modified>
  <cp:revision>120</cp:revision>
  <dc:subject/>
  <dc:title>Слайд 1</dc:title>
</cp:coreProperties>
</file>