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237-5B56-4D56-88E7-B98FA213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459-F855-43E3-A2B8-167AE800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2D5-340A-40C7-A9EF-B139E133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120-952C-44DA-97D9-38483ABD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FF03-1F1F-4FFB-87E6-3EF834DE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4547-2143-4D13-B709-D2B240EC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9C9B-3CED-48AD-A06C-57CB6312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4DB6-FDEF-4BAB-BE4C-830B161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F983-9119-4293-8181-B336F029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D5FE-8F90-4946-9134-F98985E1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7864-B27F-4C70-9E40-FA65790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D85-6AC3-40E9-A896-F24F9CBF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FDB0-A53E-429E-B751-84BDF1BF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1FC5-26A4-4DC6-879D-56EEC38A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5F6E-0C5D-4E77-9275-64A419B3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8177-E68E-4284-8E73-15DAED55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6A24-682F-457D-AF16-9E0D9A3B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D39-4028-4BED-B033-1B368C74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CF2-40F5-4408-9328-40B6BEC6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665-91ED-4BCD-9E55-04A1E2E3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2A0-7982-4E51-A22D-8CD9B335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C6B-0D99-4D0F-A20E-3106F1F0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C44-F03C-4F90-BCEB-ED831AD8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D9E-3A6E-4874-83F3-4F0CE424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BF0-0095-42D2-BA14-C6B24E6BB4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DE22-A293-4146-B467-C465B49615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збука безопаснос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12"/>
          <p:cNvPicPr/>
          <p:nvPr/>
        </p:nvPicPr>
        <p:blipFill>
          <a:blip r:embed="rId1"/>
          <a:stretch/>
        </p:blipFill>
        <p:spPr>
          <a:xfrm>
            <a:off x="1116000" y="1125360"/>
            <a:ext cx="6769080" cy="5299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гад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имеет по три глаз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три с каждой сторо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хотя еще ни разу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смотрел он всеми сразу –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 глаза ему нуж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 висит тут с давних пор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на всех глядит в упор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же это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ветоф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svetofor"/>
          <p:cNvPicPr/>
          <p:nvPr/>
        </p:nvPicPr>
        <p:blipFill>
          <a:blip r:embed="rId1"/>
          <a:stretch/>
        </p:blipFill>
        <p:spPr>
          <a:xfrm>
            <a:off x="1547640" y="1197000"/>
            <a:ext cx="640908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909800" y="2988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11280" y="838440"/>
            <a:ext cx="381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горелся Красный Свет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значит – хода нет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етофор сигналит строго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Не ходите на дорогу!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12" descr="пдд23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755640" y="2997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137124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сли Желтый Свет горит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ождать он нам велит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пдд24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09880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765720"/>
            <a:ext cx="41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когда горит зелёны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сно всем, определенно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ветофор тот говорит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Переход для вас открыт!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9" descr="пдд25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67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eec94"/>
                </a:solidFill>
                <a:latin typeface="Times New Roman"/>
              </a:rPr>
              <a:t>Виктори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89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 называется полосатое орудие труда инспектора ГА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410920" y="2708280"/>
            <a:ext cx="403884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.Жез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.Дубинка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. Скипетр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. Указка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43280" y="3573360"/>
            <a:ext cx="40384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А.  Жез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7" descr="zhezl"/>
          <p:cNvPicPr/>
          <p:nvPr/>
        </p:nvPicPr>
        <p:blipFill>
          <a:blip r:embed="rId1"/>
          <a:stretch/>
        </p:blipFill>
        <p:spPr>
          <a:xfrm>
            <a:off x="2195640" y="620640"/>
            <a:ext cx="4032000" cy="3965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0643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 в широких народных кругах называется размеченный пешеходный переход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050560" y="3212640"/>
            <a:ext cx="525780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«Тельняшка».     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«Зебра».                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«Тигр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«Стоп-машин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56000" y="4508280"/>
            <a:ext cx="40384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«Зебра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6" descr="img1"/>
          <p:cNvPicPr/>
          <p:nvPr/>
        </p:nvPicPr>
        <p:blipFill>
          <a:blip r:embed="rId1"/>
          <a:stretch/>
        </p:blipFill>
        <p:spPr>
          <a:xfrm>
            <a:off x="2484360" y="260280"/>
            <a:ext cx="3930840" cy="410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2472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 называют малозаметные неровности на дороге для снижения скорости автомобил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у пешеходных переход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32000" y="3141360"/>
            <a:ext cx="64800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Полоса препятствий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Лежачий полицейский.         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Слепой постовой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Безработный инспектор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ель: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накомить учащихся с правилами дорожного движения, учить понимать сигналы светофора, жесты регулировщика, дорожные знаки, формировать навыки поведения на улиц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32000" y="188640"/>
            <a:ext cx="6912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 Лежачий полицейский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03"/>
          <p:cNvPicPr/>
          <p:nvPr/>
        </p:nvPicPr>
        <p:blipFill>
          <a:blip r:embed="rId1"/>
          <a:stretch/>
        </p:blipFill>
        <p:spPr>
          <a:xfrm>
            <a:off x="7740720" y="260280"/>
            <a:ext cx="1224000" cy="13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435719_w640_h640_lezhachiy_poliz"/>
          <p:cNvPicPr/>
          <p:nvPr/>
        </p:nvPicPr>
        <p:blipFill>
          <a:blip r:embed="rId2"/>
          <a:stretch/>
        </p:blipFill>
        <p:spPr>
          <a:xfrm>
            <a:off x="1763640" y="1700280"/>
            <a:ext cx="5691240" cy="410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35344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 называется площадка, на которой может остановиться пешеход при переходе дороги?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8172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Мыс спасени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 Островок  безопасности.          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Земля надежд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Поле чудес.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258920" y="-360"/>
            <a:ext cx="70581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 Островок безопасност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p18_017"/>
          <p:cNvPicPr/>
          <p:nvPr/>
        </p:nvPicPr>
        <p:blipFill>
          <a:blip r:embed="rId1"/>
          <a:stretch/>
        </p:blipFill>
        <p:spPr>
          <a:xfrm>
            <a:off x="1908000" y="1773360"/>
            <a:ext cx="5832720" cy="375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78580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раской какого цвета наносят горизонтальную дорожную разметку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58920" y="2349360"/>
            <a:ext cx="5041800" cy="31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Красного.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Зелёного. 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Белог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Чёрного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410920" y="-360"/>
            <a:ext cx="40388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. Белого.</a:t>
            </a:r>
            <a:br>
              <a:rPr sz="40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Или жёлтого.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stock-photo-asphalt-road-11688682"/>
          <p:cNvPicPr/>
          <p:nvPr/>
        </p:nvPicPr>
        <p:blipFill>
          <a:blip r:embed="rId1"/>
          <a:stretch/>
        </p:blipFill>
        <p:spPr>
          <a:xfrm>
            <a:off x="1835280" y="2060640"/>
            <a:ext cx="5689440" cy="39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13564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Где можно увидеть горизонтальную дорожную разметку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340000" y="1699920"/>
            <a:ext cx="4680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На опорах мостов.                   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На бордюрах. 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На опорах ограждени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На полотне дорог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 На полотне дороги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А на дорожные сооружения и элементы оборудования дорог наносится вертикальная разметка в виде сочетания чёрных и белых полос.)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Что обозначает постоянно мигающий жёлтый сигнал светофора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7640" y="1483920"/>
            <a:ext cx="597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Проезд запрещё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Неисправность светофо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Проезд через регулируемый перекрёсток или пешеходный пере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Наличие нерегулируемого перекрёстка или пешеходного перех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. Наличие нерегулируемого перекрёстка или пешеходного перехода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age1420874"/>
          <p:cNvPicPr/>
          <p:nvPr/>
        </p:nvPicPr>
        <p:blipFill>
          <a:blip r:embed="rId1"/>
          <a:stretch/>
        </p:blipFill>
        <p:spPr>
          <a:xfrm>
            <a:off x="3276720" y="2492280"/>
            <a:ext cx="2842920" cy="4073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 какого возраста разрешается ездить на велосипеде по проезжей час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47640" y="2276280"/>
            <a:ext cx="424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С12лет.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С 14 лет.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С 16 л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С 18 ле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ньше счёта и письма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исованья, чтенья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ем ребятам нужно знать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авила движени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9522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пдд1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07640" y="188640"/>
            <a:ext cx="40388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 С 14 л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01"/>
          <p:cNvPicPr/>
          <p:nvPr/>
        </p:nvPicPr>
        <p:blipFill>
          <a:blip r:embed="rId1"/>
          <a:stretch/>
        </p:blipFill>
        <p:spPr>
          <a:xfrm>
            <a:off x="1403280" y="155736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0920" y="-36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зрешается ли велосипедистам ездить по тротуарам?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79280" y="1628640"/>
            <a:ext cx="806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Разрешаетс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Разрешается с согласия пешеход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Разрешается при отсутствии пешеход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Запрещаетс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. Разреш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и отсутствии пешеход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1471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акое из этих транспортных средств следует обходить сперед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700360" y="24922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Автобус.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Трамва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Троллейбу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Такси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0920" y="2492280"/>
            <a:ext cx="4038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.Трамвай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6" descr="c3b8b920d4d279acff93564b1c3bc4e1"/>
          <p:cNvPicPr/>
          <p:nvPr/>
        </p:nvPicPr>
        <p:blipFill>
          <a:blip r:embed="rId1"/>
          <a:stretch/>
        </p:blipFill>
        <p:spPr>
          <a:xfrm>
            <a:off x="3851280" y="549360"/>
            <a:ext cx="5076720" cy="54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090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колько групп дорожных знаков существует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92000" y="1773360"/>
            <a:ext cx="5256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Три.                       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Пять.                      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Сем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 Десять.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. Сем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Предупреждающие, запрещающие, предписывающие, знаки приоритета, информационно-указательные, знаки сервиса, знаки дополнительной информации.)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6" descr="1271676086_znak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86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анспорт разный на дороге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гковой и грузово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сударственный и частны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ссажирский городско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09248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пдд17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проезжей части ездят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е по правой сторон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 Правило движень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нашей действует в стра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-366840" y="310788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2" descr="пдд18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юди по обочине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вигаться должн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анспорту навстреч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левой стороны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898440" y="3243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3" descr="пдд20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ход через дорог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ы с тобой всегда найдём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лосатая дорож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рисована на нём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7" descr="пдд1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ядом знак дорожный ставят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Пешеходный переход»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десь дорогу переходит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сь сознательный народ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пдд10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ли же под перекрестко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ть подземный переход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нему через дорогу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одит каждый пешех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9" descr="пдд21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1:28:19Z</dcterms:created>
  <dc:creator>Учитель</dc:creator>
  <dc:description/>
  <dc:language>en-US</dc:language>
  <cp:lastModifiedBy>User</cp:lastModifiedBy>
  <dcterms:modified xsi:type="dcterms:W3CDTF">2016-10-07T08:05:37Z</dcterms:modified>
  <cp:revision>39</cp:revision>
  <dc:subject/>
  <dc:title>Слайд 1</dc:title>
</cp:coreProperties>
</file>