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288588" cy="6858000"/>
  <p:notesSz cx="578485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57852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32868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1120" y="4343400"/>
            <a:ext cx="424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279600" y="0"/>
            <a:ext cx="250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279600" y="8686800"/>
            <a:ext cx="250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8686800"/>
            <a:ext cx="250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250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3192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1120" y="4343400"/>
            <a:ext cx="424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ошибки -оценка 4; 3 ошибки-3; 4 и боле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87404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72920" y="4128120"/>
            <a:ext cx="87404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5168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72920" y="412812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51680" y="412812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28160" y="197604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83400" y="197604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72920" y="412812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28160" y="412812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83400" y="4128120"/>
            <a:ext cx="28141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426528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1680" y="1976040"/>
            <a:ext cx="426528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72920" y="607680"/>
            <a:ext cx="874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1680" y="1976040"/>
            <a:ext cx="426528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2920" y="412812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426528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168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51680" y="412812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1680" y="1976040"/>
            <a:ext cx="426528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72920" y="4128120"/>
            <a:ext cx="87404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2996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5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71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57040" y="30960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57040" y="365616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57040" y="450072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57040" y="533412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57040" y="616752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57040" y="197640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57040" y="2822400"/>
            <a:ext cx="428760" cy="3812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257040" y="1143000"/>
            <a:ext cx="428760" cy="38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91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1522200">
            <a:off x="963720" y="1348920"/>
            <a:ext cx="874080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1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«Чем более мы размышляем, тем более убеждаемся, что ничего не знаем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1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Вольте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38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90600" y="331920"/>
            <a:ext cx="8850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рная система- большая группа горных хребтов, межгорных впадин и нагор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63680" y="333360"/>
            <a:ext cx="94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горье- обширное поднятие, состоящее из горных хребтов и массив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ция гор по высоте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73280" y="1976400"/>
          <a:ext cx="8740440" cy="4632480"/>
        </p:xfrm>
        <a:graphic>
          <a:graphicData uri="http://schemas.openxmlformats.org/drawingml/2006/table">
            <a:tbl>
              <a:tblPr/>
              <a:tblGrid>
                <a:gridCol w="2138040"/>
                <a:gridCol w="2376720"/>
                <a:gridCol w="4225680"/>
              </a:tblGrid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ы го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т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го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00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бины (Кольский п-в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ранга ( п-в Таймыр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00-2000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льские, Скандинавские горы, Аппалачи, Карпаты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2000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пы, Кавказ, Гималаи, Анды, Кордильеры, Алта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99648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сота го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82600" y="1341360"/>
            <a:ext cx="2400480" cy="10670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ие г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1000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б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772080" y="1268280"/>
            <a:ext cx="2743200" cy="12970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ие г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1000м до2000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7088040" y="1268280"/>
            <a:ext cx="2743200" cy="10810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ие г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2000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малаи, Кавк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791320" y="836640"/>
            <a:ext cx="21430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927680" y="105264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2190240" y="692280"/>
            <a:ext cx="188604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3703680" y="2852640"/>
            <a:ext cx="3743280" cy="3815640"/>
            <a:chOff x="3703680" y="2852640"/>
            <a:chExt cx="3743280" cy="3815640"/>
          </a:xfrm>
        </p:grpSpPr>
        <p:pic>
          <p:nvPicPr>
            <p:cNvPr id="101" name="Picture 10" descr="Уральские горы"/>
            <p:cNvPicPr/>
            <p:nvPr/>
          </p:nvPicPr>
          <p:blipFill>
            <a:blip r:embed="rId1"/>
            <a:stretch/>
          </p:blipFill>
          <p:spPr>
            <a:xfrm>
              <a:off x="3703680" y="2852640"/>
              <a:ext cx="3743280" cy="38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1"/>
            <p:cNvSpPr/>
            <p:nvPr/>
          </p:nvSpPr>
          <p:spPr>
            <a:xfrm>
              <a:off x="6547680" y="4483440"/>
              <a:ext cx="374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Ура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895320" y="2421000"/>
            <a:ext cx="2879280" cy="2737800"/>
            <a:chOff x="895320" y="2421000"/>
            <a:chExt cx="2879280" cy="2737800"/>
          </a:xfrm>
        </p:grpSpPr>
        <p:pic>
          <p:nvPicPr>
            <p:cNvPr id="104" name="Picture 16" descr="хибины"/>
            <p:cNvPicPr/>
            <p:nvPr/>
          </p:nvPicPr>
          <p:blipFill>
            <a:blip r:embed="rId2"/>
            <a:stretch/>
          </p:blipFill>
          <p:spPr>
            <a:xfrm>
              <a:off x="895320" y="2421000"/>
              <a:ext cx="287928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7"/>
            <p:cNvSpPr/>
            <p:nvPr/>
          </p:nvSpPr>
          <p:spPr>
            <a:xfrm>
              <a:off x="2378880" y="47905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</a:rPr>
                <a:t>Хибин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Rectangle 18"/>
          <p:cNvSpPr/>
          <p:nvPr/>
        </p:nvSpPr>
        <p:spPr>
          <a:xfrm>
            <a:off x="2701800" y="5022720"/>
            <a:ext cx="20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9"/>
          <p:cNvGrpSpPr/>
          <p:nvPr/>
        </p:nvGrpSpPr>
        <p:grpSpPr>
          <a:xfrm>
            <a:off x="6902280" y="2349360"/>
            <a:ext cx="3384360" cy="2879640"/>
            <a:chOff x="6902280" y="2349360"/>
            <a:chExt cx="3384360" cy="2879640"/>
          </a:xfrm>
        </p:grpSpPr>
        <p:pic>
          <p:nvPicPr>
            <p:cNvPr id="108" name="Picture 20" descr="Горы Кордильеры (сл"/>
            <p:cNvPicPr/>
            <p:nvPr/>
          </p:nvPicPr>
          <p:blipFill>
            <a:blip r:embed="rId3"/>
            <a:stretch/>
          </p:blipFill>
          <p:spPr>
            <a:xfrm>
              <a:off x="6902280" y="2349360"/>
              <a:ext cx="3223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21"/>
            <p:cNvSpPr/>
            <p:nvPr/>
          </p:nvSpPr>
          <p:spPr>
            <a:xfrm>
              <a:off x="7788600" y="4653000"/>
              <a:ext cx="24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Кордильер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описания географического положения гор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.Уральские горы, средние по высот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.Географическое положение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Находятся на материке Евразия в С-З част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ежду 69 - 52 с. ш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67 – 58 в.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696680" y="620280"/>
            <a:ext cx="8589960" cy="550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Горы протянулись с севера на ю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ассчитайте протяженность гор с севера на юг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9-52=17 (по меридиану 111 км в 1 градус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* 111= 1887 км протяжённость с юга на се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240" y="476280"/>
            <a:ext cx="8425080" cy="561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ассчитайте протяженность гор с запада на вост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7-58=9 ( на параллели 50 градусов длинна дуги составляет 71, 7 к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*71,7= 6453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28520" y="620280"/>
            <a:ext cx="925812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Относительно других объектов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Горы вытянуты в меридиональном направлении и северная часть Урала расположена за полярным круго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 западной части Урала находится Восточно-Европейская равнина, с востока Западно-Сибирская низменность, на севере омывает Карское море, на юге Казахский мелкосопочни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Урал –граница между Европой 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зие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4080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льеф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46200" y="1052640"/>
            <a:ext cx="8740800" cy="58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ысота относительная до 2000 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Г. Народная –высота 1895 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0028"/>
          <p:cNvPicPr/>
          <p:nvPr/>
        </p:nvPicPr>
        <p:blipFill>
          <a:blip r:embed="rId1"/>
          <a:stretch/>
        </p:blipFill>
        <p:spPr>
          <a:xfrm>
            <a:off x="1111320" y="2276640"/>
            <a:ext cx="8928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араграф 20, 52-56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просы после параграфа 1-3,5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нформационные сообщения «Изменение гор во времени», «Легенды Алтайских гор»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73280" y="6251400"/>
            <a:ext cx="21430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513240" y="6251400"/>
            <a:ext cx="32605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2920" y="0"/>
            <a:ext cx="874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ьте на вопросы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2920" y="764640"/>
            <a:ext cx="8740440" cy="609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90400" indent="-59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ют горные породы, изменившиеся под действием высокого давления, температуры и под влиянием других условий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Из чего состоят горные пород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родное тело, приблизительно однородное по химическому составу назы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Какая порода оказалась «лишней» в каждом спис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гравий,  базальт, известн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гранит, базальт, мра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кварц, слюда, полевой шпат, гра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чи предложение…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узнал (а)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научился ( научилась)…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не бы хотелось узнать…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ое, самое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амые высокие горы мира-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амые длинные горы мира-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амая высокая вершина мира-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амые длинные горы России-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2920" y="0"/>
            <a:ext cx="874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опроверк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2920" y="1483920"/>
            <a:ext cx="951372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.Метаморф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. Минерал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3. Минерал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4. а) базальт ( гравий и известняк - осадочный породы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мрамор (гранит,базальт -магматические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гранит (гранит –это горная порода, остальные в этом списке минералы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: «Основные формы рельефа. Горы суши»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2920" y="1976040"/>
            <a:ext cx="874044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улируйте определение, что называется «рельефо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мощи каких процессов формируется рельеф земной ко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2 формы рельефа земной ко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5" descr="238588[1]"/>
          <p:cNvPicPr/>
          <p:nvPr/>
        </p:nvPicPr>
        <p:blipFill>
          <a:blip r:embed="rId1"/>
          <a:stretch/>
        </p:blipFill>
        <p:spPr>
          <a:xfrm>
            <a:off x="966960" y="692280"/>
            <a:ext cx="4321080" cy="3168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0" name="Picture 25" descr="Зап"/>
          <p:cNvPicPr/>
          <p:nvPr/>
        </p:nvPicPr>
        <p:blipFill>
          <a:blip r:embed="rId2"/>
          <a:stretch/>
        </p:blipFill>
        <p:spPr>
          <a:xfrm>
            <a:off x="5678640" y="692280"/>
            <a:ext cx="4608360" cy="30621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1" name="Picture 21" descr="каменистая"/>
          <p:cNvPicPr/>
          <p:nvPr/>
        </p:nvPicPr>
        <p:blipFill>
          <a:blip r:embed="rId3"/>
          <a:stretch/>
        </p:blipFill>
        <p:spPr>
          <a:xfrm>
            <a:off x="3271680" y="3789360"/>
            <a:ext cx="4292640" cy="28670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2" name="Прямоугольник 7"/>
          <p:cNvSpPr/>
          <p:nvPr/>
        </p:nvSpPr>
        <p:spPr>
          <a:xfrm rot="1578000">
            <a:off x="781920" y="1709640"/>
            <a:ext cx="46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точно-Европейская или Рус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2571840" y="3013200"/>
            <a:ext cx="5143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3"/>
          <p:cNvSpPr/>
          <p:nvPr/>
        </p:nvSpPr>
        <p:spPr>
          <a:xfrm rot="1882200">
            <a:off x="6265800" y="1733400"/>
            <a:ext cx="39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падно-сибир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 rot="1849200">
            <a:off x="3449160" y="4710600"/>
            <a:ext cx="36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днесибирское плоскогор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2982960" y="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Виды равн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Алтай"/>
          <p:cNvPicPr/>
          <p:nvPr/>
        </p:nvPicPr>
        <p:blipFill>
          <a:blip r:embed="rId1"/>
          <a:stretch/>
        </p:blipFill>
        <p:spPr>
          <a:xfrm>
            <a:off x="895320" y="692280"/>
            <a:ext cx="4199040" cy="287964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pic>
        <p:nvPicPr>
          <p:cNvPr id="68" name="Picture 10" descr="кавказ1"/>
          <p:cNvPicPr/>
          <p:nvPr/>
        </p:nvPicPr>
        <p:blipFill>
          <a:blip r:embed="rId2"/>
          <a:stretch/>
        </p:blipFill>
        <p:spPr>
          <a:xfrm>
            <a:off x="5430960" y="765000"/>
            <a:ext cx="4537080" cy="2880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9" name="Picture 13" descr="у41"/>
          <p:cNvPicPr/>
          <p:nvPr/>
        </p:nvPicPr>
        <p:blipFill>
          <a:blip r:embed="rId3"/>
          <a:stretch/>
        </p:blipFill>
        <p:spPr>
          <a:xfrm>
            <a:off x="1660680" y="3976560"/>
            <a:ext cx="6237000" cy="2548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70" name="Прямоугольник 6"/>
          <p:cNvSpPr/>
          <p:nvPr/>
        </p:nvSpPr>
        <p:spPr>
          <a:xfrm rot="1703400">
            <a:off x="2477160" y="1859040"/>
            <a:ext cx="22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лта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7"/>
          <p:cNvSpPr/>
          <p:nvPr/>
        </p:nvSpPr>
        <p:spPr>
          <a:xfrm rot="1763400">
            <a:off x="6296400" y="17118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вказ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8"/>
          <p:cNvSpPr/>
          <p:nvPr/>
        </p:nvSpPr>
        <p:spPr>
          <a:xfrm rot="1978800">
            <a:off x="4033080" y="4880160"/>
            <a:ext cx="21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раль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4280040" y="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Го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2920" y="607680"/>
            <a:ext cx="8740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а – это выпуклая форма рельефа, возвышающаяся над окружающей местностью  на высоту более 200 метр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Карпаты"/>
          <p:cNvPicPr/>
          <p:nvPr/>
        </p:nvPicPr>
        <p:blipFill>
          <a:blip r:embed="rId1"/>
          <a:stretch/>
        </p:blipFill>
        <p:spPr>
          <a:xfrm>
            <a:off x="1182600" y="2133720"/>
            <a:ext cx="7920000" cy="43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WordArt 5"/>
          <p:cNvSpPr txBox="1"/>
          <p:nvPr/>
        </p:nvSpPr>
        <p:spPr>
          <a:xfrm>
            <a:off x="1974960" y="6093000"/>
            <a:ext cx="5905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ошва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 rot="20346600">
            <a:off x="1692000" y="3933720"/>
            <a:ext cx="1655640" cy="6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кло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WordArt 7"/>
          <p:cNvSpPr txBox="1"/>
          <p:nvPr/>
        </p:nvSpPr>
        <p:spPr>
          <a:xfrm rot="2708400">
            <a:off x="6401520" y="3747240"/>
            <a:ext cx="1727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кло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90960" y="292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Верш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"/>
          <p:cNvSpPr/>
          <p:nvPr/>
        </p:nvSpPr>
        <p:spPr>
          <a:xfrm>
            <a:off x="4856040" y="3573360"/>
            <a:ext cx="0" cy="302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19680" y="43848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ая выс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igant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476280"/>
            <a:ext cx="921708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ный хребет – горы расположенные в ряд одна за друго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 rot="21048600">
            <a:off x="1353960" y="3066840"/>
            <a:ext cx="6805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49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рный хребе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49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lick to see next picture"/>
          <p:cNvPicPr/>
          <p:nvPr/>
        </p:nvPicPr>
        <p:blipFill>
          <a:blip r:embed="rId1"/>
          <a:stretch/>
        </p:blipFill>
        <p:spPr>
          <a:xfrm>
            <a:off x="0" y="-71280"/>
            <a:ext cx="10287000" cy="6929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258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ная долина  - понижение между хребта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02:07:37Z</dcterms:created>
  <dc:creator>Данила</dc:creator>
  <dc:description/>
  <cp:keywords/>
  <dc:language>en-US</dc:language>
  <cp:lastModifiedBy>Acer</cp:lastModifiedBy>
  <dcterms:modified xsi:type="dcterms:W3CDTF">2013-10-14T13:52:02Z</dcterms:modified>
  <cp:revision>18</cp:revision>
  <dc:subject/>
  <dc:title>Ответьте на вопросы.</dc:title>
</cp:coreProperties>
</file>